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86200" y="0"/>
            <a:ext cx="296856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720" y="733320"/>
            <a:ext cx="487656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244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2960" y="4632120"/>
            <a:ext cx="502920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0" y="9261000"/>
            <a:ext cx="2968560" cy="48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86200" y="9261000"/>
            <a:ext cx="2968560" cy="48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E41B6A-5947-48AF-B097-84838517F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6200" y="9261000"/>
            <a:ext cx="2968560" cy="48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857450-EE67-4F31-9A99-44CEEF990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9261000"/>
            <a:ext cx="2968560" cy="48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0"/>
            <a:ext cx="296856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6200" y="0"/>
            <a:ext cx="296856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5400" y="733320"/>
            <a:ext cx="4871880" cy="3654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440" y="4629240"/>
            <a:ext cx="54831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D0BF5-6C69-4BA2-B458-233C26AF34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6160" y="872640"/>
            <a:ext cx="80722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749600"/>
            <a:ext cx="813420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074480"/>
            <a:ext cx="813420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0C3F-5661-4CDA-8DFE-27F5BA2D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6160" y="872640"/>
            <a:ext cx="80722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749600"/>
            <a:ext cx="396936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4920" y="1749600"/>
            <a:ext cx="396936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74480"/>
            <a:ext cx="396936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24920" y="4074480"/>
            <a:ext cx="396936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B8EB6-B968-44E6-8689-15EDE079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6160" y="872640"/>
            <a:ext cx="80722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749600"/>
            <a:ext cx="261900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07240" y="1749600"/>
            <a:ext cx="261900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7640" y="1749600"/>
            <a:ext cx="261900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074480"/>
            <a:ext cx="261900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07240" y="4074480"/>
            <a:ext cx="261900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7640" y="4074480"/>
            <a:ext cx="261900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D33F5-5D4B-4E90-BE20-0100BAC726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6160" y="872640"/>
            <a:ext cx="80722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749600"/>
            <a:ext cx="813420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91C63-2BB0-4BC5-94A6-58D56C98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6160" y="872640"/>
            <a:ext cx="80722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749600"/>
            <a:ext cx="8134200" cy="4451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57B7F-5CC9-4A5B-845E-0D442D2F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6160" y="872640"/>
            <a:ext cx="80722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749600"/>
            <a:ext cx="3969360" cy="4451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4920" y="1749600"/>
            <a:ext cx="3969360" cy="4451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D7EC0-C832-4FFB-A316-9CF0CD98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6160" y="872640"/>
            <a:ext cx="80722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130FE-C719-4EB4-A4C3-C4A1FE59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6160" y="872640"/>
            <a:ext cx="807228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3B98F-CF3E-4A20-9194-704B1DB7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6160" y="872640"/>
            <a:ext cx="80722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749600"/>
            <a:ext cx="396936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4920" y="1749600"/>
            <a:ext cx="3969360" cy="4451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074480"/>
            <a:ext cx="396936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2957-30EB-4E52-8E8E-08035BA2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6160" y="872640"/>
            <a:ext cx="80722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749600"/>
            <a:ext cx="3969360" cy="4451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4920" y="1749600"/>
            <a:ext cx="396936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24920" y="4074480"/>
            <a:ext cx="396936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7256-D4B5-4D84-817C-EA65EC79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6160" y="872640"/>
            <a:ext cx="80722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749600"/>
            <a:ext cx="396936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4920" y="1749600"/>
            <a:ext cx="396936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074480"/>
            <a:ext cx="8134200" cy="2122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76AD-A717-4F6B-86B5-35488200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6160" y="872640"/>
            <a:ext cx="80722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24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49600"/>
            <a:ext cx="8134200" cy="4451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marL="285840" indent="-285840">
              <a:spcBef>
                <a:spcPts val="1049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1049"/>
              </a:spcBef>
              <a:buClr>
                <a:srgbClr val="002244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190440">
              <a:spcBef>
                <a:spcPts val="1049"/>
              </a:spcBef>
              <a:buClr>
                <a:srgbClr val="002244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-152280">
              <a:spcBef>
                <a:spcPts val="1049"/>
              </a:spcBef>
              <a:buClr>
                <a:srgbClr val="002244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spcBef>
                <a:spcPts val="1049"/>
              </a:spcBef>
              <a:buClr>
                <a:srgbClr val="002244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10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10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632280"/>
            <a:ext cx="809640" cy="1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b-NO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ADD3-282B-427D-A72C-96EE7FBF097A}" type="datetime">
              <a:rPr b="1" lang="nb-NO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9520" y="667980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b-NO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676B-CC56-4A13-AC87-22D8100CB7D1}" type="slidenum">
              <a:rPr b="1" lang="nb-NO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540480" y="120600"/>
            <a:ext cx="2222640" cy="612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054080"/>
            <a:ext cx="9144000" cy="0"/>
          </a:xfrm>
          <a:prstGeom prst="line">
            <a:avLst/>
          </a:prstGeom>
          <a:ln w="28440">
            <a:solidFill>
              <a:srgbClr val="0022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64320"/>
            <a:ext cx="9144000" cy="0"/>
          </a:xfrm>
          <a:prstGeom prst="line">
            <a:avLst/>
          </a:prstGeom>
          <a:ln w="28440">
            <a:solidFill>
              <a:srgbClr val="0022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519120" y="57240"/>
            <a:ext cx="65088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9680" y="1945800"/>
            <a:ext cx="83790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2244"/>
                </a:solidFill>
                <a:latin typeface="Arial"/>
              </a:rPr>
              <a:t>Forretningsmodell ved St. Olavs Driftsservice</a:t>
            </a:r>
            <a:br>
              <a:rPr sz="3600"/>
            </a:b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- verdiopplevelsen fra et kundeståsted</a:t>
            </a:r>
            <a:br>
              <a:rPr sz="3200"/>
            </a:br>
            <a:r>
              <a:rPr b="1" lang="nb-NO" sz="2400" spc="-1" strike="noStrike">
                <a:solidFill>
                  <a:srgbClr val="002244"/>
                </a:solidFill>
                <a:latin typeface="Arial"/>
              </a:rPr>
              <a:t>Adv. Ole Birger Giæver</a:t>
            </a:r>
            <a:endParaRPr b="1" lang="en-US" sz="2400" spc="-1" strike="noStrike">
              <a:solidFill>
                <a:srgbClr val="002244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93800" y="5156280"/>
            <a:ext cx="7861320" cy="128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2B5D-F241-4FB8-9BE8-34F9AAFFAC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F8524-6DCE-4FB7-BCB3-E34F0FBA13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0560" y="1177920"/>
            <a:ext cx="80726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Brutto - nettoeffekten</a:t>
            </a: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1240" y="2112480"/>
            <a:ext cx="8134200" cy="445140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marL="285840" indent="-285840">
              <a:spcBef>
                <a:spcPts val="1225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Direkte besparelse (bruttoeffekten) må fratrekk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25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Kostnadene ved forretningsmodell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- definere hva man skal 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- bestille leverans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- etc. etc. PÅ BEKKE SIDER ( selger og kjøp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= nettoeffekten av forretningsmodell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B420D-67AA-4298-9D59-2F94367E52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39D7D-5098-4F55-BF1A-51D45B6C5F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24720" y="1125360"/>
            <a:ext cx="1548000" cy="23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4726080"/>
            <a:ext cx="388908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29080" y="530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2640" y="1484280"/>
            <a:ext cx="5111640" cy="5113440"/>
          </a:xfrm>
          <a:custGeom>
            <a:avLst/>
            <a:gdLst>
              <a:gd name="textAreaLeft" fmla="*/ 249480 w 5111640"/>
              <a:gd name="textAreaRight" fmla="*/ 4862160 w 5111640"/>
              <a:gd name="textAreaTop" fmla="*/ 249480 h 5113440"/>
              <a:gd name="textAreaBottom" fmla="*/ 4863960 h 511344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2997360"/>
            <a:ext cx="388908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3860640"/>
            <a:ext cx="388908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5661000"/>
            <a:ext cx="388908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89440" y="1628640"/>
            <a:ext cx="1150920" cy="100980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787640" y="1628640"/>
            <a:ext cx="1152360" cy="100836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40360" y="2565360"/>
            <a:ext cx="626760" cy="4103640"/>
          </a:xfrm>
          <a:custGeom>
            <a:avLst/>
            <a:gdLst>
              <a:gd name="textAreaLeft" fmla="*/ 30600 w 626760"/>
              <a:gd name="textAreaRight" fmla="*/ 596160 w 626760"/>
              <a:gd name="textAreaTop" fmla="*/ 30600 h 4103640"/>
              <a:gd name="textAreaBottom" fmla="*/ 4073040 h 4103640"/>
            </a:gdLst>
            <a:ahLst/>
            <a:rect l="textAreaLeft" t="textAreaTop" r="textAreaRight" b="textAreaBottom"/>
            <a:pathLst>
              <a:path w="21600" h="141355">
                <a:moveTo>
                  <a:pt x="3600" y="0"/>
                </a:moveTo>
                <a:arcTo wR="3600" hR="3600" stAng="16200000" swAng="-5400000"/>
                <a:lnTo>
                  <a:pt x="0" y="137755"/>
                </a:lnTo>
                <a:arcTo wR="3600" hR="3600" stAng="10800000" swAng="-5400000"/>
                <a:lnTo>
                  <a:pt x="18000" y="141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dfdf6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84720" y="2781360"/>
            <a:ext cx="287280" cy="37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Verdana"/>
              </a:rPr>
              <a:t>k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Verdana"/>
              </a:rPr>
              <a:t>inisk av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Verdana"/>
              </a:rPr>
              <a:t>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56000" y="5734080"/>
            <a:ext cx="158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50688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Verdana"/>
              </a:rPr>
              <a:t>Ren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2720" y="399096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Verdana"/>
              </a:rPr>
              <a:t>Steril-forsy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81440" y="14144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Verdana"/>
              </a:rPr>
              <a:t>Barneh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3440" y="58770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Verdana"/>
              </a:rPr>
              <a:t>Lønn og regnsk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3440" y="500076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Verdana"/>
              </a:rPr>
              <a:t>Medisinsk Teknik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3440" y="40640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Verdana"/>
              </a:rPr>
              <a:t>Transport &amp; Sikkerh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6720" y="3284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Verdana"/>
              </a:rPr>
              <a:t>Mat &amp; Ca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96360" y="1197000"/>
            <a:ext cx="1511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66"/>
                </a:solidFill>
                <a:latin typeface="Verdana"/>
              </a:rPr>
              <a:t>KUNDESENTER</a:t>
            </a:r>
            <a:br>
              <a:rPr sz="1200"/>
            </a:br>
            <a:r>
              <a:rPr b="0" lang="nb-NO" sz="1200" spc="-1" strike="noStrike">
                <a:solidFill>
                  <a:srgbClr val="000066"/>
                </a:solidFill>
                <a:latin typeface="Verdana"/>
              </a:rPr>
              <a:t>Elektronisk kommunikasjon  avdeling &lt;-&gt; service-enhet Internettba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940360" y="3141720"/>
            <a:ext cx="1873440" cy="43164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40720" y="292572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66"/>
                </a:solidFill>
                <a:latin typeface="Verdana"/>
              </a:rPr>
              <a:t>Enhetens data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4920" y="5878440"/>
            <a:ext cx="21744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616572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14920" y="4941720"/>
            <a:ext cx="217440" cy="648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522936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3120" y="4005360"/>
            <a:ext cx="21780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429264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4920" y="3141720"/>
            <a:ext cx="21744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3440" y="3429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861080" y="1773360"/>
            <a:ext cx="2736720" cy="143964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393800">
            <a:off x="4356360" y="2203920"/>
            <a:ext cx="21780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52480" y="2316600"/>
            <a:ext cx="5760" cy="328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97440" y="4941720"/>
            <a:ext cx="217440" cy="648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22560" y="522936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97440" y="5878440"/>
            <a:ext cx="21744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22560" y="616572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7440" y="4005360"/>
            <a:ext cx="21744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22560" y="429264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97440" y="3141720"/>
            <a:ext cx="21744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22560" y="342900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5792760"/>
            <a:ext cx="13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Verdana"/>
              </a:rPr>
              <a:t>Logistikk &amp; Forsy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861080" y="1844640"/>
            <a:ext cx="2808000" cy="230508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940360" y="3214800"/>
            <a:ext cx="1873440" cy="107928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33720" y="1719360"/>
            <a:ext cx="914400" cy="609480"/>
          </a:xfrm>
          <a:prstGeom prst="bevel">
            <a:avLst>
              <a:gd name="adj" fmla="val 125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3090960"/>
            <a:ext cx="914400" cy="685800"/>
          </a:xfrm>
          <a:prstGeom prst="bevel">
            <a:avLst>
              <a:gd name="adj" fmla="val 125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4005360"/>
            <a:ext cx="914400" cy="685800"/>
          </a:xfrm>
          <a:prstGeom prst="bevel">
            <a:avLst>
              <a:gd name="adj" fmla="val 125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4919760"/>
            <a:ext cx="914400" cy="685800"/>
          </a:xfrm>
          <a:prstGeom prst="bevel">
            <a:avLst>
              <a:gd name="adj" fmla="val 125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5834160"/>
            <a:ext cx="914400" cy="685800"/>
          </a:xfrm>
          <a:prstGeom prst="bevel">
            <a:avLst>
              <a:gd name="adj" fmla="val 125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19320" y="5834160"/>
            <a:ext cx="914400" cy="685800"/>
          </a:xfrm>
          <a:prstGeom prst="bevel">
            <a:avLst>
              <a:gd name="adj" fmla="val 125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9320" y="3929040"/>
            <a:ext cx="914400" cy="685800"/>
          </a:xfrm>
          <a:prstGeom prst="bevel">
            <a:avLst>
              <a:gd name="adj" fmla="val 125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19320" y="4843440"/>
            <a:ext cx="914400" cy="685800"/>
          </a:xfrm>
          <a:prstGeom prst="bevel">
            <a:avLst>
              <a:gd name="adj" fmla="val 125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19320" y="3090960"/>
            <a:ext cx="914400" cy="685800"/>
          </a:xfrm>
          <a:prstGeom prst="bevel">
            <a:avLst>
              <a:gd name="adj" fmla="val 125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9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2244"/>
                </a:solidFill>
                <a:latin typeface="Arial"/>
                <a:ea typeface="Arial"/>
              </a:rPr>
              <a:t>St. Olavs driftsservice - totalleverandø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3440" y="32130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Verdana"/>
              </a:rPr>
              <a:t>Allmenn</a:t>
            </a:r>
            <a:br>
              <a:rPr sz="1400"/>
            </a:br>
            <a:r>
              <a:rPr b="0" lang="nb-NO" sz="1400" spc="-1" strike="noStrike">
                <a:solidFill>
                  <a:srgbClr val="000000"/>
                </a:solidFill>
                <a:latin typeface="Verdana"/>
              </a:rPr>
              <a:t>teknik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2AD77-21C7-461F-A242-CDCCFA86B696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7D76B-6613-410F-BC16-8E9B05EC29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6160" y="1216080"/>
            <a:ext cx="80722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Påstand:</a:t>
            </a: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963360"/>
            <a:ext cx="8134200" cy="445140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marL="2858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Handel med tjenester fører til at kjøperen foretar en effektivisering av egen ressursbruk for å konsentrere omkring kjernevirksomhe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Resursbruken blir styrt mot aktivitet som styrker resultatet, innenfor helse: øker behandlingsvolum og kvalit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Handel gir bedre kostnadsforståel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Handel gir grunnlag for konkurranse mellom ulike interne og eksterne leverandør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133EC-C01A-4E54-989B-EFA732792E0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42C44-7FBA-4640-8A83-BEE2264672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6160" y="1216080"/>
            <a:ext cx="80722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Utfordring innenfor helse</a:t>
            </a: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749600"/>
            <a:ext cx="8134200" cy="4451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marL="2858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88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Kjøper av tjenestene har bare deler av sin økonomi finansiert av produksjonsbetinget inntek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88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Dermed slår på en måte alle former for motivasjon inn i forhold til kjøperens valg av type tjeneste, omfang ,kvalitet og pr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88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Det er for leverandøren vanskelig å sortere ut hva kjøperen ønsker, eller sagt med andre ord hvilke momenter som styrer kjøperens val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96132-096B-436A-9363-6E5CCAABDA5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66698-5448-4238-85A2-7A7A184122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6160" y="1044720"/>
            <a:ext cx="80722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Sett ovenfra</a:t>
            </a: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749600"/>
            <a:ext cx="8134200" cy="4451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Interne leverandører skal i stor grad evne å sitte på begge sider av bord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Dette betinger lojalitet i forhold til systemet/helseforeta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Interne leverandører skal overvåke sitt egent kostnadsnivå og kvalitet i forhold til eksterne leverandør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Interne leverandører skal fordi de er en del av systemet gi en mer effektiv logistikk ( flyt av tjenester) for foreta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Interne leverandører skal som en del av systemet rapportere volum, kvalitet, kjøperens, adferd og nøkkeltallanalyser både til kjøper og opp i system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68336-F557-475C-838F-4CA64A4309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60470-9A02-4B1B-AA4D-29D7A4EE40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58760" y="11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2244"/>
                </a:solidFill>
                <a:latin typeface="Arial"/>
              </a:rPr>
              <a:t>Strategi for St. Olavs driftsservice</a:t>
            </a:r>
            <a:endParaRPr b="1" lang="en-US" sz="24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35000" y="1825560"/>
            <a:ext cx="6913440" cy="453888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2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St. Olavs driftsservice skal organiseres som et konsern med selvstendige driftsenheter som styres etter må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2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St. Olavs driftsservice skal levere tjenester til privat og offentlig helse i Helse Midt-Norge RH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2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St. Olavs driftsservice skal være totalleverandør av ikke-medisinske støttetjene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2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St. Olavs driftsservice skal være de kliniske avdelingers innkjøps-, logistikk-, og serviceenh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2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St. Olavs driftsservice skal være en kompetansebedrift med fokus på </a:t>
            </a:r>
            <a:r>
              <a:rPr b="1" lang="nb-NO" sz="1600" spc="-1" strike="noStrike" u="sng">
                <a:solidFill>
                  <a:srgbClr val="000000"/>
                </a:solidFill>
                <a:uFillTx/>
                <a:latin typeface="Arial"/>
              </a:rPr>
              <a:t>helsekompetan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 u="sng">
                <a:solidFill>
                  <a:srgbClr val="000000"/>
                </a:solidFill>
                <a:uFillTx/>
                <a:latin typeface="Arial"/>
              </a:rPr>
              <a:t>( formulering som grunnlag for drøfti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E15F-167F-406B-8202-B992F69C16E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4EE21-27D7-4C73-ADF1-C065156FF1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6160" y="1030320"/>
            <a:ext cx="80722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Hva bør man ikke gjøre</a:t>
            </a: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749600"/>
            <a:ext cx="8134200" cy="4451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marL="2858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Drive virksomhet utenfor helseforetak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Bygge opp organisasjon og kultur som etablerer noen form for ”stat i staten” innenfor foreta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Levere produkter eller tjenester som bare i liten grad er kunnskapsbasert/spesialisert for helse. Dette bør man overlate til underleverandør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( innspill i forbindelse med strategisk drøfting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D890-7BCD-402B-8C24-A25A31620D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E2283-2045-4F21-9F1E-F973260211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90800" y="3645000"/>
            <a:ext cx="1079640" cy="143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59160" y="2925720"/>
            <a:ext cx="1079280" cy="1440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9640" y="1339560"/>
            <a:ext cx="714060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2244"/>
                </a:solidFill>
                <a:latin typeface="Arial"/>
              </a:rPr>
              <a:t>3 Bøker fra St. Olavs Driftsservice </a:t>
            </a:r>
            <a:endParaRPr b="1" lang="en-US" sz="18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99000" y="2792520"/>
            <a:ext cx="369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41920" y="2347920"/>
            <a:ext cx="369900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00"/>
                </a:solidFill>
                <a:latin typeface="Times New Roman"/>
              </a:rPr>
              <a:t>Leverandør-/bestilleravta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00"/>
                </a:solidFill>
                <a:latin typeface="Times New Roman"/>
              </a:rPr>
              <a:t>Kalkyle og kalkylegrunn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00"/>
                </a:solidFill>
                <a:latin typeface="Times New Roman"/>
              </a:rPr>
              <a:t>Salgsbudsj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0680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38440" y="3284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27160" y="2060640"/>
            <a:ext cx="1079640" cy="143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70440" y="4076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E46C-43C9-4DD8-848F-4BA5D304645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7672D-5DA7-4B0C-AA1F-AE7D1AE6DE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5760" y="1290600"/>
            <a:ext cx="77724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2244"/>
                </a:solidFill>
                <a:latin typeface="Arial"/>
              </a:rPr>
              <a:t>Resultater</a:t>
            </a:r>
            <a:endParaRPr b="1" lang="en-US" sz="18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06640" y="1862280"/>
            <a:ext cx="720072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Helvetica Condensed"/>
              </a:rPr>
              <a:t>•</a:t>
            </a:r>
            <a:r>
              <a:rPr b="0" lang="nb-NO" sz="1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Helvetica Condensed"/>
              </a:rPr>
              <a:t>Bedre kontroll på tid og oppgaver som utføres - fått kontroll på utført arbeid i enheter der det ikke tidligere var slik kontr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Helvetica Condensed"/>
              </a:rPr>
              <a:t>•</a:t>
            </a:r>
            <a:r>
              <a:rPr b="0" lang="nb-NO" sz="1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Helvetica Condensed"/>
              </a:rPr>
              <a:t>Kontroll på pris, kostnader, salg og inntek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Helvetica Condensed"/>
              </a:rPr>
              <a:t>•</a:t>
            </a:r>
            <a:r>
              <a:rPr b="0" lang="nb-NO" sz="1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Helvetica Condensed"/>
              </a:rPr>
              <a:t>Startet: Mere kostnadsbevissthet . . Problem nå som må revitaliseres både hos ledere, medarbeidere og ku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Helvetica Condensed"/>
              </a:rPr>
              <a:t>Etablert sentrale mekanismer for å bli en totaleleverandø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Helvetica Condensed"/>
              </a:rPr>
              <a:t>Avdekket potensiale i få bedre kontroll på lager og distribusjon av forbruksvarer (ta bort lokale lager/kontroll med underleverandør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Helvetica Condensed"/>
              </a:rPr>
              <a:t>Enheter som leverer dårlig resultat får fokus – arbeide med korrigeri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Helvetica Condensed"/>
              </a:rPr>
              <a:t>Større krav til ledere og deres kundeoppføl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5A51-A2E1-4A6F-84A1-791938C0461B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FE0D5-DAA5-4D8E-BA12-D600105E84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1840" y="1058400"/>
            <a:ext cx="80722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Hva var hensikten:</a:t>
            </a: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1240" y="934560"/>
            <a:ext cx="8134200" cy="445140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marL="2858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Overordnet har sykehuset sett på ulike modeller for styring av drift og økonom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Har ”i all tid” slitt med økonomisk knapphet og budsjettoverskridel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Hva styrer forbruket av tjene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Tilgjengelighet/ønsket om å lette egen situasjon/kamp om ressurser/status/egen produksjonsøk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0D34-D748-4ADC-9C5B-0D0DBFCFE0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27D1E-91EA-4059-BA62-D73F013FC6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224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 </a:t>
            </a: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Historisk forankring</a:t>
            </a:r>
            <a:br>
              <a:rPr sz="3200"/>
            </a:b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- Prosessen</a:t>
            </a:r>
            <a:br>
              <a:rPr sz="3200"/>
            </a:br>
            <a:br>
              <a:rPr sz="3200"/>
            </a:b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- Verdiopplevelse fra et kundeståsted</a:t>
            </a:r>
            <a:br>
              <a:rPr sz="3200"/>
            </a:b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43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Problemstilling og utford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F6B25-61EE-492C-8F53-14651A8420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DA95A-F694-40E8-9223-02280D8497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6160" y="1073160"/>
            <a:ext cx="80722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Hva har kunden oppnådd</a:t>
            </a: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749600"/>
            <a:ext cx="8134200" cy="4451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marL="2858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Kjøper har fått opplysning om reell kostn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Det er en klarere rolledeling mellom leverandør og bestiller/kjøper – den som utløser kostnade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Men…… det er en god del forutsetninger for at systemet skal virke optimalt for både leverandør og bestiller som det fortsatt gjenstår å avklare nærm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7406A-2FBA-4E65-BD3A-09ED757BC18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2831C-CC82-4109-B240-A3AA7A2C85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6160" y="1101240"/>
            <a:ext cx="80722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Forutsetning</a:t>
            </a: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806040"/>
            <a:ext cx="8134200" cy="445140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marL="2858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I et ”privat” næringsliv uten noen form for offentlig rammefinansiering vil mekanismene hele tiden ( i alle fall i teorien) arbeide for 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Optimalisere positivt økonomisk result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Redusere egen ressursbruk til et minimum uten at dette går på bekostning av result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Effektivisere innkjøp for å redusere kostnad – etablere kost/ny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C623-A77C-4085-B511-FA33B7CAA6D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C6255-B067-4C19-A13E-CDA409F381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6160" y="1073160"/>
            <a:ext cx="80722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Hva gjør leverandør</a:t>
            </a: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749600"/>
            <a:ext cx="8134200" cy="4451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marL="2858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Man må basere seg på en ”standardisert” kjøp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Leverandøren må ta en mer aktiv rolle enn i det ”privat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Hvordan bør kjøperen age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Vi må ha en ytelse som i kvalitet og omfang gjør det mulig for oss å opprettholde det fastsatte aktivitetsnivå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Ytelsens kostnad må ikke overstige det som vi budsjetterer som kostnad innenfor dette områd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Leverandøren må ha en etisk standard som er ”hels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0A57D-3C0A-41D7-9D74-1485A46EC29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6CA46-2317-40BB-AAF7-A9AB4B9F4E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6160" y="1044720"/>
            <a:ext cx="80722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Effektivitetsmåling</a:t>
            </a: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749600"/>
            <a:ext cx="8134200" cy="4451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Interne leverandører skal måle kostnad pr. levert tjenesteenhet (minutt,areal,mengde) sammenholdt med definert kvalit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Dette skal være transpar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Hensikten er å skape trygghet og forutberegneligh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12FE-562C-4425-AD2D-79093BDE40B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444B4-5815-4A17-9EDA-09F7596C7F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5760" y="112536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66"/>
                </a:solidFill>
                <a:latin typeface="Arial"/>
              </a:rPr>
              <a:t>Premisser for prosjektet – St. Olavs driftsservice som egen forretningsenhet gitt av RHF `et i 2003</a:t>
            </a:r>
            <a:endParaRPr b="1" lang="en-US" sz="18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94000" y="1917360"/>
            <a:ext cx="6984720" cy="39164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Autofit/>
          </a:bodyPr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0000"/>
                </a:solidFill>
                <a:uFillTx/>
                <a:latin typeface="Arial"/>
              </a:rPr>
              <a:t>St. Olavs driftsservice skal væ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Konkurransedyktige på et eksternt mark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Levere varer og tjenester på forretningsmessig grunnlag til kjernevirksomheten ved St. Olavs hospital og til andre aktuelle kund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kape sin inntekt gjennom salg av etterspurte leveran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tyres på nettoresultater, og for øvrig styres som om de var egne selskap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76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Priser som skal basere seg på reelle kalkyler, inklusive kapitalkostn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0DAD-67FC-4A61-B2F3-A7F3E65EB0C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A1782-59BC-4839-B407-D8B7218146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07880" y="1010880"/>
            <a:ext cx="8678880" cy="512748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 fontScale="92000"/>
          </a:bodyPr>
          <a:p>
            <a:pPr marL="26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Kartlegging og forbedring av arbeidsprosesser i alle enheter </a:t>
            </a:r>
            <a:br>
              <a:rPr sz="1600"/>
            </a:b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Etablering av kvalitetssystem ved 8 avdelinger – alle sertifisert etter ISO 9001: 2000 Krav til kvalitetssystemer</a:t>
            </a:r>
            <a:br>
              <a:rPr sz="1600"/>
            </a:b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Etablering av leverandør og bestilleravta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0920" indent="-262800">
              <a:lnSpc>
                <a:spcPct val="80000"/>
              </a:lnSpc>
              <a:spcBef>
                <a:spcPts val="612"/>
              </a:spcBef>
              <a:buClr>
                <a:srgbClr val="002244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Kalkulering av pris alle tjenester basert på reelle produksjonskostnad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920" indent="-262800">
              <a:lnSpc>
                <a:spcPct val="80000"/>
              </a:lnSpc>
              <a:spcBef>
                <a:spcPts val="612"/>
              </a:spcBef>
              <a:buClr>
                <a:srgbClr val="002244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Etablering av salgsbudsjett fra hver avdeling til alle kundeavdelin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920" indent="-262800">
              <a:lnSpc>
                <a:spcPct val="80000"/>
              </a:lnSpc>
              <a:spcBef>
                <a:spcPts val="612"/>
              </a:spcBef>
              <a:buClr>
                <a:srgbClr val="002244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Etablering av avregnings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92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Etablering av eget merke og egen web-portal se: </a:t>
            </a:r>
            <a:r>
              <a:rPr b="1" lang="nb-NO" sz="1600" spc="-1" strike="noStrike">
                <a:solidFill>
                  <a:srgbClr val="3333cc"/>
                </a:solidFill>
                <a:latin typeface="Arial"/>
              </a:rPr>
              <a:t>www.driftsservice.no</a:t>
            </a:r>
            <a:br>
              <a:rPr sz="1600"/>
            </a:br>
            <a:r>
              <a:rPr b="1" lang="nb-NO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Etablering av ett felles </a:t>
            </a:r>
            <a:r>
              <a:rPr b="1" lang="nb-NO" sz="1600" spc="-1" strike="noStrike">
                <a:solidFill>
                  <a:srgbClr val="3333cc"/>
                </a:solidFill>
                <a:latin typeface="Arial"/>
              </a:rPr>
              <a:t>kundesenter</a:t>
            </a: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 for St. Olavs driftsservice</a:t>
            </a:r>
            <a:br>
              <a:rPr sz="1600"/>
            </a:b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og felles system for arbeidsordre</a:t>
            </a:r>
            <a:br>
              <a:rPr sz="1600"/>
            </a:b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2-årig effektiviseringsprosjekt med en </a:t>
            </a:r>
            <a:r>
              <a:rPr b="1" lang="nb-NO" sz="1600" spc="-1" strike="noStrike">
                <a:solidFill>
                  <a:srgbClr val="3333cc"/>
                </a:solidFill>
                <a:latin typeface="Arial"/>
              </a:rPr>
              <a:t>effekt på 48 mnok</a:t>
            </a: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 (2004 og 200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0920" indent="-262800">
              <a:lnSpc>
                <a:spcPct val="80000"/>
              </a:lnSpc>
              <a:spcBef>
                <a:spcPts val="612"/>
              </a:spcBef>
              <a:buClr>
                <a:srgbClr val="002244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Arial"/>
              </a:rPr>
              <a:t>Utarbeidelse av opplegg for oppfølging og månedlig økonomisk kontroll i forhold til resultatkrav</a:t>
            </a:r>
            <a:br>
              <a:rPr sz="1400"/>
            </a:br>
            <a:r>
              <a:rPr b="1" lang="nb-NO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Innføring av IKT –system for kjøkken – direkte rekvirering av mat fra avdelingene (Nutshell)</a:t>
            </a:r>
            <a:br>
              <a:rPr sz="1600"/>
            </a:b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Avklaring av strategier og intern informasj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234800" y="630000"/>
            <a:ext cx="807228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2244"/>
                </a:solidFill>
                <a:latin typeface="Arial"/>
              </a:rPr>
              <a:t>Utviklingsprosjekt ved St. Olavs driftsservice 2000-2005</a:t>
            </a:r>
            <a:endParaRPr b="1" lang="en-US" sz="18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7B6D-BCCA-4B6E-905D-B1EAF0DFEBB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F25D3-F93F-464C-A405-7A728DC300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3520" y="1244160"/>
            <a:ext cx="77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3366"/>
                </a:solidFill>
                <a:latin typeface="Arial"/>
              </a:rPr>
              <a:t>Hovedmål for arbeidet med avtaler ved St. Olavs driftsservice</a:t>
            </a:r>
            <a:endParaRPr b="1" lang="en-US" sz="20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39680" y="1989000"/>
            <a:ext cx="7345440" cy="373392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Det overordnede målet er å etablere alle nødvendige leverandøravtaler ved alle avdelinger i St. Olavs driftsservi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Avtalene skal regulere forholdet til kunden/bestiller tilfredsstille leverandørenhetens behov for et</a:t>
            </a:r>
            <a:br>
              <a:rPr sz="1800"/>
            </a:b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forretningsmessig og juridisk grunnlag for sin virksomh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Det ligger i dette at avtalene også blir en sentral del av den enkelte avdelings virksomhetsplan/forretnings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Som et resultat av prosessen skal virksomheten også bevege seg fra en forvaltningskultur mot en forretningskult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1119-FE3C-40C3-8893-611461E2E57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8A6F5-7C7E-4B57-8959-33F21D88C7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6160" y="1173240"/>
            <a:ext cx="80722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Hva har man oppnådd</a:t>
            </a: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749600"/>
            <a:ext cx="8134200" cy="445104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marL="2858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St. Olavs driftsservice h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fått definert sine tjenester i type, kvalitet og innho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- fått kostnadskalkulert hver enkelt tjeneste slik defin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- fått forståelse for hvordan kostnaden er etablert, altså hva   som øker prisen på tjenesten og hva som reduserer 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- fått bedre forståelse for egne effektivitet som leverandø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F717-3833-41EC-87D8-3A8B712823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36277-B874-4F44-B080-19BF57B600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Hvilken ”dimensjon” mangler?</a:t>
            </a:r>
            <a:br>
              <a:rPr sz="3200"/>
            </a:br>
            <a:br>
              <a:rPr sz="3200"/>
            </a:b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Kundeperspektivet…………….</a:t>
            </a: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For å etablere ”handel” må det være en tilbyder og en etterspørrer. Det må være en viss felles oppfatning av kvalitet og verdi. Etterspørreren må </a:t>
            </a: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ønske </a:t>
            </a: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å erver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76B7C-505B-4492-BC0E-6AD10E2BC5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0BDFB-7EBC-40C1-9426-8B9E8E68AB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6160" y="1206000"/>
            <a:ext cx="80722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Verdiopplevelse på St. Olavs hospital:</a:t>
            </a:r>
            <a:br>
              <a:rPr sz="3200"/>
            </a:br>
            <a:br>
              <a:rPr sz="3200"/>
            </a:br>
            <a:r>
              <a:rPr b="1" lang="nb-NO" sz="2000" spc="-1" strike="noStrike">
                <a:solidFill>
                  <a:srgbClr val="002244"/>
                </a:solidFill>
                <a:latin typeface="Arial"/>
              </a:rPr>
              <a:t>Husk: Det har vært renhold helt fra etableringen av sykehuset.</a:t>
            </a:r>
            <a:br>
              <a:rPr sz="2000"/>
            </a:br>
            <a:br>
              <a:rPr sz="2000"/>
            </a:br>
            <a:r>
              <a:rPr b="1" lang="nb-NO" sz="2000" spc="-1" strike="noStrike">
                <a:solidFill>
                  <a:srgbClr val="002244"/>
                </a:solidFill>
                <a:latin typeface="Arial"/>
              </a:rPr>
              <a:t>Hva er det egentlig forretningsmodellen skal bidra til for kunden:</a:t>
            </a:r>
            <a:br>
              <a:rPr sz="2000"/>
            </a:br>
            <a:br>
              <a:rPr sz="2000"/>
            </a:br>
            <a:r>
              <a:rPr b="1" lang="nb-NO" sz="2000" spc="-1" strike="noStrike">
                <a:solidFill>
                  <a:srgbClr val="002244"/>
                </a:solidFill>
                <a:latin typeface="Arial"/>
              </a:rPr>
              <a:t>- avdelingen må bestille renhold</a:t>
            </a:r>
            <a:br>
              <a:rPr sz="2000"/>
            </a:br>
            <a:r>
              <a:rPr b="1" lang="nb-NO" sz="2000" spc="-1" strike="noStrike">
                <a:solidFill>
                  <a:srgbClr val="002244"/>
                </a:solidFill>
                <a:latin typeface="Arial"/>
              </a:rPr>
              <a:t>- må definere hva renhold er</a:t>
            </a:r>
            <a:br>
              <a:rPr sz="2000"/>
            </a:br>
            <a:r>
              <a:rPr b="1" lang="nb-NO" sz="2000" spc="-1" strike="noStrike">
                <a:solidFill>
                  <a:srgbClr val="002244"/>
                </a:solidFill>
                <a:latin typeface="Arial"/>
              </a:rPr>
              <a:t>- avdelingen mottar en faktura</a:t>
            </a:r>
            <a:br>
              <a:rPr sz="2000"/>
            </a:br>
            <a:br>
              <a:rPr sz="2000"/>
            </a:br>
            <a:r>
              <a:rPr b="1" lang="nb-NO" sz="2000" spc="-1" strike="noStrike">
                <a:solidFill>
                  <a:srgbClr val="002244"/>
                </a:solidFill>
                <a:latin typeface="Arial"/>
              </a:rPr>
              <a:t>- kan velge mer eller mindre renhold</a:t>
            </a:r>
            <a:br>
              <a:rPr sz="2000"/>
            </a:br>
            <a:r>
              <a:rPr b="1" lang="nb-NO" sz="2000" spc="-1" strike="noStrike">
                <a:solidFill>
                  <a:srgbClr val="002244"/>
                </a:solidFill>
                <a:latin typeface="Arial"/>
              </a:rPr>
              <a:t>- kan velge i forhold til kvalitet-utførelse</a:t>
            </a:r>
            <a:br>
              <a:rPr sz="2000"/>
            </a:br>
            <a:br>
              <a:rPr sz="2000"/>
            </a:br>
            <a:r>
              <a:rPr b="1" lang="nb-NO" sz="2000" spc="-1" strike="noStrike">
                <a:solidFill>
                  <a:srgbClr val="002244"/>
                </a:solidFill>
                <a:latin typeface="Arial"/>
              </a:rPr>
              <a:t>- kan la avvik få kontraktsmessige konsekvenser - prisreduksjon</a:t>
            </a:r>
            <a:endParaRPr b="1" lang="en-US" sz="20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749A5-41DF-4615-9CC8-90D68C8F1AD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55365-2134-40A9-A7B1-26316A73EF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1193400"/>
            <a:ext cx="807264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2244"/>
                </a:solidFill>
                <a:latin typeface="Arial"/>
              </a:rPr>
              <a:t>Verdiopplevelsen</a:t>
            </a:r>
            <a:r>
              <a:rPr b="1" lang="nb-NO" sz="3200" spc="-1" strike="noStrike">
                <a:solidFill>
                  <a:srgbClr val="002244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2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7160" y="2141280"/>
            <a:ext cx="8134200" cy="4451400"/>
          </a:xfrm>
          <a:prstGeom prst="rect">
            <a:avLst/>
          </a:prstGeom>
          <a:noFill/>
          <a:ln w="0">
            <a:noFill/>
          </a:ln>
        </p:spPr>
        <p:txBody>
          <a:bodyPr lIns="162000" rIns="90000" tIns="46800" bIns="46800" anchor="t">
            <a:normAutofit/>
          </a:bodyPr>
          <a:p>
            <a:pPr marL="285840" indent="-285840">
              <a:spcBef>
                <a:spcPts val="1225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Må gi en fordel i forhold til noe an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25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Enten ved at ”handel” gir bedre kvalitet som gjør det mulig for kunden å levere bedre produkt vid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25"/>
              </a:spcBef>
              <a:buClr>
                <a:srgbClr val="002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Eller ved at ”handel” reduserer kostnadene (for samme kvalitet) og frigjør ressurser til andre formå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778B-C31C-40B8-8C80-9C8EF42495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FB2D3-BFB7-42B8-B26C-E6188FCCCA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4:29:30Z</dcterms:created>
  <dc:creator>Yngvar Andresen</dc:creator>
  <dc:description>© Prosessutvikling</dc:description>
  <dc:language>en-US</dc:language>
  <cp:lastModifiedBy>Ole Birger Giæver</cp:lastModifiedBy>
  <dcterms:modified xsi:type="dcterms:W3CDTF">2007-10-19T05:56:15Z</dcterms:modified>
  <cp:revision>146</cp:revision>
  <dc:subject/>
  <dc:title>Presentasjon Rommen 09060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79890948</vt:r8>
  </property>
  <property fmtid="{D5CDD505-2E9C-101B-9397-08002B2CF9AE}" pid="3" name="_AuthorEmail">
    <vt:lpwstr>Tore.Damlie@stolav.no</vt:lpwstr>
  </property>
  <property fmtid="{D5CDD505-2E9C-101B-9397-08002B2CF9AE}" pid="4" name="_AuthorEmailDisplayName">
    <vt:lpwstr>Damlie, Tore</vt:lpwstr>
  </property>
  <property fmtid="{D5CDD505-2E9C-101B-9397-08002B2CF9AE}" pid="5" name="_EmailSubject">
    <vt:lpwstr>Foredrag FSTL</vt:lpwstr>
  </property>
  <property fmtid="{D5CDD505-2E9C-101B-9397-08002B2CF9AE}" pid="6" name="_NewReviewCycle">
    <vt:lpwstr/>
  </property>
</Properties>
</file>