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39B-1D96-4665-A7B7-79942D10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35A-2832-47E8-AC2C-9BC7D37C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5E1-ED9B-42F1-85C7-56E50135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F4D-CC91-4EC9-89A4-95E48C49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790-C9C7-4E91-9987-C24612B0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72E-E3CF-4DB2-B008-B1156CC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8EB-CC80-4CFD-9DF8-074D94DD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5D4-229D-420F-8494-3F49F50D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470-3D1F-4BEB-8170-56F6D6D0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FB6-848E-4E57-ADAB-7FBF406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0A9-C724-4B79-B3BC-9758F6D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025-98E6-46C8-B57D-4BEB764A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0317-3353-4750-8CFB-FD91E68D6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133360"/>
            <a:ext cx="784692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30-12.4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L sin rolle overfor media og folkevalgte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å sette fokus på å ta vare på samfunnets verdi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/Leder Vidar Smalå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 sier vedtektene vå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1.  Rettslig still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 for Sykehusenes Tekniske Ledels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T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er et frittstående og selvstendig forum stiftet 1. juni 1986. Stifterne var personer ansatt som øverste tekniske ledere/sjefer ved norske sykeh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 vid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Para 2. Formå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FSTL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er et forum for behandling av teknisk administrative og økonomiske utfordringer knyttet til Facilities Management, ledelse, teknikk og sykehusarkitektur.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ormålet er å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remme samarbeid og informasjonsutveksling innen fagområdene Facilities Management, arkitektur, ledelse og teknikk innen norsk helseve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yrke de faglige kvalifikasjoner for de som arbeider innen fagområd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remme en samordning av rutiner og organisasjonsmessige forhold som berører fagområd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e overfor media og folkeval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vem kan styret i FSTL uttale seg på vegne a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forum sammensatt av medlemmer med ulike interes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umet kan ikke forplikte sine medle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 kan være arena for diskusjo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 kan velge tema og invitere utvalgte pers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 kan bidra til å heve kunnskapsnivå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kte rolle / katalysa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le overfor media og folkeval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T – fagartik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ør FSTL trigge offentlige debatter ved å sette ting på spiss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emeldi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em trekker fram vedlikeholdsetterslep som førstesidesto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e fokus på å ta vare på samfunnets verd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ordan vet vi om verdiene forringes eller ik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s om metode for tilstands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økkelt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g av tema for våre saml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Ka dåkk m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10:45Z</dcterms:created>
  <dc:creator>vms</dc:creator>
  <dc:description/>
  <dc:language>en-US</dc:language>
  <cp:lastModifiedBy>Helgelandssykehuset</cp:lastModifiedBy>
  <dcterms:modified xsi:type="dcterms:W3CDTF">2007-10-18T16:39:48Z</dcterms:modified>
  <cp:revision>4</cp:revision>
  <dc:subject/>
  <dc:title>12.30-12.45  FSTL sin rolle overfor media og folkevalgte for  å sette fokus på å ta vare på samfunnets verdier v/Leder Vidar Smalå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0100764</vt:r8>
  </property>
  <property fmtid="{D5CDD505-2E9C-101B-9397-08002B2CF9AE}" pid="3" name="_AuthorEmail">
    <vt:lpwstr>Tore.Damlie@stolav.no</vt:lpwstr>
  </property>
  <property fmtid="{D5CDD505-2E9C-101B-9397-08002B2CF9AE}" pid="4" name="_AuthorEmailDisplayName">
    <vt:lpwstr>Damlie, Tore</vt:lpwstr>
  </property>
  <property fmtid="{D5CDD505-2E9C-101B-9397-08002B2CF9AE}" pid="5" name="_EmailSubject">
    <vt:lpwstr>Foredrag FSTL</vt:lpwstr>
  </property>
  <property fmtid="{D5CDD505-2E9C-101B-9397-08002B2CF9AE}" pid="6" name="_NewReviewCycle">
    <vt:lpwstr/>
  </property>
</Properties>
</file>