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07280" cy="792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07280" cy="2266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70000" indent="0">
              <a:lnSpc>
                <a:spcPct val="9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60" y="3895560"/>
            <a:ext cx="8207280" cy="2266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70000" indent="0">
              <a:lnSpc>
                <a:spcPct val="9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07280" cy="792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Georg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05000" cy="2266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70000" indent="0">
              <a:lnSpc>
                <a:spcPct val="9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880" y="1413000"/>
            <a:ext cx="4005000" cy="2266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70000" indent="0">
              <a:lnSpc>
                <a:spcPct val="9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8360" y="3895560"/>
            <a:ext cx="4005000" cy="2266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70000" indent="0">
              <a:lnSpc>
                <a:spcPct val="9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3880" y="3895560"/>
            <a:ext cx="4005000" cy="2266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70000" indent="0">
              <a:lnSpc>
                <a:spcPct val="9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07280" cy="792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Georg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2642400" cy="2266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70000" indent="0">
              <a:lnSpc>
                <a:spcPct val="9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43240" y="1413000"/>
            <a:ext cx="2642400" cy="2266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70000" indent="0">
              <a:lnSpc>
                <a:spcPct val="9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8120" y="1413000"/>
            <a:ext cx="2642400" cy="2266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70000" indent="0">
              <a:lnSpc>
                <a:spcPct val="9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360" y="3895560"/>
            <a:ext cx="2642400" cy="2266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70000" indent="0">
              <a:lnSpc>
                <a:spcPct val="9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43240" y="3895560"/>
            <a:ext cx="2642400" cy="2266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70000" indent="0">
              <a:lnSpc>
                <a:spcPct val="9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8120" y="3895560"/>
            <a:ext cx="2642400" cy="2266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70000" indent="0">
              <a:lnSpc>
                <a:spcPct val="9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07280" cy="792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820728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07280" cy="792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Georg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07280" cy="475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70000" indent="0">
              <a:lnSpc>
                <a:spcPct val="9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07280" cy="792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Georg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050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70000" indent="0">
              <a:lnSpc>
                <a:spcPct val="9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880" y="1413000"/>
            <a:ext cx="40050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70000" indent="0">
              <a:lnSpc>
                <a:spcPct val="9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07280" cy="792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Georgi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68360" y="404280"/>
            <a:ext cx="820728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07280" cy="792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05000" cy="2266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70000" indent="0">
              <a:lnSpc>
                <a:spcPct val="9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880" y="1413000"/>
            <a:ext cx="40050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70000" indent="0">
              <a:lnSpc>
                <a:spcPct val="9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60" y="3895560"/>
            <a:ext cx="4005000" cy="2266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70000" indent="0">
              <a:lnSpc>
                <a:spcPct val="9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07280" cy="792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Georg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820728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07280" cy="792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050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70000" indent="0">
              <a:lnSpc>
                <a:spcPct val="9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880" y="1413000"/>
            <a:ext cx="4005000" cy="2266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70000" indent="0">
              <a:lnSpc>
                <a:spcPct val="9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3880" y="3895560"/>
            <a:ext cx="4005000" cy="2266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70000" indent="0">
              <a:lnSpc>
                <a:spcPct val="9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07280" cy="792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05000" cy="2266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70000" indent="0">
              <a:lnSpc>
                <a:spcPct val="9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880" y="1413000"/>
            <a:ext cx="4005000" cy="2266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70000" indent="0">
              <a:lnSpc>
                <a:spcPct val="9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3895560"/>
            <a:ext cx="8207280" cy="2266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70000" indent="0">
              <a:lnSpc>
                <a:spcPct val="9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07280" cy="792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Georg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07280" cy="2266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70000" indent="0">
              <a:lnSpc>
                <a:spcPct val="9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360" y="3895560"/>
            <a:ext cx="8207280" cy="2266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70000" indent="0">
              <a:lnSpc>
                <a:spcPct val="9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07280" cy="792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05000" cy="2266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70000" indent="0">
              <a:lnSpc>
                <a:spcPct val="9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880" y="1413000"/>
            <a:ext cx="4005000" cy="2266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70000" indent="0">
              <a:lnSpc>
                <a:spcPct val="9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360" y="3895560"/>
            <a:ext cx="4005000" cy="2266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70000" indent="0">
              <a:lnSpc>
                <a:spcPct val="9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3880" y="3895560"/>
            <a:ext cx="4005000" cy="2266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70000" indent="0">
              <a:lnSpc>
                <a:spcPct val="9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07280" cy="792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2642400" cy="2266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70000" indent="0">
              <a:lnSpc>
                <a:spcPct val="9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43240" y="1413000"/>
            <a:ext cx="2642400" cy="2266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70000" indent="0">
              <a:lnSpc>
                <a:spcPct val="9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8120" y="1413000"/>
            <a:ext cx="2642400" cy="2266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70000" indent="0">
              <a:lnSpc>
                <a:spcPct val="9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8360" y="3895560"/>
            <a:ext cx="2642400" cy="2266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70000" indent="0">
              <a:lnSpc>
                <a:spcPct val="9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43240" y="3895560"/>
            <a:ext cx="2642400" cy="2266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70000" indent="0">
              <a:lnSpc>
                <a:spcPct val="9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8120" y="3895560"/>
            <a:ext cx="2642400" cy="2266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70000" indent="0">
              <a:lnSpc>
                <a:spcPct val="9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07280" cy="792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Georg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07280" cy="475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70000" indent="0">
              <a:lnSpc>
                <a:spcPct val="9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07280" cy="792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Georg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050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70000" indent="0">
              <a:lnSpc>
                <a:spcPct val="9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880" y="1413000"/>
            <a:ext cx="40050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70000" indent="0">
              <a:lnSpc>
                <a:spcPct val="9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07280" cy="792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Georg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8360" y="404280"/>
            <a:ext cx="820728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07280" cy="792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Georg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05000" cy="2266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70000" indent="0">
              <a:lnSpc>
                <a:spcPct val="9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880" y="1413000"/>
            <a:ext cx="40050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70000" indent="0">
              <a:lnSpc>
                <a:spcPct val="9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360" y="3895560"/>
            <a:ext cx="4005000" cy="2266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70000" indent="0">
              <a:lnSpc>
                <a:spcPct val="9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07280" cy="792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Georg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050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70000" indent="0">
              <a:lnSpc>
                <a:spcPct val="9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880" y="1413000"/>
            <a:ext cx="4005000" cy="2266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70000" indent="0">
              <a:lnSpc>
                <a:spcPct val="9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880" y="3895560"/>
            <a:ext cx="4005000" cy="2266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70000" indent="0">
              <a:lnSpc>
                <a:spcPct val="9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07280" cy="792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Georg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05000" cy="2266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70000" indent="0">
              <a:lnSpc>
                <a:spcPct val="9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880" y="1413000"/>
            <a:ext cx="4005000" cy="2266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70000" indent="0">
              <a:lnSpc>
                <a:spcPct val="9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8360" y="3895560"/>
            <a:ext cx="8207280" cy="2266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70000" indent="0">
              <a:lnSpc>
                <a:spcPct val="9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07280" cy="792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ff9933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413000"/>
            <a:ext cx="8207280" cy="475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70000" indent="0">
              <a:lnSpc>
                <a:spcPct val="95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1" marL="270000" indent="-270000">
              <a:lnSpc>
                <a:spcPct val="95000"/>
              </a:lnSpc>
              <a:spcAft>
                <a:spcPts val="700"/>
              </a:spcAft>
              <a:buClr>
                <a:srgbClr val="ff993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2" marL="270000" indent="-270000">
              <a:lnSpc>
                <a:spcPct val="95000"/>
              </a:lnSpc>
              <a:spcAft>
                <a:spcPts val="700"/>
              </a:spcAft>
              <a:buClr>
                <a:srgbClr val="ff993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3" marL="270000" indent="-270000">
              <a:lnSpc>
                <a:spcPct val="95000"/>
              </a:lnSpc>
              <a:spcAft>
                <a:spcPts val="700"/>
              </a:spcAft>
              <a:buClr>
                <a:srgbClr val="000000"/>
              </a:buClr>
              <a:buFont typeface="Trebuchet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4" marL="270000" indent="-270000">
              <a:lnSpc>
                <a:spcPct val="95000"/>
              </a:lnSpc>
              <a:spcAft>
                <a:spcPts val="700"/>
              </a:spcAft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5" marL="270000" indent="-270000">
              <a:lnSpc>
                <a:spcPct val="95000"/>
              </a:lnSpc>
              <a:spcAft>
                <a:spcPts val="700"/>
              </a:spcAft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6" marL="270000" indent="-270000">
              <a:lnSpc>
                <a:spcPct val="95000"/>
              </a:lnSpc>
              <a:spcAft>
                <a:spcPts val="700"/>
              </a:spcAft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763720" y="6599160"/>
            <a:ext cx="6129360" cy="0"/>
          </a:xfrm>
          <a:prstGeom prst="line">
            <a:avLst/>
          </a:prstGeom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251280" y="6308640"/>
            <a:ext cx="2377440" cy="387000"/>
            <a:chOff x="251280" y="6308640"/>
            <a:chExt cx="2377440" cy="387000"/>
          </a:xfrm>
        </p:grpSpPr>
        <p:sp>
          <p:nvSpPr>
            <p:cNvPr id="4" name=""/>
            <p:cNvSpPr/>
            <p:nvPr/>
          </p:nvSpPr>
          <p:spPr>
            <a:xfrm>
              <a:off x="782640" y="6402960"/>
              <a:ext cx="1846080" cy="198000"/>
            </a:xfrm>
            <a:custGeom>
              <a:avLst/>
              <a:gdLst/>
              <a:ahLst/>
              <a:rect l="l" t="t" r="r" b="b"/>
              <a:pathLst>
                <a:path w="8199" h="882">
                  <a:moveTo>
                    <a:pt x="1874" y="372"/>
                  </a:moveTo>
                  <a:lnTo>
                    <a:pt x="1838" y="358"/>
                  </a:lnTo>
                  <a:lnTo>
                    <a:pt x="1805" y="345"/>
                  </a:lnTo>
                  <a:lnTo>
                    <a:pt x="1789" y="338"/>
                  </a:lnTo>
                  <a:lnTo>
                    <a:pt x="1774" y="330"/>
                  </a:lnTo>
                  <a:lnTo>
                    <a:pt x="1760" y="323"/>
                  </a:lnTo>
                  <a:lnTo>
                    <a:pt x="1747" y="315"/>
                  </a:lnTo>
                  <a:lnTo>
                    <a:pt x="1736" y="306"/>
                  </a:lnTo>
                  <a:lnTo>
                    <a:pt x="1725" y="297"/>
                  </a:lnTo>
                  <a:lnTo>
                    <a:pt x="1717" y="288"/>
                  </a:lnTo>
                  <a:lnTo>
                    <a:pt x="1709" y="277"/>
                  </a:lnTo>
                  <a:lnTo>
                    <a:pt x="1703" y="266"/>
                  </a:lnTo>
                  <a:lnTo>
                    <a:pt x="1699" y="253"/>
                  </a:lnTo>
                  <a:lnTo>
                    <a:pt x="1696" y="239"/>
                  </a:lnTo>
                  <a:lnTo>
                    <a:pt x="1695" y="224"/>
                  </a:lnTo>
                  <a:lnTo>
                    <a:pt x="1696" y="212"/>
                  </a:lnTo>
                  <a:lnTo>
                    <a:pt x="1698" y="200"/>
                  </a:lnTo>
                  <a:lnTo>
                    <a:pt x="1701" y="190"/>
                  </a:lnTo>
                  <a:lnTo>
                    <a:pt x="1704" y="180"/>
                  </a:lnTo>
                  <a:lnTo>
                    <a:pt x="1709" y="170"/>
                  </a:lnTo>
                  <a:lnTo>
                    <a:pt x="1715" y="162"/>
                  </a:lnTo>
                  <a:lnTo>
                    <a:pt x="1722" y="154"/>
                  </a:lnTo>
                  <a:lnTo>
                    <a:pt x="1729" y="147"/>
                  </a:lnTo>
                  <a:lnTo>
                    <a:pt x="1738" y="141"/>
                  </a:lnTo>
                  <a:lnTo>
                    <a:pt x="1747" y="135"/>
                  </a:lnTo>
                  <a:lnTo>
                    <a:pt x="1757" y="130"/>
                  </a:lnTo>
                  <a:lnTo>
                    <a:pt x="1768" y="126"/>
                  </a:lnTo>
                  <a:lnTo>
                    <a:pt x="1779" y="123"/>
                  </a:lnTo>
                  <a:lnTo>
                    <a:pt x="1792" y="121"/>
                  </a:lnTo>
                  <a:lnTo>
                    <a:pt x="1804" y="119"/>
                  </a:lnTo>
                  <a:lnTo>
                    <a:pt x="1818" y="119"/>
                  </a:lnTo>
                  <a:lnTo>
                    <a:pt x="1831" y="119"/>
                  </a:lnTo>
                  <a:lnTo>
                    <a:pt x="1844" y="121"/>
                  </a:lnTo>
                  <a:lnTo>
                    <a:pt x="1857" y="124"/>
                  </a:lnTo>
                  <a:lnTo>
                    <a:pt x="1869" y="127"/>
                  </a:lnTo>
                  <a:lnTo>
                    <a:pt x="1882" y="131"/>
                  </a:lnTo>
                  <a:lnTo>
                    <a:pt x="1893" y="136"/>
                  </a:lnTo>
                  <a:lnTo>
                    <a:pt x="1914" y="146"/>
                  </a:lnTo>
                  <a:lnTo>
                    <a:pt x="1932" y="156"/>
                  </a:lnTo>
                  <a:lnTo>
                    <a:pt x="1946" y="164"/>
                  </a:lnTo>
                  <a:lnTo>
                    <a:pt x="1958" y="173"/>
                  </a:lnTo>
                  <a:lnTo>
                    <a:pt x="2040" y="91"/>
                  </a:lnTo>
                  <a:lnTo>
                    <a:pt x="2029" y="81"/>
                  </a:lnTo>
                  <a:lnTo>
                    <a:pt x="2018" y="71"/>
                  </a:lnTo>
                  <a:lnTo>
                    <a:pt x="2005" y="62"/>
                  </a:lnTo>
                  <a:lnTo>
                    <a:pt x="1992" y="53"/>
                  </a:lnTo>
                  <a:lnTo>
                    <a:pt x="1979" y="45"/>
                  </a:lnTo>
                  <a:lnTo>
                    <a:pt x="1965" y="38"/>
                  </a:lnTo>
                  <a:lnTo>
                    <a:pt x="1950" y="31"/>
                  </a:lnTo>
                  <a:lnTo>
                    <a:pt x="1936" y="25"/>
                  </a:lnTo>
                  <a:lnTo>
                    <a:pt x="1921" y="19"/>
                  </a:lnTo>
                  <a:lnTo>
                    <a:pt x="1906" y="14"/>
                  </a:lnTo>
                  <a:lnTo>
                    <a:pt x="1891" y="10"/>
                  </a:lnTo>
                  <a:lnTo>
                    <a:pt x="1876" y="7"/>
                  </a:lnTo>
                  <a:lnTo>
                    <a:pt x="1861" y="4"/>
                  </a:lnTo>
                  <a:lnTo>
                    <a:pt x="1846" y="2"/>
                  </a:lnTo>
                  <a:lnTo>
                    <a:pt x="1832" y="1"/>
                  </a:lnTo>
                  <a:lnTo>
                    <a:pt x="1818" y="0"/>
                  </a:lnTo>
                  <a:lnTo>
                    <a:pt x="1795" y="1"/>
                  </a:lnTo>
                  <a:lnTo>
                    <a:pt x="1773" y="4"/>
                  </a:lnTo>
                  <a:lnTo>
                    <a:pt x="1751" y="9"/>
                  </a:lnTo>
                  <a:lnTo>
                    <a:pt x="1729" y="15"/>
                  </a:lnTo>
                  <a:lnTo>
                    <a:pt x="1708" y="23"/>
                  </a:lnTo>
                  <a:lnTo>
                    <a:pt x="1688" y="33"/>
                  </a:lnTo>
                  <a:lnTo>
                    <a:pt x="1669" y="45"/>
                  </a:lnTo>
                  <a:lnTo>
                    <a:pt x="1651" y="58"/>
                  </a:lnTo>
                  <a:lnTo>
                    <a:pt x="1634" y="73"/>
                  </a:lnTo>
                  <a:lnTo>
                    <a:pt x="1626" y="81"/>
                  </a:lnTo>
                  <a:lnTo>
                    <a:pt x="1619" y="90"/>
                  </a:lnTo>
                  <a:lnTo>
                    <a:pt x="1612" y="99"/>
                  </a:lnTo>
                  <a:lnTo>
                    <a:pt x="1606" y="108"/>
                  </a:lnTo>
                  <a:lnTo>
                    <a:pt x="1600" y="118"/>
                  </a:lnTo>
                  <a:lnTo>
                    <a:pt x="1594" y="128"/>
                  </a:lnTo>
                  <a:lnTo>
                    <a:pt x="1590" y="139"/>
                  </a:lnTo>
                  <a:lnTo>
                    <a:pt x="1585" y="150"/>
                  </a:lnTo>
                  <a:lnTo>
                    <a:pt x="1582" y="161"/>
                  </a:lnTo>
                  <a:lnTo>
                    <a:pt x="1578" y="173"/>
                  </a:lnTo>
                  <a:lnTo>
                    <a:pt x="1576" y="185"/>
                  </a:lnTo>
                  <a:lnTo>
                    <a:pt x="1574" y="198"/>
                  </a:lnTo>
                  <a:lnTo>
                    <a:pt x="1573" y="210"/>
                  </a:lnTo>
                  <a:lnTo>
                    <a:pt x="1573" y="224"/>
                  </a:lnTo>
                  <a:lnTo>
                    <a:pt x="1573" y="237"/>
                  </a:lnTo>
                  <a:lnTo>
                    <a:pt x="1574" y="250"/>
                  </a:lnTo>
                  <a:lnTo>
                    <a:pt x="1575" y="262"/>
                  </a:lnTo>
                  <a:lnTo>
                    <a:pt x="1577" y="274"/>
                  </a:lnTo>
                  <a:lnTo>
                    <a:pt x="1580" y="286"/>
                  </a:lnTo>
                  <a:lnTo>
                    <a:pt x="1583" y="297"/>
                  </a:lnTo>
                  <a:lnTo>
                    <a:pt x="1586" y="308"/>
                  </a:lnTo>
                  <a:lnTo>
                    <a:pt x="1590" y="318"/>
                  </a:lnTo>
                  <a:lnTo>
                    <a:pt x="1600" y="337"/>
                  </a:lnTo>
                  <a:lnTo>
                    <a:pt x="1610" y="354"/>
                  </a:lnTo>
                  <a:lnTo>
                    <a:pt x="1623" y="369"/>
                  </a:lnTo>
                  <a:lnTo>
                    <a:pt x="1637" y="383"/>
                  </a:lnTo>
                  <a:lnTo>
                    <a:pt x="1648" y="393"/>
                  </a:lnTo>
                  <a:lnTo>
                    <a:pt x="1659" y="402"/>
                  </a:lnTo>
                  <a:lnTo>
                    <a:pt x="1671" y="410"/>
                  </a:lnTo>
                  <a:lnTo>
                    <a:pt x="1683" y="417"/>
                  </a:lnTo>
                  <a:lnTo>
                    <a:pt x="1709" y="431"/>
                  </a:lnTo>
                  <a:lnTo>
                    <a:pt x="1735" y="443"/>
                  </a:lnTo>
                  <a:lnTo>
                    <a:pt x="1762" y="454"/>
                  </a:lnTo>
                  <a:lnTo>
                    <a:pt x="1788" y="465"/>
                  </a:lnTo>
                  <a:lnTo>
                    <a:pt x="1814" y="475"/>
                  </a:lnTo>
                  <a:lnTo>
                    <a:pt x="1839" y="486"/>
                  </a:lnTo>
                  <a:lnTo>
                    <a:pt x="1862" y="498"/>
                  </a:lnTo>
                  <a:lnTo>
                    <a:pt x="1883" y="511"/>
                  </a:lnTo>
                  <a:lnTo>
                    <a:pt x="1893" y="518"/>
                  </a:lnTo>
                  <a:lnTo>
                    <a:pt x="1902" y="525"/>
                  </a:lnTo>
                  <a:lnTo>
                    <a:pt x="1910" y="532"/>
                  </a:lnTo>
                  <a:lnTo>
                    <a:pt x="1918" y="541"/>
                  </a:lnTo>
                  <a:lnTo>
                    <a:pt x="1925" y="549"/>
                  </a:lnTo>
                  <a:lnTo>
                    <a:pt x="1931" y="559"/>
                  </a:lnTo>
                  <a:lnTo>
                    <a:pt x="1936" y="569"/>
                  </a:lnTo>
                  <a:lnTo>
                    <a:pt x="1940" y="580"/>
                  </a:lnTo>
                  <a:lnTo>
                    <a:pt x="1944" y="592"/>
                  </a:lnTo>
                  <a:lnTo>
                    <a:pt x="1947" y="605"/>
                  </a:lnTo>
                  <a:lnTo>
                    <a:pt x="1948" y="619"/>
                  </a:lnTo>
                  <a:lnTo>
                    <a:pt x="1949" y="634"/>
                  </a:lnTo>
                  <a:lnTo>
                    <a:pt x="1948" y="647"/>
                  </a:lnTo>
                  <a:lnTo>
                    <a:pt x="1946" y="660"/>
                  </a:lnTo>
                  <a:lnTo>
                    <a:pt x="1942" y="672"/>
                  </a:lnTo>
                  <a:lnTo>
                    <a:pt x="1938" y="684"/>
                  </a:lnTo>
                  <a:lnTo>
                    <a:pt x="1932" y="696"/>
                  </a:lnTo>
                  <a:lnTo>
                    <a:pt x="1925" y="707"/>
                  </a:lnTo>
                  <a:lnTo>
                    <a:pt x="1917" y="717"/>
                  </a:lnTo>
                  <a:lnTo>
                    <a:pt x="1908" y="726"/>
                  </a:lnTo>
                  <a:lnTo>
                    <a:pt x="1899" y="735"/>
                  </a:lnTo>
                  <a:lnTo>
                    <a:pt x="1888" y="742"/>
                  </a:lnTo>
                  <a:lnTo>
                    <a:pt x="1877" y="749"/>
                  </a:lnTo>
                  <a:lnTo>
                    <a:pt x="1865" y="755"/>
                  </a:lnTo>
                  <a:lnTo>
                    <a:pt x="1853" y="759"/>
                  </a:lnTo>
                  <a:lnTo>
                    <a:pt x="1840" y="762"/>
                  </a:lnTo>
                  <a:lnTo>
                    <a:pt x="1827" y="764"/>
                  </a:lnTo>
                  <a:lnTo>
                    <a:pt x="1814" y="765"/>
                  </a:lnTo>
                  <a:lnTo>
                    <a:pt x="1799" y="764"/>
                  </a:lnTo>
                  <a:lnTo>
                    <a:pt x="1785" y="762"/>
                  </a:lnTo>
                  <a:lnTo>
                    <a:pt x="1771" y="759"/>
                  </a:lnTo>
                  <a:lnTo>
                    <a:pt x="1757" y="754"/>
                  </a:lnTo>
                  <a:lnTo>
                    <a:pt x="1744" y="749"/>
                  </a:lnTo>
                  <a:lnTo>
                    <a:pt x="1732" y="744"/>
                  </a:lnTo>
                  <a:lnTo>
                    <a:pt x="1721" y="737"/>
                  </a:lnTo>
                  <a:lnTo>
                    <a:pt x="1710" y="731"/>
                  </a:lnTo>
                  <a:lnTo>
                    <a:pt x="1692" y="719"/>
                  </a:lnTo>
                  <a:lnTo>
                    <a:pt x="1678" y="708"/>
                  </a:lnTo>
                  <a:lnTo>
                    <a:pt x="1666" y="698"/>
                  </a:lnTo>
                  <a:lnTo>
                    <a:pt x="1584" y="780"/>
                  </a:lnTo>
                  <a:lnTo>
                    <a:pt x="1595" y="791"/>
                  </a:lnTo>
                  <a:lnTo>
                    <a:pt x="1607" y="802"/>
                  </a:lnTo>
                  <a:lnTo>
                    <a:pt x="1619" y="813"/>
                  </a:lnTo>
                  <a:lnTo>
                    <a:pt x="1632" y="823"/>
                  </a:lnTo>
                  <a:lnTo>
                    <a:pt x="1646" y="832"/>
                  </a:lnTo>
                  <a:lnTo>
                    <a:pt x="1660" y="840"/>
                  </a:lnTo>
                  <a:lnTo>
                    <a:pt x="1675" y="848"/>
                  </a:lnTo>
                  <a:lnTo>
                    <a:pt x="1689" y="855"/>
                  </a:lnTo>
                  <a:lnTo>
                    <a:pt x="1705" y="861"/>
                  </a:lnTo>
                  <a:lnTo>
                    <a:pt x="1720" y="867"/>
                  </a:lnTo>
                  <a:lnTo>
                    <a:pt x="1736" y="871"/>
                  </a:lnTo>
                  <a:lnTo>
                    <a:pt x="1751" y="875"/>
                  </a:lnTo>
                  <a:lnTo>
                    <a:pt x="1767" y="878"/>
                  </a:lnTo>
                  <a:lnTo>
                    <a:pt x="1783" y="880"/>
                  </a:lnTo>
                  <a:lnTo>
                    <a:pt x="1798" y="882"/>
                  </a:lnTo>
                  <a:lnTo>
                    <a:pt x="1814" y="882"/>
                  </a:lnTo>
                  <a:lnTo>
                    <a:pt x="1827" y="882"/>
                  </a:lnTo>
                  <a:lnTo>
                    <a:pt x="1839" y="881"/>
                  </a:lnTo>
                  <a:lnTo>
                    <a:pt x="1851" y="879"/>
                  </a:lnTo>
                  <a:lnTo>
                    <a:pt x="1864" y="877"/>
                  </a:lnTo>
                  <a:lnTo>
                    <a:pt x="1887" y="871"/>
                  </a:lnTo>
                  <a:lnTo>
                    <a:pt x="1911" y="862"/>
                  </a:lnTo>
                  <a:lnTo>
                    <a:pt x="1933" y="852"/>
                  </a:lnTo>
                  <a:lnTo>
                    <a:pt x="1954" y="840"/>
                  </a:lnTo>
                  <a:lnTo>
                    <a:pt x="1974" y="825"/>
                  </a:lnTo>
                  <a:lnTo>
                    <a:pt x="1993" y="809"/>
                  </a:lnTo>
                  <a:lnTo>
                    <a:pt x="2010" y="792"/>
                  </a:lnTo>
                  <a:lnTo>
                    <a:pt x="2025" y="773"/>
                  </a:lnTo>
                  <a:lnTo>
                    <a:pt x="2038" y="752"/>
                  </a:lnTo>
                  <a:lnTo>
                    <a:pt x="2044" y="741"/>
                  </a:lnTo>
                  <a:lnTo>
                    <a:pt x="2050" y="730"/>
                  </a:lnTo>
                  <a:lnTo>
                    <a:pt x="2055" y="719"/>
                  </a:lnTo>
                  <a:lnTo>
                    <a:pt x="2059" y="708"/>
                  </a:lnTo>
                  <a:lnTo>
                    <a:pt x="2063" y="696"/>
                  </a:lnTo>
                  <a:lnTo>
                    <a:pt x="2066" y="684"/>
                  </a:lnTo>
                  <a:lnTo>
                    <a:pt x="2068" y="671"/>
                  </a:lnTo>
                  <a:lnTo>
                    <a:pt x="2070" y="659"/>
                  </a:lnTo>
                  <a:lnTo>
                    <a:pt x="2071" y="646"/>
                  </a:lnTo>
                  <a:lnTo>
                    <a:pt x="2071" y="634"/>
                  </a:lnTo>
                  <a:lnTo>
                    <a:pt x="2071" y="619"/>
                  </a:lnTo>
                  <a:lnTo>
                    <a:pt x="2070" y="604"/>
                  </a:lnTo>
                  <a:lnTo>
                    <a:pt x="2069" y="590"/>
                  </a:lnTo>
                  <a:lnTo>
                    <a:pt x="2067" y="577"/>
                  </a:lnTo>
                  <a:lnTo>
                    <a:pt x="2065" y="564"/>
                  </a:lnTo>
                  <a:lnTo>
                    <a:pt x="2062" y="552"/>
                  </a:lnTo>
                  <a:lnTo>
                    <a:pt x="2058" y="541"/>
                  </a:lnTo>
                  <a:lnTo>
                    <a:pt x="2054" y="529"/>
                  </a:lnTo>
                  <a:lnTo>
                    <a:pt x="2045" y="509"/>
                  </a:lnTo>
                  <a:lnTo>
                    <a:pt x="2034" y="489"/>
                  </a:lnTo>
                  <a:lnTo>
                    <a:pt x="2022" y="472"/>
                  </a:lnTo>
                  <a:lnTo>
                    <a:pt x="2008" y="456"/>
                  </a:lnTo>
                  <a:lnTo>
                    <a:pt x="1994" y="442"/>
                  </a:lnTo>
                  <a:lnTo>
                    <a:pt x="1978" y="429"/>
                  </a:lnTo>
                  <a:lnTo>
                    <a:pt x="1962" y="417"/>
                  </a:lnTo>
                  <a:lnTo>
                    <a:pt x="1945" y="406"/>
                  </a:lnTo>
                  <a:lnTo>
                    <a:pt x="1927" y="397"/>
                  </a:lnTo>
                  <a:lnTo>
                    <a:pt x="1909" y="388"/>
                  </a:lnTo>
                  <a:lnTo>
                    <a:pt x="1891" y="380"/>
                  </a:lnTo>
                  <a:lnTo>
                    <a:pt x="1875" y="372"/>
                  </a:lnTo>
                  <a:lnTo>
                    <a:pt x="1874" y="372"/>
                  </a:lnTo>
                  <a:lnTo>
                    <a:pt x="2680" y="383"/>
                  </a:lnTo>
                  <a:lnTo>
                    <a:pt x="2352" y="383"/>
                  </a:lnTo>
                  <a:lnTo>
                    <a:pt x="2351" y="12"/>
                  </a:lnTo>
                  <a:lnTo>
                    <a:pt x="2237" y="12"/>
                  </a:lnTo>
                  <a:lnTo>
                    <a:pt x="2236" y="870"/>
                  </a:lnTo>
                  <a:lnTo>
                    <a:pt x="2351" y="870"/>
                  </a:lnTo>
                  <a:lnTo>
                    <a:pt x="2352" y="497"/>
                  </a:lnTo>
                  <a:lnTo>
                    <a:pt x="2680" y="497"/>
                  </a:lnTo>
                  <a:lnTo>
                    <a:pt x="2681" y="870"/>
                  </a:lnTo>
                  <a:lnTo>
                    <a:pt x="2796" y="870"/>
                  </a:lnTo>
                  <a:lnTo>
                    <a:pt x="2797" y="12"/>
                  </a:lnTo>
                  <a:lnTo>
                    <a:pt x="2680" y="12"/>
                  </a:lnTo>
                  <a:lnTo>
                    <a:pt x="2680" y="383"/>
                  </a:lnTo>
                  <a:lnTo>
                    <a:pt x="1874" y="372"/>
                  </a:lnTo>
                  <a:lnTo>
                    <a:pt x="1376" y="12"/>
                  </a:lnTo>
                  <a:lnTo>
                    <a:pt x="1155" y="373"/>
                  </a:lnTo>
                  <a:lnTo>
                    <a:pt x="1153" y="376"/>
                  </a:lnTo>
                  <a:lnTo>
                    <a:pt x="1149" y="379"/>
                  </a:lnTo>
                  <a:lnTo>
                    <a:pt x="1144" y="381"/>
                  </a:lnTo>
                  <a:lnTo>
                    <a:pt x="1138" y="382"/>
                  </a:lnTo>
                  <a:lnTo>
                    <a:pt x="1138" y="12"/>
                  </a:lnTo>
                  <a:lnTo>
                    <a:pt x="1023" y="12"/>
                  </a:lnTo>
                  <a:lnTo>
                    <a:pt x="1023" y="812"/>
                  </a:lnTo>
                  <a:lnTo>
                    <a:pt x="1023" y="816"/>
                  </a:lnTo>
                  <a:lnTo>
                    <a:pt x="1023" y="870"/>
                  </a:lnTo>
                  <a:lnTo>
                    <a:pt x="1078" y="870"/>
                  </a:lnTo>
                  <a:lnTo>
                    <a:pt x="1080" y="870"/>
                  </a:lnTo>
                  <a:lnTo>
                    <a:pt x="1082" y="870"/>
                  </a:lnTo>
                  <a:lnTo>
                    <a:pt x="1138" y="870"/>
                  </a:lnTo>
                  <a:lnTo>
                    <a:pt x="1138" y="771"/>
                  </a:lnTo>
                  <a:lnTo>
                    <a:pt x="1138" y="496"/>
                  </a:lnTo>
                  <a:lnTo>
                    <a:pt x="1141" y="496"/>
                  </a:lnTo>
                  <a:lnTo>
                    <a:pt x="1351" y="870"/>
                  </a:lnTo>
                  <a:lnTo>
                    <a:pt x="1486" y="870"/>
                  </a:lnTo>
                  <a:lnTo>
                    <a:pt x="1241" y="443"/>
                  </a:lnTo>
                  <a:lnTo>
                    <a:pt x="1507" y="12"/>
                  </a:lnTo>
                  <a:lnTo>
                    <a:pt x="1376" y="12"/>
                  </a:lnTo>
                  <a:lnTo>
                    <a:pt x="1874" y="372"/>
                  </a:lnTo>
                  <a:lnTo>
                    <a:pt x="8199" y="14"/>
                  </a:lnTo>
                  <a:lnTo>
                    <a:pt x="7646" y="14"/>
                  </a:lnTo>
                  <a:lnTo>
                    <a:pt x="7646" y="125"/>
                  </a:lnTo>
                  <a:lnTo>
                    <a:pt x="7863" y="127"/>
                  </a:lnTo>
                  <a:lnTo>
                    <a:pt x="7863" y="870"/>
                  </a:lnTo>
                  <a:lnTo>
                    <a:pt x="7979" y="870"/>
                  </a:lnTo>
                  <a:lnTo>
                    <a:pt x="7979" y="127"/>
                  </a:lnTo>
                  <a:lnTo>
                    <a:pt x="8199" y="125"/>
                  </a:lnTo>
                  <a:lnTo>
                    <a:pt x="8199" y="14"/>
                  </a:lnTo>
                  <a:lnTo>
                    <a:pt x="1874" y="372"/>
                  </a:lnTo>
                  <a:lnTo>
                    <a:pt x="6209" y="476"/>
                  </a:lnTo>
                  <a:lnTo>
                    <a:pt x="6044" y="476"/>
                  </a:lnTo>
                  <a:lnTo>
                    <a:pt x="6004" y="590"/>
                  </a:lnTo>
                  <a:lnTo>
                    <a:pt x="6251" y="590"/>
                  </a:lnTo>
                  <a:lnTo>
                    <a:pt x="6353" y="870"/>
                  </a:lnTo>
                  <a:lnTo>
                    <a:pt x="6480" y="870"/>
                  </a:lnTo>
                  <a:lnTo>
                    <a:pt x="6196" y="93"/>
                  </a:lnTo>
                  <a:lnTo>
                    <a:pt x="6168" y="12"/>
                  </a:lnTo>
                  <a:lnTo>
                    <a:pt x="6084" y="12"/>
                  </a:lnTo>
                  <a:lnTo>
                    <a:pt x="6071" y="50"/>
                  </a:lnTo>
                  <a:lnTo>
                    <a:pt x="6070" y="52"/>
                  </a:lnTo>
                  <a:lnTo>
                    <a:pt x="5783" y="870"/>
                  </a:lnTo>
                  <a:lnTo>
                    <a:pt x="5905" y="870"/>
                  </a:lnTo>
                  <a:lnTo>
                    <a:pt x="6004" y="590"/>
                  </a:lnTo>
                  <a:lnTo>
                    <a:pt x="6044" y="476"/>
                  </a:lnTo>
                  <a:lnTo>
                    <a:pt x="6125" y="242"/>
                  </a:lnTo>
                  <a:lnTo>
                    <a:pt x="6209" y="476"/>
                  </a:lnTo>
                  <a:lnTo>
                    <a:pt x="1874" y="372"/>
                  </a:lnTo>
                  <a:lnTo>
                    <a:pt x="687" y="870"/>
                  </a:lnTo>
                  <a:lnTo>
                    <a:pt x="802" y="870"/>
                  </a:lnTo>
                  <a:lnTo>
                    <a:pt x="802" y="12"/>
                  </a:lnTo>
                  <a:lnTo>
                    <a:pt x="687" y="12"/>
                  </a:lnTo>
                  <a:lnTo>
                    <a:pt x="687" y="870"/>
                  </a:lnTo>
                  <a:lnTo>
                    <a:pt x="1874" y="372"/>
                  </a:lnTo>
                  <a:lnTo>
                    <a:pt x="264" y="127"/>
                  </a:lnTo>
                  <a:lnTo>
                    <a:pt x="278" y="128"/>
                  </a:lnTo>
                  <a:lnTo>
                    <a:pt x="291" y="129"/>
                  </a:lnTo>
                  <a:lnTo>
                    <a:pt x="303" y="132"/>
                  </a:lnTo>
                  <a:lnTo>
                    <a:pt x="314" y="135"/>
                  </a:lnTo>
                  <a:lnTo>
                    <a:pt x="324" y="140"/>
                  </a:lnTo>
                  <a:lnTo>
                    <a:pt x="333" y="145"/>
                  </a:lnTo>
                  <a:lnTo>
                    <a:pt x="341" y="151"/>
                  </a:lnTo>
                  <a:lnTo>
                    <a:pt x="349" y="158"/>
                  </a:lnTo>
                  <a:lnTo>
                    <a:pt x="356" y="166"/>
                  </a:lnTo>
                  <a:lnTo>
                    <a:pt x="362" y="175"/>
                  </a:lnTo>
                  <a:lnTo>
                    <a:pt x="367" y="185"/>
                  </a:lnTo>
                  <a:lnTo>
                    <a:pt x="371" y="196"/>
                  </a:lnTo>
                  <a:lnTo>
                    <a:pt x="374" y="207"/>
                  </a:lnTo>
                  <a:lnTo>
                    <a:pt x="377" y="220"/>
                  </a:lnTo>
                  <a:lnTo>
                    <a:pt x="378" y="233"/>
                  </a:lnTo>
                  <a:lnTo>
                    <a:pt x="379" y="248"/>
                  </a:lnTo>
                  <a:lnTo>
                    <a:pt x="379" y="287"/>
                  </a:lnTo>
                  <a:lnTo>
                    <a:pt x="377" y="309"/>
                  </a:lnTo>
                  <a:lnTo>
                    <a:pt x="377" y="315"/>
                  </a:lnTo>
                  <a:lnTo>
                    <a:pt x="375" y="326"/>
                  </a:lnTo>
                  <a:lnTo>
                    <a:pt x="372" y="336"/>
                  </a:lnTo>
                  <a:lnTo>
                    <a:pt x="368" y="346"/>
                  </a:lnTo>
                  <a:lnTo>
                    <a:pt x="364" y="355"/>
                  </a:lnTo>
                  <a:lnTo>
                    <a:pt x="360" y="363"/>
                  </a:lnTo>
                  <a:lnTo>
                    <a:pt x="355" y="371"/>
                  </a:lnTo>
                  <a:lnTo>
                    <a:pt x="349" y="378"/>
                  </a:lnTo>
                  <a:lnTo>
                    <a:pt x="342" y="384"/>
                  </a:lnTo>
                  <a:lnTo>
                    <a:pt x="335" y="390"/>
                  </a:lnTo>
                  <a:lnTo>
                    <a:pt x="326" y="395"/>
                  </a:lnTo>
                  <a:lnTo>
                    <a:pt x="318" y="399"/>
                  </a:lnTo>
                  <a:lnTo>
                    <a:pt x="308" y="402"/>
                  </a:lnTo>
                  <a:lnTo>
                    <a:pt x="298" y="405"/>
                  </a:lnTo>
                  <a:lnTo>
                    <a:pt x="287" y="407"/>
                  </a:lnTo>
                  <a:lnTo>
                    <a:pt x="276" y="408"/>
                  </a:lnTo>
                  <a:lnTo>
                    <a:pt x="264" y="409"/>
                  </a:lnTo>
                  <a:lnTo>
                    <a:pt x="246" y="409"/>
                  </a:lnTo>
                  <a:lnTo>
                    <a:pt x="115" y="408"/>
                  </a:lnTo>
                  <a:lnTo>
                    <a:pt x="115" y="127"/>
                  </a:lnTo>
                  <a:lnTo>
                    <a:pt x="1" y="13"/>
                  </a:lnTo>
                  <a:lnTo>
                    <a:pt x="0" y="813"/>
                  </a:lnTo>
                  <a:lnTo>
                    <a:pt x="0" y="870"/>
                  </a:lnTo>
                  <a:lnTo>
                    <a:pt x="55" y="870"/>
                  </a:lnTo>
                  <a:lnTo>
                    <a:pt x="57" y="870"/>
                  </a:lnTo>
                  <a:lnTo>
                    <a:pt x="60" y="870"/>
                  </a:lnTo>
                  <a:lnTo>
                    <a:pt x="115" y="870"/>
                  </a:lnTo>
                  <a:lnTo>
                    <a:pt x="115" y="814"/>
                  </a:lnTo>
                  <a:lnTo>
                    <a:pt x="115" y="812"/>
                  </a:lnTo>
                  <a:lnTo>
                    <a:pt x="115" y="523"/>
                  </a:lnTo>
                  <a:lnTo>
                    <a:pt x="262" y="524"/>
                  </a:lnTo>
                  <a:lnTo>
                    <a:pt x="439" y="870"/>
                  </a:lnTo>
                  <a:lnTo>
                    <a:pt x="567" y="870"/>
                  </a:lnTo>
                  <a:lnTo>
                    <a:pt x="378" y="497"/>
                  </a:lnTo>
                  <a:lnTo>
                    <a:pt x="390" y="490"/>
                  </a:lnTo>
                  <a:lnTo>
                    <a:pt x="401" y="483"/>
                  </a:lnTo>
                  <a:lnTo>
                    <a:pt x="412" y="474"/>
                  </a:lnTo>
                  <a:lnTo>
                    <a:pt x="422" y="466"/>
                  </a:lnTo>
                  <a:lnTo>
                    <a:pt x="432" y="456"/>
                  </a:lnTo>
                  <a:lnTo>
                    <a:pt x="440" y="446"/>
                  </a:lnTo>
                  <a:lnTo>
                    <a:pt x="448" y="435"/>
                  </a:lnTo>
                  <a:lnTo>
                    <a:pt x="456" y="424"/>
                  </a:lnTo>
                  <a:lnTo>
                    <a:pt x="463" y="412"/>
                  </a:lnTo>
                  <a:lnTo>
                    <a:pt x="469" y="399"/>
                  </a:lnTo>
                  <a:lnTo>
                    <a:pt x="474" y="386"/>
                  </a:lnTo>
                  <a:lnTo>
                    <a:pt x="479" y="373"/>
                  </a:lnTo>
                  <a:lnTo>
                    <a:pt x="483" y="359"/>
                  </a:lnTo>
                  <a:lnTo>
                    <a:pt x="486" y="345"/>
                  </a:lnTo>
                  <a:lnTo>
                    <a:pt x="489" y="330"/>
                  </a:lnTo>
                  <a:lnTo>
                    <a:pt x="490" y="315"/>
                  </a:lnTo>
                  <a:lnTo>
                    <a:pt x="492" y="248"/>
                  </a:lnTo>
                  <a:lnTo>
                    <a:pt x="491" y="222"/>
                  </a:lnTo>
                  <a:lnTo>
                    <a:pt x="488" y="198"/>
                  </a:lnTo>
                  <a:lnTo>
                    <a:pt x="483" y="175"/>
                  </a:lnTo>
                  <a:lnTo>
                    <a:pt x="476" y="152"/>
                  </a:lnTo>
                  <a:lnTo>
                    <a:pt x="467" y="132"/>
                  </a:lnTo>
                  <a:lnTo>
                    <a:pt x="456" y="112"/>
                  </a:lnTo>
                  <a:lnTo>
                    <a:pt x="444" y="94"/>
                  </a:lnTo>
                  <a:lnTo>
                    <a:pt x="430" y="78"/>
                  </a:lnTo>
                  <a:lnTo>
                    <a:pt x="414" y="63"/>
                  </a:lnTo>
                  <a:lnTo>
                    <a:pt x="397" y="50"/>
                  </a:lnTo>
                  <a:lnTo>
                    <a:pt x="378" y="39"/>
                  </a:lnTo>
                  <a:lnTo>
                    <a:pt x="357" y="29"/>
                  </a:lnTo>
                  <a:lnTo>
                    <a:pt x="336" y="22"/>
                  </a:lnTo>
                  <a:lnTo>
                    <a:pt x="313" y="17"/>
                  </a:lnTo>
                  <a:lnTo>
                    <a:pt x="289" y="13"/>
                  </a:lnTo>
                  <a:lnTo>
                    <a:pt x="264" y="12"/>
                  </a:lnTo>
                  <a:lnTo>
                    <a:pt x="1" y="13"/>
                  </a:lnTo>
                  <a:lnTo>
                    <a:pt x="115" y="127"/>
                  </a:lnTo>
                  <a:lnTo>
                    <a:pt x="264" y="127"/>
                  </a:lnTo>
                  <a:lnTo>
                    <a:pt x="1874" y="372"/>
                  </a:lnTo>
                  <a:lnTo>
                    <a:pt x="4977" y="12"/>
                  </a:lnTo>
                  <a:lnTo>
                    <a:pt x="4977" y="869"/>
                  </a:lnTo>
                  <a:lnTo>
                    <a:pt x="5092" y="869"/>
                  </a:lnTo>
                  <a:lnTo>
                    <a:pt x="5091" y="12"/>
                  </a:lnTo>
                  <a:lnTo>
                    <a:pt x="4977" y="12"/>
                  </a:lnTo>
                  <a:lnTo>
                    <a:pt x="1874" y="372"/>
                  </a:lnTo>
                  <a:lnTo>
                    <a:pt x="5825" y="12"/>
                  </a:lnTo>
                  <a:lnTo>
                    <a:pt x="5241" y="12"/>
                  </a:lnTo>
                  <a:lnTo>
                    <a:pt x="5241" y="126"/>
                  </a:lnTo>
                  <a:lnTo>
                    <a:pt x="5475" y="127"/>
                  </a:lnTo>
                  <a:lnTo>
                    <a:pt x="5475" y="869"/>
                  </a:lnTo>
                  <a:lnTo>
                    <a:pt x="5590" y="869"/>
                  </a:lnTo>
                  <a:lnTo>
                    <a:pt x="5590" y="127"/>
                  </a:lnTo>
                  <a:lnTo>
                    <a:pt x="5825" y="127"/>
                  </a:lnTo>
                  <a:lnTo>
                    <a:pt x="5825" y="12"/>
                  </a:lnTo>
                  <a:lnTo>
                    <a:pt x="1874" y="372"/>
                  </a:lnTo>
                  <a:lnTo>
                    <a:pt x="6706" y="619"/>
                  </a:lnTo>
                  <a:lnTo>
                    <a:pt x="6706" y="12"/>
                  </a:lnTo>
                  <a:lnTo>
                    <a:pt x="6591" y="12"/>
                  </a:lnTo>
                  <a:lnTo>
                    <a:pt x="6591" y="494"/>
                  </a:lnTo>
                  <a:lnTo>
                    <a:pt x="6591" y="867"/>
                  </a:lnTo>
                  <a:lnTo>
                    <a:pt x="7002" y="867"/>
                  </a:lnTo>
                  <a:lnTo>
                    <a:pt x="7002" y="753"/>
                  </a:lnTo>
                  <a:lnTo>
                    <a:pt x="6706" y="752"/>
                  </a:lnTo>
                  <a:lnTo>
                    <a:pt x="6706" y="619"/>
                  </a:lnTo>
                  <a:lnTo>
                    <a:pt x="1874" y="372"/>
                  </a:lnTo>
                  <a:lnTo>
                    <a:pt x="4362" y="869"/>
                  </a:lnTo>
                  <a:lnTo>
                    <a:pt x="4477" y="869"/>
                  </a:lnTo>
                  <a:lnTo>
                    <a:pt x="4477" y="523"/>
                  </a:lnTo>
                  <a:lnTo>
                    <a:pt x="4594" y="523"/>
                  </a:lnTo>
                  <a:lnTo>
                    <a:pt x="4613" y="522"/>
                  </a:lnTo>
                  <a:lnTo>
                    <a:pt x="4637" y="521"/>
                  </a:lnTo>
                  <a:lnTo>
                    <a:pt x="4659" y="518"/>
                  </a:lnTo>
                  <a:lnTo>
                    <a:pt x="4681" y="513"/>
                  </a:lnTo>
                  <a:lnTo>
                    <a:pt x="4701" y="506"/>
                  </a:lnTo>
                  <a:lnTo>
                    <a:pt x="4721" y="498"/>
                  </a:lnTo>
                  <a:lnTo>
                    <a:pt x="4739" y="488"/>
                  </a:lnTo>
                  <a:lnTo>
                    <a:pt x="4756" y="476"/>
                  </a:lnTo>
                  <a:lnTo>
                    <a:pt x="4771" y="463"/>
                  </a:lnTo>
                  <a:lnTo>
                    <a:pt x="4785" y="448"/>
                  </a:lnTo>
                  <a:lnTo>
                    <a:pt x="4798" y="432"/>
                  </a:lnTo>
                  <a:lnTo>
                    <a:pt x="4809" y="414"/>
                  </a:lnTo>
                  <a:lnTo>
                    <a:pt x="4818" y="395"/>
                  </a:lnTo>
                  <a:lnTo>
                    <a:pt x="4826" y="376"/>
                  </a:lnTo>
                  <a:lnTo>
                    <a:pt x="4833" y="355"/>
                  </a:lnTo>
                  <a:lnTo>
                    <a:pt x="4837" y="333"/>
                  </a:lnTo>
                  <a:lnTo>
                    <a:pt x="4839" y="310"/>
                  </a:lnTo>
                  <a:lnTo>
                    <a:pt x="4840" y="295"/>
                  </a:lnTo>
                  <a:lnTo>
                    <a:pt x="4840" y="248"/>
                  </a:lnTo>
                  <a:lnTo>
                    <a:pt x="4839" y="222"/>
                  </a:lnTo>
                  <a:lnTo>
                    <a:pt x="4837" y="198"/>
                  </a:lnTo>
                  <a:lnTo>
                    <a:pt x="4832" y="175"/>
                  </a:lnTo>
                  <a:lnTo>
                    <a:pt x="4825" y="153"/>
                  </a:lnTo>
                  <a:lnTo>
                    <a:pt x="4816" y="132"/>
                  </a:lnTo>
                  <a:lnTo>
                    <a:pt x="4806" y="112"/>
                  </a:lnTo>
                  <a:lnTo>
                    <a:pt x="4793" y="94"/>
                  </a:lnTo>
                  <a:lnTo>
                    <a:pt x="4779" y="78"/>
                  </a:lnTo>
                  <a:lnTo>
                    <a:pt x="4764" y="63"/>
                  </a:lnTo>
                  <a:lnTo>
                    <a:pt x="4746" y="50"/>
                  </a:lnTo>
                  <a:lnTo>
                    <a:pt x="4728" y="39"/>
                  </a:lnTo>
                  <a:lnTo>
                    <a:pt x="4707" y="29"/>
                  </a:lnTo>
                  <a:lnTo>
                    <a:pt x="4686" y="22"/>
                  </a:lnTo>
                  <a:lnTo>
                    <a:pt x="4663" y="17"/>
                  </a:lnTo>
                  <a:lnTo>
                    <a:pt x="4639" y="13"/>
                  </a:lnTo>
                  <a:lnTo>
                    <a:pt x="4614" y="12"/>
                  </a:lnTo>
                  <a:lnTo>
                    <a:pt x="4361" y="12"/>
                  </a:lnTo>
                  <a:lnTo>
                    <a:pt x="4477" y="127"/>
                  </a:lnTo>
                  <a:lnTo>
                    <a:pt x="4614" y="127"/>
                  </a:lnTo>
                  <a:lnTo>
                    <a:pt x="4628" y="128"/>
                  </a:lnTo>
                  <a:lnTo>
                    <a:pt x="4641" y="129"/>
                  </a:lnTo>
                  <a:lnTo>
                    <a:pt x="4653" y="132"/>
                  </a:lnTo>
                  <a:lnTo>
                    <a:pt x="4664" y="135"/>
                  </a:lnTo>
                  <a:lnTo>
                    <a:pt x="4674" y="140"/>
                  </a:lnTo>
                  <a:lnTo>
                    <a:pt x="4683" y="145"/>
                  </a:lnTo>
                  <a:lnTo>
                    <a:pt x="4691" y="151"/>
                  </a:lnTo>
                  <a:lnTo>
                    <a:pt x="4698" y="158"/>
                  </a:lnTo>
                  <a:lnTo>
                    <a:pt x="4705" y="166"/>
                  </a:lnTo>
                  <a:lnTo>
                    <a:pt x="4711" y="175"/>
                  </a:lnTo>
                  <a:lnTo>
                    <a:pt x="4716" y="185"/>
                  </a:lnTo>
                  <a:lnTo>
                    <a:pt x="4720" y="196"/>
                  </a:lnTo>
                  <a:lnTo>
                    <a:pt x="4723" y="207"/>
                  </a:lnTo>
                  <a:lnTo>
                    <a:pt x="4726" y="220"/>
                  </a:lnTo>
                  <a:lnTo>
                    <a:pt x="4727" y="233"/>
                  </a:lnTo>
                  <a:lnTo>
                    <a:pt x="4728" y="248"/>
                  </a:lnTo>
                  <a:lnTo>
                    <a:pt x="4728" y="286"/>
                  </a:lnTo>
                  <a:lnTo>
                    <a:pt x="4726" y="310"/>
                  </a:lnTo>
                  <a:lnTo>
                    <a:pt x="4724" y="321"/>
                  </a:lnTo>
                  <a:lnTo>
                    <a:pt x="4721" y="332"/>
                  </a:lnTo>
                  <a:lnTo>
                    <a:pt x="4718" y="342"/>
                  </a:lnTo>
                  <a:lnTo>
                    <a:pt x="4715" y="351"/>
                  </a:lnTo>
                  <a:lnTo>
                    <a:pt x="4710" y="359"/>
                  </a:lnTo>
                  <a:lnTo>
                    <a:pt x="4705" y="367"/>
                  </a:lnTo>
                  <a:lnTo>
                    <a:pt x="4699" y="374"/>
                  </a:lnTo>
                  <a:lnTo>
                    <a:pt x="4693" y="381"/>
                  </a:lnTo>
                  <a:lnTo>
                    <a:pt x="4686" y="386"/>
                  </a:lnTo>
                  <a:lnTo>
                    <a:pt x="4678" y="391"/>
                  </a:lnTo>
                  <a:lnTo>
                    <a:pt x="4669" y="396"/>
                  </a:lnTo>
                  <a:lnTo>
                    <a:pt x="4660" y="399"/>
                  </a:lnTo>
                  <a:lnTo>
                    <a:pt x="4650" y="402"/>
                  </a:lnTo>
                  <a:lnTo>
                    <a:pt x="4640" y="404"/>
                  </a:lnTo>
                  <a:lnTo>
                    <a:pt x="4628" y="406"/>
                  </a:lnTo>
                  <a:lnTo>
                    <a:pt x="4616" y="406"/>
                  </a:lnTo>
                  <a:lnTo>
                    <a:pt x="4569" y="408"/>
                  </a:lnTo>
                  <a:lnTo>
                    <a:pt x="4477" y="408"/>
                  </a:lnTo>
                  <a:lnTo>
                    <a:pt x="4477" y="127"/>
                  </a:lnTo>
                  <a:lnTo>
                    <a:pt x="4361" y="12"/>
                  </a:lnTo>
                  <a:lnTo>
                    <a:pt x="4362" y="869"/>
                  </a:lnTo>
                  <a:lnTo>
                    <a:pt x="1874" y="372"/>
                  </a:lnTo>
                  <a:lnTo>
                    <a:pt x="3999" y="372"/>
                  </a:lnTo>
                  <a:lnTo>
                    <a:pt x="3930" y="345"/>
                  </a:lnTo>
                  <a:lnTo>
                    <a:pt x="3914" y="338"/>
                  </a:lnTo>
                  <a:lnTo>
                    <a:pt x="3899" y="330"/>
                  </a:lnTo>
                  <a:lnTo>
                    <a:pt x="3885" y="323"/>
                  </a:lnTo>
                  <a:lnTo>
                    <a:pt x="3872" y="315"/>
                  </a:lnTo>
                  <a:lnTo>
                    <a:pt x="3861" y="306"/>
                  </a:lnTo>
                  <a:lnTo>
                    <a:pt x="3850" y="297"/>
                  </a:lnTo>
                  <a:lnTo>
                    <a:pt x="3842" y="288"/>
                  </a:lnTo>
                  <a:lnTo>
                    <a:pt x="3834" y="278"/>
                  </a:lnTo>
                  <a:lnTo>
                    <a:pt x="3828" y="266"/>
                  </a:lnTo>
                  <a:lnTo>
                    <a:pt x="3824" y="253"/>
                  </a:lnTo>
                  <a:lnTo>
                    <a:pt x="3821" y="239"/>
                  </a:lnTo>
                  <a:lnTo>
                    <a:pt x="3820" y="223"/>
                  </a:lnTo>
                  <a:lnTo>
                    <a:pt x="3821" y="212"/>
                  </a:lnTo>
                  <a:lnTo>
                    <a:pt x="3823" y="200"/>
                  </a:lnTo>
                  <a:lnTo>
                    <a:pt x="3826" y="190"/>
                  </a:lnTo>
                  <a:lnTo>
                    <a:pt x="3829" y="180"/>
                  </a:lnTo>
                  <a:lnTo>
                    <a:pt x="3834" y="170"/>
                  </a:lnTo>
                  <a:lnTo>
                    <a:pt x="3840" y="162"/>
                  </a:lnTo>
                  <a:lnTo>
                    <a:pt x="3847" y="154"/>
                  </a:lnTo>
                  <a:lnTo>
                    <a:pt x="3854" y="147"/>
                  </a:lnTo>
                  <a:lnTo>
                    <a:pt x="3863" y="141"/>
                  </a:lnTo>
                  <a:lnTo>
                    <a:pt x="3872" y="135"/>
                  </a:lnTo>
                  <a:lnTo>
                    <a:pt x="3882" y="130"/>
                  </a:lnTo>
                  <a:lnTo>
                    <a:pt x="3893" y="126"/>
                  </a:lnTo>
                  <a:lnTo>
                    <a:pt x="3904" y="123"/>
                  </a:lnTo>
                  <a:lnTo>
                    <a:pt x="3917" y="121"/>
                  </a:lnTo>
                  <a:lnTo>
                    <a:pt x="3929" y="119"/>
                  </a:lnTo>
                  <a:lnTo>
                    <a:pt x="3943" y="119"/>
                  </a:lnTo>
                  <a:lnTo>
                    <a:pt x="3956" y="119"/>
                  </a:lnTo>
                  <a:lnTo>
                    <a:pt x="3969" y="121"/>
                  </a:lnTo>
                  <a:lnTo>
                    <a:pt x="3982" y="124"/>
                  </a:lnTo>
                  <a:lnTo>
                    <a:pt x="3995" y="127"/>
                  </a:lnTo>
                  <a:lnTo>
                    <a:pt x="4007" y="131"/>
                  </a:lnTo>
                  <a:lnTo>
                    <a:pt x="4019" y="136"/>
                  </a:lnTo>
                  <a:lnTo>
                    <a:pt x="4041" y="146"/>
                  </a:lnTo>
                  <a:lnTo>
                    <a:pt x="4059" y="156"/>
                  </a:lnTo>
                  <a:lnTo>
                    <a:pt x="4073" y="165"/>
                  </a:lnTo>
                  <a:lnTo>
                    <a:pt x="4085" y="174"/>
                  </a:lnTo>
                  <a:lnTo>
                    <a:pt x="4167" y="92"/>
                  </a:lnTo>
                  <a:lnTo>
                    <a:pt x="4156" y="82"/>
                  </a:lnTo>
                  <a:lnTo>
                    <a:pt x="4144" y="72"/>
                  </a:lnTo>
                  <a:lnTo>
                    <a:pt x="4132" y="62"/>
                  </a:lnTo>
                  <a:lnTo>
                    <a:pt x="4118" y="54"/>
                  </a:lnTo>
                  <a:lnTo>
                    <a:pt x="4105" y="46"/>
                  </a:lnTo>
                  <a:lnTo>
                    <a:pt x="4091" y="38"/>
                  </a:lnTo>
                  <a:lnTo>
                    <a:pt x="4076" y="31"/>
                  </a:lnTo>
                  <a:lnTo>
                    <a:pt x="4062" y="25"/>
                  </a:lnTo>
                  <a:lnTo>
                    <a:pt x="4047" y="19"/>
                  </a:lnTo>
                  <a:lnTo>
                    <a:pt x="4032" y="14"/>
                  </a:lnTo>
                  <a:lnTo>
                    <a:pt x="4017" y="10"/>
                  </a:lnTo>
                  <a:lnTo>
                    <a:pt x="4001" y="7"/>
                  </a:lnTo>
                  <a:lnTo>
                    <a:pt x="3986" y="4"/>
                  </a:lnTo>
                  <a:lnTo>
                    <a:pt x="3972" y="2"/>
                  </a:lnTo>
                  <a:lnTo>
                    <a:pt x="3957" y="1"/>
                  </a:lnTo>
                  <a:lnTo>
                    <a:pt x="3943" y="0"/>
                  </a:lnTo>
                  <a:lnTo>
                    <a:pt x="3920" y="1"/>
                  </a:lnTo>
                  <a:lnTo>
                    <a:pt x="3898" y="4"/>
                  </a:lnTo>
                  <a:lnTo>
                    <a:pt x="3876" y="9"/>
                  </a:lnTo>
                  <a:lnTo>
                    <a:pt x="3854" y="15"/>
                  </a:lnTo>
                  <a:lnTo>
                    <a:pt x="3833" y="23"/>
                  </a:lnTo>
                  <a:lnTo>
                    <a:pt x="3813" y="33"/>
                  </a:lnTo>
                  <a:lnTo>
                    <a:pt x="3794" y="45"/>
                  </a:lnTo>
                  <a:lnTo>
                    <a:pt x="3776" y="58"/>
                  </a:lnTo>
                  <a:lnTo>
                    <a:pt x="3759" y="73"/>
                  </a:lnTo>
                  <a:lnTo>
                    <a:pt x="3751" y="81"/>
                  </a:lnTo>
                  <a:lnTo>
                    <a:pt x="3744" y="90"/>
                  </a:lnTo>
                  <a:lnTo>
                    <a:pt x="3737" y="99"/>
                  </a:lnTo>
                  <a:lnTo>
                    <a:pt x="3731" y="108"/>
                  </a:lnTo>
                  <a:lnTo>
                    <a:pt x="3725" y="118"/>
                  </a:lnTo>
                  <a:lnTo>
                    <a:pt x="3719" y="128"/>
                  </a:lnTo>
                  <a:lnTo>
                    <a:pt x="3714" y="139"/>
                  </a:lnTo>
                  <a:lnTo>
                    <a:pt x="3710" y="150"/>
                  </a:lnTo>
                  <a:lnTo>
                    <a:pt x="3706" y="161"/>
                  </a:lnTo>
                  <a:lnTo>
                    <a:pt x="3703" y="173"/>
                  </a:lnTo>
                  <a:lnTo>
                    <a:pt x="3701" y="185"/>
                  </a:lnTo>
                  <a:lnTo>
                    <a:pt x="3699" y="198"/>
                  </a:lnTo>
                  <a:lnTo>
                    <a:pt x="3698" y="210"/>
                  </a:lnTo>
                  <a:lnTo>
                    <a:pt x="3698" y="223"/>
                  </a:lnTo>
                  <a:lnTo>
                    <a:pt x="3698" y="237"/>
                  </a:lnTo>
                  <a:lnTo>
                    <a:pt x="3699" y="250"/>
                  </a:lnTo>
                  <a:lnTo>
                    <a:pt x="3700" y="262"/>
                  </a:lnTo>
                  <a:lnTo>
                    <a:pt x="3702" y="274"/>
                  </a:lnTo>
                  <a:lnTo>
                    <a:pt x="3705" y="286"/>
                  </a:lnTo>
                  <a:lnTo>
                    <a:pt x="3708" y="297"/>
                  </a:lnTo>
                  <a:lnTo>
                    <a:pt x="3711" y="308"/>
                  </a:lnTo>
                  <a:lnTo>
                    <a:pt x="3715" y="318"/>
                  </a:lnTo>
                  <a:lnTo>
                    <a:pt x="3725" y="337"/>
                  </a:lnTo>
                  <a:lnTo>
                    <a:pt x="3735" y="354"/>
                  </a:lnTo>
                  <a:lnTo>
                    <a:pt x="3748" y="369"/>
                  </a:lnTo>
                  <a:lnTo>
                    <a:pt x="3762" y="383"/>
                  </a:lnTo>
                  <a:lnTo>
                    <a:pt x="3773" y="393"/>
                  </a:lnTo>
                  <a:lnTo>
                    <a:pt x="3784" y="402"/>
                  </a:lnTo>
                  <a:lnTo>
                    <a:pt x="3796" y="410"/>
                  </a:lnTo>
                  <a:lnTo>
                    <a:pt x="3808" y="417"/>
                  </a:lnTo>
                  <a:lnTo>
                    <a:pt x="3834" y="431"/>
                  </a:lnTo>
                  <a:lnTo>
                    <a:pt x="3860" y="443"/>
                  </a:lnTo>
                  <a:lnTo>
                    <a:pt x="3887" y="454"/>
                  </a:lnTo>
                  <a:lnTo>
                    <a:pt x="3913" y="465"/>
                  </a:lnTo>
                  <a:lnTo>
                    <a:pt x="3939" y="475"/>
                  </a:lnTo>
                  <a:lnTo>
                    <a:pt x="3964" y="486"/>
                  </a:lnTo>
                  <a:lnTo>
                    <a:pt x="3987" y="498"/>
                  </a:lnTo>
                  <a:lnTo>
                    <a:pt x="4008" y="511"/>
                  </a:lnTo>
                  <a:lnTo>
                    <a:pt x="4018" y="518"/>
                  </a:lnTo>
                  <a:lnTo>
                    <a:pt x="4027" y="525"/>
                  </a:lnTo>
                  <a:lnTo>
                    <a:pt x="4035" y="532"/>
                  </a:lnTo>
                  <a:lnTo>
                    <a:pt x="4043" y="541"/>
                  </a:lnTo>
                  <a:lnTo>
                    <a:pt x="4050" y="549"/>
                  </a:lnTo>
                  <a:lnTo>
                    <a:pt x="4056" y="559"/>
                  </a:lnTo>
                  <a:lnTo>
                    <a:pt x="4061" y="569"/>
                  </a:lnTo>
                  <a:lnTo>
                    <a:pt x="4065" y="580"/>
                  </a:lnTo>
                  <a:lnTo>
                    <a:pt x="4069" y="592"/>
                  </a:lnTo>
                  <a:lnTo>
                    <a:pt x="4072" y="605"/>
                  </a:lnTo>
                  <a:lnTo>
                    <a:pt x="4073" y="619"/>
                  </a:lnTo>
                  <a:lnTo>
                    <a:pt x="4074" y="634"/>
                  </a:lnTo>
                  <a:lnTo>
                    <a:pt x="4073" y="647"/>
                  </a:lnTo>
                  <a:lnTo>
                    <a:pt x="4071" y="660"/>
                  </a:lnTo>
                  <a:lnTo>
                    <a:pt x="4067" y="672"/>
                  </a:lnTo>
                  <a:lnTo>
                    <a:pt x="4063" y="684"/>
                  </a:lnTo>
                  <a:lnTo>
                    <a:pt x="4057" y="696"/>
                  </a:lnTo>
                  <a:lnTo>
                    <a:pt x="4050" y="707"/>
                  </a:lnTo>
                  <a:lnTo>
                    <a:pt x="4042" y="717"/>
                  </a:lnTo>
                  <a:lnTo>
                    <a:pt x="4033" y="726"/>
                  </a:lnTo>
                  <a:lnTo>
                    <a:pt x="4024" y="735"/>
                  </a:lnTo>
                  <a:lnTo>
                    <a:pt x="4013" y="742"/>
                  </a:lnTo>
                  <a:lnTo>
                    <a:pt x="4002" y="749"/>
                  </a:lnTo>
                  <a:lnTo>
                    <a:pt x="3990" y="755"/>
                  </a:lnTo>
                  <a:lnTo>
                    <a:pt x="3978" y="759"/>
                  </a:lnTo>
                  <a:lnTo>
                    <a:pt x="3965" y="762"/>
                  </a:lnTo>
                  <a:lnTo>
                    <a:pt x="3953" y="764"/>
                  </a:lnTo>
                  <a:lnTo>
                    <a:pt x="3939" y="765"/>
                  </a:lnTo>
                  <a:lnTo>
                    <a:pt x="3923" y="764"/>
                  </a:lnTo>
                  <a:lnTo>
                    <a:pt x="3908" y="762"/>
                  </a:lnTo>
                  <a:lnTo>
                    <a:pt x="3893" y="758"/>
                  </a:lnTo>
                  <a:lnTo>
                    <a:pt x="3878" y="753"/>
                  </a:lnTo>
                  <a:lnTo>
                    <a:pt x="3865" y="748"/>
                  </a:lnTo>
                  <a:lnTo>
                    <a:pt x="3852" y="742"/>
                  </a:lnTo>
                  <a:lnTo>
                    <a:pt x="3840" y="735"/>
                  </a:lnTo>
                  <a:lnTo>
                    <a:pt x="3829" y="729"/>
                  </a:lnTo>
                  <a:lnTo>
                    <a:pt x="3810" y="715"/>
                  </a:lnTo>
                  <a:lnTo>
                    <a:pt x="3796" y="704"/>
                  </a:lnTo>
                  <a:lnTo>
                    <a:pt x="3784" y="693"/>
                  </a:lnTo>
                  <a:lnTo>
                    <a:pt x="3704" y="773"/>
                  </a:lnTo>
                  <a:lnTo>
                    <a:pt x="3715" y="786"/>
                  </a:lnTo>
                  <a:lnTo>
                    <a:pt x="3727" y="797"/>
                  </a:lnTo>
                  <a:lnTo>
                    <a:pt x="3739" y="809"/>
                  </a:lnTo>
                  <a:lnTo>
                    <a:pt x="3752" y="819"/>
                  </a:lnTo>
                  <a:lnTo>
                    <a:pt x="3766" y="829"/>
                  </a:lnTo>
                  <a:lnTo>
                    <a:pt x="3781" y="838"/>
                  </a:lnTo>
                  <a:lnTo>
                    <a:pt x="3795" y="846"/>
                  </a:lnTo>
                  <a:lnTo>
                    <a:pt x="3811" y="853"/>
                  </a:lnTo>
                  <a:lnTo>
                    <a:pt x="3826" y="860"/>
                  </a:lnTo>
                  <a:lnTo>
                    <a:pt x="3842" y="866"/>
                  </a:lnTo>
                  <a:lnTo>
                    <a:pt x="3858" y="871"/>
                  </a:lnTo>
                  <a:lnTo>
                    <a:pt x="3874" y="875"/>
                  </a:lnTo>
                  <a:lnTo>
                    <a:pt x="3890" y="878"/>
                  </a:lnTo>
                  <a:lnTo>
                    <a:pt x="3907" y="880"/>
                  </a:lnTo>
                  <a:lnTo>
                    <a:pt x="3923" y="882"/>
                  </a:lnTo>
                  <a:lnTo>
                    <a:pt x="3939" y="882"/>
                  </a:lnTo>
                  <a:lnTo>
                    <a:pt x="3952" y="882"/>
                  </a:lnTo>
                  <a:lnTo>
                    <a:pt x="3964" y="881"/>
                  </a:lnTo>
                  <a:lnTo>
                    <a:pt x="3976" y="879"/>
                  </a:lnTo>
                  <a:lnTo>
                    <a:pt x="3989" y="877"/>
                  </a:lnTo>
                  <a:lnTo>
                    <a:pt x="4013" y="871"/>
                  </a:lnTo>
                  <a:lnTo>
                    <a:pt x="4036" y="862"/>
                  </a:lnTo>
                  <a:lnTo>
                    <a:pt x="4058" y="852"/>
                  </a:lnTo>
                  <a:lnTo>
                    <a:pt x="4079" y="840"/>
                  </a:lnTo>
                  <a:lnTo>
                    <a:pt x="4099" y="825"/>
                  </a:lnTo>
                  <a:lnTo>
                    <a:pt x="4118" y="809"/>
                  </a:lnTo>
                  <a:lnTo>
                    <a:pt x="4135" y="792"/>
                  </a:lnTo>
                  <a:lnTo>
                    <a:pt x="4150" y="773"/>
                  </a:lnTo>
                  <a:lnTo>
                    <a:pt x="4163" y="752"/>
                  </a:lnTo>
                  <a:lnTo>
                    <a:pt x="4169" y="741"/>
                  </a:lnTo>
                  <a:lnTo>
                    <a:pt x="4175" y="730"/>
                  </a:lnTo>
                  <a:lnTo>
                    <a:pt x="4180" y="719"/>
                  </a:lnTo>
                  <a:lnTo>
                    <a:pt x="4184" y="708"/>
                  </a:lnTo>
                  <a:lnTo>
                    <a:pt x="4188" y="696"/>
                  </a:lnTo>
                  <a:lnTo>
                    <a:pt x="4191" y="684"/>
                  </a:lnTo>
                  <a:lnTo>
                    <a:pt x="4193" y="672"/>
                  </a:lnTo>
                  <a:lnTo>
                    <a:pt x="4195" y="659"/>
                  </a:lnTo>
                  <a:lnTo>
                    <a:pt x="4196" y="646"/>
                  </a:lnTo>
                  <a:lnTo>
                    <a:pt x="4196" y="634"/>
                  </a:lnTo>
                  <a:lnTo>
                    <a:pt x="4196" y="619"/>
                  </a:lnTo>
                  <a:lnTo>
                    <a:pt x="4195" y="604"/>
                  </a:lnTo>
                  <a:lnTo>
                    <a:pt x="4194" y="590"/>
                  </a:lnTo>
                  <a:lnTo>
                    <a:pt x="4192" y="577"/>
                  </a:lnTo>
                  <a:lnTo>
                    <a:pt x="4190" y="565"/>
                  </a:lnTo>
                  <a:lnTo>
                    <a:pt x="4187" y="552"/>
                  </a:lnTo>
                  <a:lnTo>
                    <a:pt x="4183" y="541"/>
                  </a:lnTo>
                  <a:lnTo>
                    <a:pt x="4179" y="529"/>
                  </a:lnTo>
                  <a:lnTo>
                    <a:pt x="4170" y="509"/>
                  </a:lnTo>
                  <a:lnTo>
                    <a:pt x="4159" y="489"/>
                  </a:lnTo>
                  <a:lnTo>
                    <a:pt x="4147" y="472"/>
                  </a:lnTo>
                  <a:lnTo>
                    <a:pt x="4133" y="456"/>
                  </a:lnTo>
                  <a:lnTo>
                    <a:pt x="4119" y="442"/>
                  </a:lnTo>
                  <a:lnTo>
                    <a:pt x="4103" y="429"/>
                  </a:lnTo>
                  <a:lnTo>
                    <a:pt x="4087" y="417"/>
                  </a:lnTo>
                  <a:lnTo>
                    <a:pt x="4070" y="406"/>
                  </a:lnTo>
                  <a:lnTo>
                    <a:pt x="4052" y="397"/>
                  </a:lnTo>
                  <a:lnTo>
                    <a:pt x="4034" y="388"/>
                  </a:lnTo>
                  <a:lnTo>
                    <a:pt x="4016" y="380"/>
                  </a:lnTo>
                  <a:lnTo>
                    <a:pt x="3999" y="372"/>
                  </a:lnTo>
                  <a:lnTo>
                    <a:pt x="1874" y="372"/>
                  </a:lnTo>
                  <a:lnTo>
                    <a:pt x="3038" y="749"/>
                  </a:lnTo>
                  <a:lnTo>
                    <a:pt x="3048" y="764"/>
                  </a:lnTo>
                  <a:lnTo>
                    <a:pt x="3058" y="778"/>
                  </a:lnTo>
                  <a:lnTo>
                    <a:pt x="3070" y="791"/>
                  </a:lnTo>
                  <a:lnTo>
                    <a:pt x="3082" y="804"/>
                  </a:lnTo>
                  <a:lnTo>
                    <a:pt x="3094" y="816"/>
                  </a:lnTo>
                  <a:lnTo>
                    <a:pt x="3107" y="827"/>
                  </a:lnTo>
                  <a:lnTo>
                    <a:pt x="3121" y="837"/>
                  </a:lnTo>
                  <a:lnTo>
                    <a:pt x="3136" y="846"/>
                  </a:lnTo>
                  <a:lnTo>
                    <a:pt x="3151" y="854"/>
                  </a:lnTo>
                  <a:lnTo>
                    <a:pt x="3167" y="861"/>
                  </a:lnTo>
                  <a:lnTo>
                    <a:pt x="3184" y="868"/>
                  </a:lnTo>
                  <a:lnTo>
                    <a:pt x="3201" y="873"/>
                  </a:lnTo>
                  <a:lnTo>
                    <a:pt x="3219" y="877"/>
                  </a:lnTo>
                  <a:lnTo>
                    <a:pt x="3237" y="880"/>
                  </a:lnTo>
                  <a:lnTo>
                    <a:pt x="3256" y="882"/>
                  </a:lnTo>
                  <a:lnTo>
                    <a:pt x="3276" y="882"/>
                  </a:lnTo>
                  <a:lnTo>
                    <a:pt x="3277" y="882"/>
                  </a:lnTo>
                  <a:lnTo>
                    <a:pt x="3296" y="881"/>
                  </a:lnTo>
                  <a:lnTo>
                    <a:pt x="3315" y="880"/>
                  </a:lnTo>
                  <a:lnTo>
                    <a:pt x="3333" y="877"/>
                  </a:lnTo>
                  <a:lnTo>
                    <a:pt x="3351" y="873"/>
                  </a:lnTo>
                  <a:lnTo>
                    <a:pt x="3368" y="867"/>
                  </a:lnTo>
                  <a:lnTo>
                    <a:pt x="3385" y="861"/>
                  </a:lnTo>
                  <a:lnTo>
                    <a:pt x="3401" y="854"/>
                  </a:lnTo>
                  <a:lnTo>
                    <a:pt x="3416" y="846"/>
                  </a:lnTo>
                  <a:lnTo>
                    <a:pt x="3430" y="837"/>
                  </a:lnTo>
                  <a:lnTo>
                    <a:pt x="3444" y="826"/>
                  </a:lnTo>
                  <a:lnTo>
                    <a:pt x="3458" y="815"/>
                  </a:lnTo>
                  <a:lnTo>
                    <a:pt x="3470" y="804"/>
                  </a:lnTo>
                  <a:lnTo>
                    <a:pt x="3482" y="791"/>
                  </a:lnTo>
                  <a:lnTo>
                    <a:pt x="3493" y="778"/>
                  </a:lnTo>
                  <a:lnTo>
                    <a:pt x="3504" y="764"/>
                  </a:lnTo>
                  <a:lnTo>
                    <a:pt x="3514" y="749"/>
                  </a:lnTo>
                  <a:lnTo>
                    <a:pt x="3523" y="733"/>
                  </a:lnTo>
                  <a:lnTo>
                    <a:pt x="3532" y="717"/>
                  </a:lnTo>
                  <a:lnTo>
                    <a:pt x="3540" y="700"/>
                  </a:lnTo>
                  <a:lnTo>
                    <a:pt x="3547" y="683"/>
                  </a:lnTo>
                  <a:lnTo>
                    <a:pt x="3554" y="665"/>
                  </a:lnTo>
                  <a:lnTo>
                    <a:pt x="3560" y="647"/>
                  </a:lnTo>
                  <a:lnTo>
                    <a:pt x="3565" y="628"/>
                  </a:lnTo>
                  <a:lnTo>
                    <a:pt x="3570" y="608"/>
                  </a:lnTo>
                  <a:lnTo>
                    <a:pt x="3575" y="589"/>
                  </a:lnTo>
                  <a:lnTo>
                    <a:pt x="3578" y="569"/>
                  </a:lnTo>
                  <a:lnTo>
                    <a:pt x="3582" y="548"/>
                  </a:lnTo>
                  <a:lnTo>
                    <a:pt x="3584" y="527"/>
                  </a:lnTo>
                  <a:lnTo>
                    <a:pt x="3588" y="484"/>
                  </a:lnTo>
                  <a:lnTo>
                    <a:pt x="3589" y="441"/>
                  </a:lnTo>
                  <a:lnTo>
                    <a:pt x="3588" y="397"/>
                  </a:lnTo>
                  <a:lnTo>
                    <a:pt x="3584" y="354"/>
                  </a:lnTo>
                  <a:lnTo>
                    <a:pt x="3582" y="333"/>
                  </a:lnTo>
                  <a:lnTo>
                    <a:pt x="3578" y="313"/>
                  </a:lnTo>
                  <a:lnTo>
                    <a:pt x="3575" y="293"/>
                  </a:lnTo>
                  <a:lnTo>
                    <a:pt x="3570" y="273"/>
                  </a:lnTo>
                  <a:lnTo>
                    <a:pt x="3565" y="254"/>
                  </a:lnTo>
                  <a:lnTo>
                    <a:pt x="3560" y="235"/>
                  </a:lnTo>
                  <a:lnTo>
                    <a:pt x="3554" y="216"/>
                  </a:lnTo>
                  <a:lnTo>
                    <a:pt x="3547" y="199"/>
                  </a:lnTo>
                  <a:lnTo>
                    <a:pt x="3540" y="181"/>
                  </a:lnTo>
                  <a:lnTo>
                    <a:pt x="3532" y="165"/>
                  </a:lnTo>
                  <a:lnTo>
                    <a:pt x="3523" y="149"/>
                  </a:lnTo>
                  <a:lnTo>
                    <a:pt x="3514" y="133"/>
                  </a:lnTo>
                  <a:lnTo>
                    <a:pt x="3504" y="118"/>
                  </a:lnTo>
                  <a:lnTo>
                    <a:pt x="3493" y="104"/>
                  </a:lnTo>
                  <a:lnTo>
                    <a:pt x="3482" y="91"/>
                  </a:lnTo>
                  <a:lnTo>
                    <a:pt x="3470" y="78"/>
                  </a:lnTo>
                  <a:lnTo>
                    <a:pt x="3457" y="66"/>
                  </a:lnTo>
                  <a:lnTo>
                    <a:pt x="3444" y="55"/>
                  </a:lnTo>
                  <a:lnTo>
                    <a:pt x="3430" y="45"/>
                  </a:lnTo>
                  <a:lnTo>
                    <a:pt x="3416" y="36"/>
                  </a:lnTo>
                  <a:lnTo>
                    <a:pt x="3400" y="28"/>
                  </a:lnTo>
                  <a:lnTo>
                    <a:pt x="3384" y="21"/>
                  </a:lnTo>
                  <a:lnTo>
                    <a:pt x="3368" y="15"/>
                  </a:lnTo>
                  <a:lnTo>
                    <a:pt x="3351" y="10"/>
                  </a:lnTo>
                  <a:lnTo>
                    <a:pt x="3333" y="6"/>
                  </a:lnTo>
                  <a:lnTo>
                    <a:pt x="3314" y="3"/>
                  </a:lnTo>
                  <a:lnTo>
                    <a:pt x="3295" y="1"/>
                  </a:lnTo>
                  <a:lnTo>
                    <a:pt x="3276" y="0"/>
                  </a:lnTo>
                  <a:lnTo>
                    <a:pt x="3256" y="1"/>
                  </a:lnTo>
                  <a:lnTo>
                    <a:pt x="3237" y="3"/>
                  </a:lnTo>
                  <a:lnTo>
                    <a:pt x="3219" y="6"/>
                  </a:lnTo>
                  <a:lnTo>
                    <a:pt x="3201" y="10"/>
                  </a:lnTo>
                  <a:lnTo>
                    <a:pt x="3184" y="15"/>
                  </a:lnTo>
                  <a:lnTo>
                    <a:pt x="3167" y="21"/>
                  </a:lnTo>
                  <a:lnTo>
                    <a:pt x="3151" y="28"/>
                  </a:lnTo>
                  <a:lnTo>
                    <a:pt x="3136" y="36"/>
                  </a:lnTo>
                  <a:lnTo>
                    <a:pt x="3121" y="45"/>
                  </a:lnTo>
                  <a:lnTo>
                    <a:pt x="3107" y="55"/>
                  </a:lnTo>
                  <a:lnTo>
                    <a:pt x="3094" y="66"/>
                  </a:lnTo>
                  <a:lnTo>
                    <a:pt x="3081" y="78"/>
                  </a:lnTo>
                  <a:lnTo>
                    <a:pt x="3070" y="91"/>
                  </a:lnTo>
                  <a:lnTo>
                    <a:pt x="3058" y="104"/>
                  </a:lnTo>
                  <a:lnTo>
                    <a:pt x="3048" y="118"/>
                  </a:lnTo>
                  <a:lnTo>
                    <a:pt x="3038" y="133"/>
                  </a:lnTo>
                  <a:lnTo>
                    <a:pt x="3029" y="149"/>
                  </a:lnTo>
                  <a:lnTo>
                    <a:pt x="3020" y="165"/>
                  </a:lnTo>
                  <a:lnTo>
                    <a:pt x="3012" y="181"/>
                  </a:lnTo>
                  <a:lnTo>
                    <a:pt x="3004" y="199"/>
                  </a:lnTo>
                  <a:lnTo>
                    <a:pt x="2998" y="216"/>
                  </a:lnTo>
                  <a:lnTo>
                    <a:pt x="2992" y="235"/>
                  </a:lnTo>
                  <a:lnTo>
                    <a:pt x="2986" y="254"/>
                  </a:lnTo>
                  <a:lnTo>
                    <a:pt x="2981" y="273"/>
                  </a:lnTo>
                  <a:lnTo>
                    <a:pt x="2977" y="293"/>
                  </a:lnTo>
                  <a:lnTo>
                    <a:pt x="2973" y="313"/>
                  </a:lnTo>
                  <a:lnTo>
                    <a:pt x="2970" y="333"/>
                  </a:lnTo>
                  <a:lnTo>
                    <a:pt x="2967" y="354"/>
                  </a:lnTo>
                  <a:lnTo>
                    <a:pt x="2964" y="397"/>
                  </a:lnTo>
                  <a:lnTo>
                    <a:pt x="2963" y="441"/>
                  </a:lnTo>
                  <a:lnTo>
                    <a:pt x="3086" y="441"/>
                  </a:lnTo>
                  <a:lnTo>
                    <a:pt x="3087" y="407"/>
                  </a:lnTo>
                  <a:lnTo>
                    <a:pt x="3090" y="374"/>
                  </a:lnTo>
                  <a:lnTo>
                    <a:pt x="3093" y="343"/>
                  </a:lnTo>
                  <a:lnTo>
                    <a:pt x="3099" y="313"/>
                  </a:lnTo>
                  <a:lnTo>
                    <a:pt x="3106" y="284"/>
                  </a:lnTo>
                  <a:lnTo>
                    <a:pt x="3114" y="257"/>
                  </a:lnTo>
                  <a:lnTo>
                    <a:pt x="3124" y="232"/>
                  </a:lnTo>
                  <a:lnTo>
                    <a:pt x="3136" y="210"/>
                  </a:lnTo>
                  <a:lnTo>
                    <a:pt x="3148" y="189"/>
                  </a:lnTo>
                  <a:lnTo>
                    <a:pt x="3155" y="180"/>
                  </a:lnTo>
                  <a:lnTo>
                    <a:pt x="3162" y="171"/>
                  </a:lnTo>
                  <a:lnTo>
                    <a:pt x="3170" y="163"/>
                  </a:lnTo>
                  <a:lnTo>
                    <a:pt x="3178" y="155"/>
                  </a:lnTo>
                  <a:lnTo>
                    <a:pt x="3186" y="149"/>
                  </a:lnTo>
                  <a:lnTo>
                    <a:pt x="3195" y="142"/>
                  </a:lnTo>
                  <a:lnTo>
                    <a:pt x="3203" y="137"/>
                  </a:lnTo>
                  <a:lnTo>
                    <a:pt x="3213" y="132"/>
                  </a:lnTo>
                  <a:lnTo>
                    <a:pt x="3222" y="128"/>
                  </a:lnTo>
                  <a:lnTo>
                    <a:pt x="3232" y="125"/>
                  </a:lnTo>
                  <a:lnTo>
                    <a:pt x="3242" y="122"/>
                  </a:lnTo>
                  <a:lnTo>
                    <a:pt x="3253" y="120"/>
                  </a:lnTo>
                  <a:lnTo>
                    <a:pt x="3264" y="119"/>
                  </a:lnTo>
                  <a:lnTo>
                    <a:pt x="3276" y="119"/>
                  </a:lnTo>
                  <a:lnTo>
                    <a:pt x="3287" y="119"/>
                  </a:lnTo>
                  <a:lnTo>
                    <a:pt x="3298" y="120"/>
                  </a:lnTo>
                  <a:lnTo>
                    <a:pt x="3309" y="122"/>
                  </a:lnTo>
                  <a:lnTo>
                    <a:pt x="3319" y="125"/>
                  </a:lnTo>
                  <a:lnTo>
                    <a:pt x="3329" y="128"/>
                  </a:lnTo>
                  <a:lnTo>
                    <a:pt x="3339" y="132"/>
                  </a:lnTo>
                  <a:lnTo>
                    <a:pt x="3348" y="137"/>
                  </a:lnTo>
                  <a:lnTo>
                    <a:pt x="3357" y="142"/>
                  </a:lnTo>
                  <a:lnTo>
                    <a:pt x="3365" y="149"/>
                  </a:lnTo>
                  <a:lnTo>
                    <a:pt x="3374" y="155"/>
                  </a:lnTo>
                  <a:lnTo>
                    <a:pt x="3381" y="163"/>
                  </a:lnTo>
                  <a:lnTo>
                    <a:pt x="3389" y="171"/>
                  </a:lnTo>
                  <a:lnTo>
                    <a:pt x="3396" y="180"/>
                  </a:lnTo>
                  <a:lnTo>
                    <a:pt x="3403" y="189"/>
                  </a:lnTo>
                  <a:lnTo>
                    <a:pt x="3416" y="210"/>
                  </a:lnTo>
                  <a:lnTo>
                    <a:pt x="3427" y="232"/>
                  </a:lnTo>
                  <a:lnTo>
                    <a:pt x="3437" y="257"/>
                  </a:lnTo>
                  <a:lnTo>
                    <a:pt x="3446" y="284"/>
                  </a:lnTo>
                  <a:lnTo>
                    <a:pt x="3452" y="313"/>
                  </a:lnTo>
                  <a:lnTo>
                    <a:pt x="3458" y="343"/>
                  </a:lnTo>
                  <a:lnTo>
                    <a:pt x="3462" y="374"/>
                  </a:lnTo>
                  <a:lnTo>
                    <a:pt x="3464" y="407"/>
                  </a:lnTo>
                  <a:lnTo>
                    <a:pt x="3465" y="441"/>
                  </a:lnTo>
                  <a:lnTo>
                    <a:pt x="3464" y="474"/>
                  </a:lnTo>
                  <a:lnTo>
                    <a:pt x="3462" y="507"/>
                  </a:lnTo>
                  <a:lnTo>
                    <a:pt x="3458" y="539"/>
                  </a:lnTo>
                  <a:lnTo>
                    <a:pt x="3452" y="569"/>
                  </a:lnTo>
                  <a:lnTo>
                    <a:pt x="3446" y="597"/>
                  </a:lnTo>
                  <a:lnTo>
                    <a:pt x="3437" y="624"/>
                  </a:lnTo>
                  <a:lnTo>
                    <a:pt x="3427" y="649"/>
                  </a:lnTo>
                  <a:lnTo>
                    <a:pt x="3416" y="672"/>
                  </a:lnTo>
                  <a:lnTo>
                    <a:pt x="3403" y="693"/>
                  </a:lnTo>
                  <a:lnTo>
                    <a:pt x="3396" y="702"/>
                  </a:lnTo>
                  <a:lnTo>
                    <a:pt x="3389" y="711"/>
                  </a:lnTo>
                  <a:lnTo>
                    <a:pt x="3381" y="719"/>
                  </a:lnTo>
                  <a:lnTo>
                    <a:pt x="3373" y="727"/>
                  </a:lnTo>
                  <a:lnTo>
                    <a:pt x="3365" y="734"/>
                  </a:lnTo>
                  <a:lnTo>
                    <a:pt x="3357" y="740"/>
                  </a:lnTo>
                  <a:lnTo>
                    <a:pt x="3348" y="745"/>
                  </a:lnTo>
                  <a:lnTo>
                    <a:pt x="3339" y="750"/>
                  </a:lnTo>
                  <a:lnTo>
                    <a:pt x="3329" y="754"/>
                  </a:lnTo>
                  <a:lnTo>
                    <a:pt x="3319" y="758"/>
                  </a:lnTo>
                  <a:lnTo>
                    <a:pt x="3309" y="760"/>
                  </a:lnTo>
                  <a:lnTo>
                    <a:pt x="3298" y="762"/>
                  </a:lnTo>
                  <a:lnTo>
                    <a:pt x="3287" y="763"/>
                  </a:lnTo>
                  <a:lnTo>
                    <a:pt x="3276" y="764"/>
                  </a:lnTo>
                  <a:lnTo>
                    <a:pt x="3264" y="763"/>
                  </a:lnTo>
                  <a:lnTo>
                    <a:pt x="3253" y="762"/>
                  </a:lnTo>
                  <a:lnTo>
                    <a:pt x="3242" y="760"/>
                  </a:lnTo>
                  <a:lnTo>
                    <a:pt x="3232" y="758"/>
                  </a:lnTo>
                  <a:lnTo>
                    <a:pt x="3222" y="754"/>
                  </a:lnTo>
                  <a:lnTo>
                    <a:pt x="3213" y="750"/>
                  </a:lnTo>
                  <a:lnTo>
                    <a:pt x="3203" y="745"/>
                  </a:lnTo>
                  <a:lnTo>
                    <a:pt x="3194" y="740"/>
                  </a:lnTo>
                  <a:lnTo>
                    <a:pt x="3186" y="734"/>
                  </a:lnTo>
                  <a:lnTo>
                    <a:pt x="3178" y="727"/>
                  </a:lnTo>
                  <a:lnTo>
                    <a:pt x="3170" y="719"/>
                  </a:lnTo>
                  <a:lnTo>
                    <a:pt x="3162" y="711"/>
                  </a:lnTo>
                  <a:lnTo>
                    <a:pt x="3155" y="702"/>
                  </a:lnTo>
                  <a:lnTo>
                    <a:pt x="3148" y="693"/>
                  </a:lnTo>
                  <a:lnTo>
                    <a:pt x="3136" y="672"/>
                  </a:lnTo>
                  <a:lnTo>
                    <a:pt x="3124" y="649"/>
                  </a:lnTo>
                  <a:lnTo>
                    <a:pt x="3114" y="624"/>
                  </a:lnTo>
                  <a:lnTo>
                    <a:pt x="3106" y="597"/>
                  </a:lnTo>
                  <a:lnTo>
                    <a:pt x="3099" y="569"/>
                  </a:lnTo>
                  <a:lnTo>
                    <a:pt x="3093" y="539"/>
                  </a:lnTo>
                  <a:lnTo>
                    <a:pt x="3090" y="507"/>
                  </a:lnTo>
                  <a:lnTo>
                    <a:pt x="3087" y="474"/>
                  </a:lnTo>
                  <a:lnTo>
                    <a:pt x="3086" y="441"/>
                  </a:lnTo>
                  <a:lnTo>
                    <a:pt x="2963" y="441"/>
                  </a:lnTo>
                  <a:lnTo>
                    <a:pt x="2964" y="484"/>
                  </a:lnTo>
                  <a:lnTo>
                    <a:pt x="2967" y="527"/>
                  </a:lnTo>
                  <a:lnTo>
                    <a:pt x="2970" y="548"/>
                  </a:lnTo>
                  <a:lnTo>
                    <a:pt x="2973" y="569"/>
                  </a:lnTo>
                  <a:lnTo>
                    <a:pt x="2977" y="589"/>
                  </a:lnTo>
                  <a:lnTo>
                    <a:pt x="2981" y="608"/>
                  </a:lnTo>
                  <a:lnTo>
                    <a:pt x="2986" y="628"/>
                  </a:lnTo>
                  <a:lnTo>
                    <a:pt x="2992" y="647"/>
                  </a:lnTo>
                  <a:lnTo>
                    <a:pt x="2998" y="665"/>
                  </a:lnTo>
                  <a:lnTo>
                    <a:pt x="3004" y="683"/>
                  </a:lnTo>
                  <a:lnTo>
                    <a:pt x="3012" y="700"/>
                  </a:lnTo>
                  <a:lnTo>
                    <a:pt x="3020" y="717"/>
                  </a:lnTo>
                  <a:lnTo>
                    <a:pt x="3028" y="733"/>
                  </a:lnTo>
                  <a:lnTo>
                    <a:pt x="3038" y="749"/>
                  </a:lnTo>
                  <a:lnTo>
                    <a:pt x="1874" y="372"/>
                  </a:lnTo>
                  <a:lnTo>
                    <a:pt x="7241" y="477"/>
                  </a:lnTo>
                  <a:lnTo>
                    <a:pt x="7499" y="477"/>
                  </a:lnTo>
                  <a:lnTo>
                    <a:pt x="7499" y="362"/>
                  </a:lnTo>
                  <a:lnTo>
                    <a:pt x="7241" y="362"/>
                  </a:lnTo>
                  <a:lnTo>
                    <a:pt x="7241" y="127"/>
                  </a:lnTo>
                  <a:lnTo>
                    <a:pt x="7545" y="127"/>
                  </a:lnTo>
                  <a:lnTo>
                    <a:pt x="7545" y="12"/>
                  </a:lnTo>
                  <a:lnTo>
                    <a:pt x="7126" y="12"/>
                  </a:lnTo>
                  <a:lnTo>
                    <a:pt x="7126" y="870"/>
                  </a:lnTo>
                  <a:lnTo>
                    <a:pt x="7557" y="870"/>
                  </a:lnTo>
                  <a:lnTo>
                    <a:pt x="7557" y="756"/>
                  </a:lnTo>
                  <a:lnTo>
                    <a:pt x="7241" y="755"/>
                  </a:lnTo>
                  <a:lnTo>
                    <a:pt x="7241" y="477"/>
                  </a:lnTo>
                  <a:lnTo>
                    <a:pt x="1874" y="372"/>
                  </a:lnTo>
                  <a:close/>
                </a:path>
              </a:pathLst>
            </a:custGeom>
            <a:solidFill>
              <a:srgbClr val="8b8d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51280" y="6308640"/>
              <a:ext cx="386280" cy="387000"/>
            </a:xfrm>
            <a:custGeom>
              <a:avLst/>
              <a:gdLst/>
              <a:ahLst/>
              <a:rect l="l" t="t" r="r" b="b"/>
              <a:pathLst>
                <a:path w="1716" h="1723">
                  <a:moveTo>
                    <a:pt x="1637" y="0"/>
                  </a:moveTo>
                  <a:lnTo>
                    <a:pt x="79" y="0"/>
                  </a:lnTo>
                  <a:lnTo>
                    <a:pt x="71" y="0"/>
                  </a:lnTo>
                  <a:lnTo>
                    <a:pt x="63" y="1"/>
                  </a:lnTo>
                  <a:lnTo>
                    <a:pt x="56" y="3"/>
                  </a:lnTo>
                  <a:lnTo>
                    <a:pt x="48" y="6"/>
                  </a:lnTo>
                  <a:lnTo>
                    <a:pt x="42" y="9"/>
                  </a:lnTo>
                  <a:lnTo>
                    <a:pt x="35" y="13"/>
                  </a:lnTo>
                  <a:lnTo>
                    <a:pt x="29" y="18"/>
                  </a:lnTo>
                  <a:lnTo>
                    <a:pt x="23" y="23"/>
                  </a:lnTo>
                  <a:lnTo>
                    <a:pt x="18" y="28"/>
                  </a:lnTo>
                  <a:lnTo>
                    <a:pt x="14" y="34"/>
                  </a:lnTo>
                  <a:lnTo>
                    <a:pt x="10" y="41"/>
                  </a:lnTo>
                  <a:lnTo>
                    <a:pt x="7" y="48"/>
                  </a:lnTo>
                  <a:lnTo>
                    <a:pt x="4" y="55"/>
                  </a:lnTo>
                  <a:lnTo>
                    <a:pt x="2" y="63"/>
                  </a:lnTo>
                  <a:lnTo>
                    <a:pt x="1" y="70"/>
                  </a:lnTo>
                  <a:lnTo>
                    <a:pt x="0" y="78"/>
                  </a:lnTo>
                  <a:lnTo>
                    <a:pt x="0" y="1645"/>
                  </a:lnTo>
                  <a:lnTo>
                    <a:pt x="1" y="1653"/>
                  </a:lnTo>
                  <a:lnTo>
                    <a:pt x="2" y="1660"/>
                  </a:lnTo>
                  <a:lnTo>
                    <a:pt x="4" y="1668"/>
                  </a:lnTo>
                  <a:lnTo>
                    <a:pt x="7" y="1675"/>
                  </a:lnTo>
                  <a:lnTo>
                    <a:pt x="10" y="1682"/>
                  </a:lnTo>
                  <a:lnTo>
                    <a:pt x="14" y="1689"/>
                  </a:lnTo>
                  <a:lnTo>
                    <a:pt x="18" y="1695"/>
                  </a:lnTo>
                  <a:lnTo>
                    <a:pt x="23" y="1700"/>
                  </a:lnTo>
                  <a:lnTo>
                    <a:pt x="29" y="1705"/>
                  </a:lnTo>
                  <a:lnTo>
                    <a:pt x="35" y="1710"/>
                  </a:lnTo>
                  <a:lnTo>
                    <a:pt x="42" y="1714"/>
                  </a:lnTo>
                  <a:lnTo>
                    <a:pt x="48" y="1717"/>
                  </a:lnTo>
                  <a:lnTo>
                    <a:pt x="56" y="1720"/>
                  </a:lnTo>
                  <a:lnTo>
                    <a:pt x="63" y="1722"/>
                  </a:lnTo>
                  <a:lnTo>
                    <a:pt x="71" y="1723"/>
                  </a:lnTo>
                  <a:lnTo>
                    <a:pt x="79" y="1723"/>
                  </a:lnTo>
                  <a:lnTo>
                    <a:pt x="1637" y="1723"/>
                  </a:lnTo>
                  <a:lnTo>
                    <a:pt x="1645" y="1723"/>
                  </a:lnTo>
                  <a:lnTo>
                    <a:pt x="1653" y="1722"/>
                  </a:lnTo>
                  <a:lnTo>
                    <a:pt x="1660" y="1720"/>
                  </a:lnTo>
                  <a:lnTo>
                    <a:pt x="1668" y="1717"/>
                  </a:lnTo>
                  <a:lnTo>
                    <a:pt x="1674" y="1714"/>
                  </a:lnTo>
                  <a:lnTo>
                    <a:pt x="1681" y="1710"/>
                  </a:lnTo>
                  <a:lnTo>
                    <a:pt x="1687" y="1705"/>
                  </a:lnTo>
                  <a:lnTo>
                    <a:pt x="1693" y="1700"/>
                  </a:lnTo>
                  <a:lnTo>
                    <a:pt x="1698" y="1695"/>
                  </a:lnTo>
                  <a:lnTo>
                    <a:pt x="1702" y="1689"/>
                  </a:lnTo>
                  <a:lnTo>
                    <a:pt x="1706" y="1682"/>
                  </a:lnTo>
                  <a:lnTo>
                    <a:pt x="1710" y="1675"/>
                  </a:lnTo>
                  <a:lnTo>
                    <a:pt x="1712" y="1668"/>
                  </a:lnTo>
                  <a:lnTo>
                    <a:pt x="1714" y="1660"/>
                  </a:lnTo>
                  <a:lnTo>
                    <a:pt x="1715" y="1653"/>
                  </a:lnTo>
                  <a:lnTo>
                    <a:pt x="1716" y="1645"/>
                  </a:lnTo>
                  <a:lnTo>
                    <a:pt x="1716" y="78"/>
                  </a:lnTo>
                  <a:lnTo>
                    <a:pt x="1715" y="70"/>
                  </a:lnTo>
                  <a:lnTo>
                    <a:pt x="1714" y="63"/>
                  </a:lnTo>
                  <a:lnTo>
                    <a:pt x="1712" y="55"/>
                  </a:lnTo>
                  <a:lnTo>
                    <a:pt x="1710" y="48"/>
                  </a:lnTo>
                  <a:lnTo>
                    <a:pt x="1706" y="41"/>
                  </a:lnTo>
                  <a:lnTo>
                    <a:pt x="1702" y="34"/>
                  </a:lnTo>
                  <a:lnTo>
                    <a:pt x="1698" y="28"/>
                  </a:lnTo>
                  <a:lnTo>
                    <a:pt x="1693" y="23"/>
                  </a:lnTo>
                  <a:lnTo>
                    <a:pt x="1687" y="18"/>
                  </a:lnTo>
                  <a:lnTo>
                    <a:pt x="1681" y="13"/>
                  </a:lnTo>
                  <a:lnTo>
                    <a:pt x="1674" y="9"/>
                  </a:lnTo>
                  <a:lnTo>
                    <a:pt x="1668" y="6"/>
                  </a:lnTo>
                  <a:lnTo>
                    <a:pt x="1660" y="3"/>
                  </a:lnTo>
                  <a:lnTo>
                    <a:pt x="1653" y="1"/>
                  </a:lnTo>
                  <a:lnTo>
                    <a:pt x="1645" y="0"/>
                  </a:lnTo>
                  <a:lnTo>
                    <a:pt x="1638" y="0"/>
                  </a:lnTo>
                  <a:lnTo>
                    <a:pt x="1637" y="0"/>
                  </a:lnTo>
                  <a:close/>
                </a:path>
              </a:pathLst>
            </a:custGeom>
            <a:solidFill>
              <a:srgbClr val="e37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25800" y="6528600"/>
              <a:ext cx="118800" cy="118440"/>
            </a:xfrm>
            <a:custGeom>
              <a:avLst/>
              <a:gdLst/>
              <a:ahLst/>
              <a:rect l="l" t="t" r="r" b="b"/>
              <a:pathLst>
                <a:path w="529" h="528">
                  <a:moveTo>
                    <a:pt x="451" y="342"/>
                  </a:moveTo>
                  <a:lnTo>
                    <a:pt x="343" y="342"/>
                  </a:lnTo>
                  <a:lnTo>
                    <a:pt x="343" y="452"/>
                  </a:lnTo>
                  <a:lnTo>
                    <a:pt x="342" y="460"/>
                  </a:lnTo>
                  <a:lnTo>
                    <a:pt x="341" y="467"/>
                  </a:lnTo>
                  <a:lnTo>
                    <a:pt x="339" y="475"/>
                  </a:lnTo>
                  <a:lnTo>
                    <a:pt x="336" y="482"/>
                  </a:lnTo>
                  <a:lnTo>
                    <a:pt x="333" y="488"/>
                  </a:lnTo>
                  <a:lnTo>
                    <a:pt x="329" y="495"/>
                  </a:lnTo>
                  <a:lnTo>
                    <a:pt x="325" y="501"/>
                  </a:lnTo>
                  <a:lnTo>
                    <a:pt x="320" y="506"/>
                  </a:lnTo>
                  <a:lnTo>
                    <a:pt x="314" y="511"/>
                  </a:lnTo>
                  <a:lnTo>
                    <a:pt x="308" y="515"/>
                  </a:lnTo>
                  <a:lnTo>
                    <a:pt x="302" y="519"/>
                  </a:lnTo>
                  <a:lnTo>
                    <a:pt x="295" y="522"/>
                  </a:lnTo>
                  <a:lnTo>
                    <a:pt x="288" y="525"/>
                  </a:lnTo>
                  <a:lnTo>
                    <a:pt x="280" y="527"/>
                  </a:lnTo>
                  <a:lnTo>
                    <a:pt x="273" y="528"/>
                  </a:lnTo>
                  <a:lnTo>
                    <a:pt x="265" y="528"/>
                  </a:lnTo>
                  <a:lnTo>
                    <a:pt x="257" y="528"/>
                  </a:lnTo>
                  <a:lnTo>
                    <a:pt x="249" y="527"/>
                  </a:lnTo>
                  <a:lnTo>
                    <a:pt x="242" y="525"/>
                  </a:lnTo>
                  <a:lnTo>
                    <a:pt x="234" y="522"/>
                  </a:lnTo>
                  <a:lnTo>
                    <a:pt x="228" y="519"/>
                  </a:lnTo>
                  <a:lnTo>
                    <a:pt x="221" y="515"/>
                  </a:lnTo>
                  <a:lnTo>
                    <a:pt x="215" y="510"/>
                  </a:lnTo>
                  <a:lnTo>
                    <a:pt x="209" y="505"/>
                  </a:lnTo>
                  <a:lnTo>
                    <a:pt x="204" y="500"/>
                  </a:lnTo>
                  <a:lnTo>
                    <a:pt x="200" y="494"/>
                  </a:lnTo>
                  <a:lnTo>
                    <a:pt x="196" y="487"/>
                  </a:lnTo>
                  <a:lnTo>
                    <a:pt x="193" y="481"/>
                  </a:lnTo>
                  <a:lnTo>
                    <a:pt x="190" y="473"/>
                  </a:lnTo>
                  <a:lnTo>
                    <a:pt x="188" y="466"/>
                  </a:lnTo>
                  <a:lnTo>
                    <a:pt x="187" y="458"/>
                  </a:lnTo>
                  <a:lnTo>
                    <a:pt x="187" y="450"/>
                  </a:lnTo>
                  <a:lnTo>
                    <a:pt x="187" y="342"/>
                  </a:lnTo>
                  <a:lnTo>
                    <a:pt x="79" y="342"/>
                  </a:lnTo>
                  <a:lnTo>
                    <a:pt x="71" y="342"/>
                  </a:lnTo>
                  <a:lnTo>
                    <a:pt x="63" y="341"/>
                  </a:lnTo>
                  <a:lnTo>
                    <a:pt x="55" y="339"/>
                  </a:lnTo>
                  <a:lnTo>
                    <a:pt x="48" y="336"/>
                  </a:lnTo>
                  <a:lnTo>
                    <a:pt x="41" y="333"/>
                  </a:lnTo>
                  <a:lnTo>
                    <a:pt x="35" y="329"/>
                  </a:lnTo>
                  <a:lnTo>
                    <a:pt x="29" y="325"/>
                  </a:lnTo>
                  <a:lnTo>
                    <a:pt x="23" y="319"/>
                  </a:lnTo>
                  <a:lnTo>
                    <a:pt x="18" y="314"/>
                  </a:lnTo>
                  <a:lnTo>
                    <a:pt x="14" y="308"/>
                  </a:lnTo>
                  <a:lnTo>
                    <a:pt x="10" y="301"/>
                  </a:lnTo>
                  <a:lnTo>
                    <a:pt x="7" y="295"/>
                  </a:lnTo>
                  <a:lnTo>
                    <a:pt x="4" y="287"/>
                  </a:lnTo>
                  <a:lnTo>
                    <a:pt x="2" y="280"/>
                  </a:lnTo>
                  <a:lnTo>
                    <a:pt x="1" y="272"/>
                  </a:lnTo>
                  <a:lnTo>
                    <a:pt x="0" y="264"/>
                  </a:lnTo>
                  <a:lnTo>
                    <a:pt x="1" y="256"/>
                  </a:lnTo>
                  <a:lnTo>
                    <a:pt x="2" y="248"/>
                  </a:lnTo>
                  <a:lnTo>
                    <a:pt x="4" y="241"/>
                  </a:lnTo>
                  <a:lnTo>
                    <a:pt x="7" y="234"/>
                  </a:lnTo>
                  <a:lnTo>
                    <a:pt x="10" y="227"/>
                  </a:lnTo>
                  <a:lnTo>
                    <a:pt x="14" y="220"/>
                  </a:lnTo>
                  <a:lnTo>
                    <a:pt x="18" y="214"/>
                  </a:lnTo>
                  <a:lnTo>
                    <a:pt x="23" y="209"/>
                  </a:lnTo>
                  <a:lnTo>
                    <a:pt x="29" y="204"/>
                  </a:lnTo>
                  <a:lnTo>
                    <a:pt x="35" y="199"/>
                  </a:lnTo>
                  <a:lnTo>
                    <a:pt x="41" y="195"/>
                  </a:lnTo>
                  <a:lnTo>
                    <a:pt x="48" y="192"/>
                  </a:lnTo>
                  <a:lnTo>
                    <a:pt x="55" y="189"/>
                  </a:lnTo>
                  <a:lnTo>
                    <a:pt x="63" y="187"/>
                  </a:lnTo>
                  <a:lnTo>
                    <a:pt x="71" y="186"/>
                  </a:lnTo>
                  <a:lnTo>
                    <a:pt x="79" y="186"/>
                  </a:lnTo>
                  <a:lnTo>
                    <a:pt x="187" y="186"/>
                  </a:lnTo>
                  <a:lnTo>
                    <a:pt x="187" y="78"/>
                  </a:lnTo>
                  <a:lnTo>
                    <a:pt x="187" y="70"/>
                  </a:lnTo>
                  <a:lnTo>
                    <a:pt x="188" y="62"/>
                  </a:lnTo>
                  <a:lnTo>
                    <a:pt x="190" y="55"/>
                  </a:lnTo>
                  <a:lnTo>
                    <a:pt x="193" y="48"/>
                  </a:lnTo>
                  <a:lnTo>
                    <a:pt x="196" y="41"/>
                  </a:lnTo>
                  <a:lnTo>
                    <a:pt x="200" y="34"/>
                  </a:lnTo>
                  <a:lnTo>
                    <a:pt x="204" y="28"/>
                  </a:lnTo>
                  <a:lnTo>
                    <a:pt x="209" y="23"/>
                  </a:lnTo>
                  <a:lnTo>
                    <a:pt x="215" y="18"/>
                  </a:lnTo>
                  <a:lnTo>
                    <a:pt x="221" y="13"/>
                  </a:lnTo>
                  <a:lnTo>
                    <a:pt x="228" y="9"/>
                  </a:lnTo>
                  <a:lnTo>
                    <a:pt x="234" y="6"/>
                  </a:lnTo>
                  <a:lnTo>
                    <a:pt x="242" y="3"/>
                  </a:lnTo>
                  <a:lnTo>
                    <a:pt x="249" y="1"/>
                  </a:lnTo>
                  <a:lnTo>
                    <a:pt x="257" y="0"/>
                  </a:lnTo>
                  <a:lnTo>
                    <a:pt x="265" y="0"/>
                  </a:lnTo>
                  <a:lnTo>
                    <a:pt x="273" y="0"/>
                  </a:lnTo>
                  <a:lnTo>
                    <a:pt x="281" y="1"/>
                  </a:lnTo>
                  <a:lnTo>
                    <a:pt x="288" y="3"/>
                  </a:lnTo>
                  <a:lnTo>
                    <a:pt x="295" y="6"/>
                  </a:lnTo>
                  <a:lnTo>
                    <a:pt x="302" y="9"/>
                  </a:lnTo>
                  <a:lnTo>
                    <a:pt x="309" y="13"/>
                  </a:lnTo>
                  <a:lnTo>
                    <a:pt x="315" y="18"/>
                  </a:lnTo>
                  <a:lnTo>
                    <a:pt x="320" y="23"/>
                  </a:lnTo>
                  <a:lnTo>
                    <a:pt x="325" y="28"/>
                  </a:lnTo>
                  <a:lnTo>
                    <a:pt x="330" y="34"/>
                  </a:lnTo>
                  <a:lnTo>
                    <a:pt x="334" y="41"/>
                  </a:lnTo>
                  <a:lnTo>
                    <a:pt x="337" y="48"/>
                  </a:lnTo>
                  <a:lnTo>
                    <a:pt x="340" y="55"/>
                  </a:lnTo>
                  <a:lnTo>
                    <a:pt x="341" y="62"/>
                  </a:lnTo>
                  <a:lnTo>
                    <a:pt x="343" y="70"/>
                  </a:lnTo>
                  <a:lnTo>
                    <a:pt x="343" y="78"/>
                  </a:lnTo>
                  <a:lnTo>
                    <a:pt x="343" y="186"/>
                  </a:lnTo>
                  <a:lnTo>
                    <a:pt x="452" y="186"/>
                  </a:lnTo>
                  <a:lnTo>
                    <a:pt x="460" y="186"/>
                  </a:lnTo>
                  <a:lnTo>
                    <a:pt x="468" y="188"/>
                  </a:lnTo>
                  <a:lnTo>
                    <a:pt x="475" y="190"/>
                  </a:lnTo>
                  <a:lnTo>
                    <a:pt x="482" y="192"/>
                  </a:lnTo>
                  <a:lnTo>
                    <a:pt x="489" y="196"/>
                  </a:lnTo>
                  <a:lnTo>
                    <a:pt x="495" y="200"/>
                  </a:lnTo>
                  <a:lnTo>
                    <a:pt x="501" y="204"/>
                  </a:lnTo>
                  <a:lnTo>
                    <a:pt x="507" y="209"/>
                  </a:lnTo>
                  <a:lnTo>
                    <a:pt x="512" y="215"/>
                  </a:lnTo>
                  <a:lnTo>
                    <a:pt x="516" y="221"/>
                  </a:lnTo>
                  <a:lnTo>
                    <a:pt x="520" y="227"/>
                  </a:lnTo>
                  <a:lnTo>
                    <a:pt x="523" y="234"/>
                  </a:lnTo>
                  <a:lnTo>
                    <a:pt x="526" y="241"/>
                  </a:lnTo>
                  <a:lnTo>
                    <a:pt x="528" y="248"/>
                  </a:lnTo>
                  <a:lnTo>
                    <a:pt x="529" y="256"/>
                  </a:lnTo>
                  <a:lnTo>
                    <a:pt x="529" y="264"/>
                  </a:lnTo>
                  <a:lnTo>
                    <a:pt x="529" y="272"/>
                  </a:lnTo>
                  <a:lnTo>
                    <a:pt x="528" y="280"/>
                  </a:lnTo>
                  <a:lnTo>
                    <a:pt x="526" y="287"/>
                  </a:lnTo>
                  <a:lnTo>
                    <a:pt x="523" y="295"/>
                  </a:lnTo>
                  <a:lnTo>
                    <a:pt x="520" y="301"/>
                  </a:lnTo>
                  <a:lnTo>
                    <a:pt x="516" y="308"/>
                  </a:lnTo>
                  <a:lnTo>
                    <a:pt x="511" y="314"/>
                  </a:lnTo>
                  <a:lnTo>
                    <a:pt x="506" y="319"/>
                  </a:lnTo>
                  <a:lnTo>
                    <a:pt x="501" y="325"/>
                  </a:lnTo>
                  <a:lnTo>
                    <a:pt x="495" y="329"/>
                  </a:lnTo>
                  <a:lnTo>
                    <a:pt x="488" y="333"/>
                  </a:lnTo>
                  <a:lnTo>
                    <a:pt x="481" y="336"/>
                  </a:lnTo>
                  <a:lnTo>
                    <a:pt x="474" y="339"/>
                  </a:lnTo>
                  <a:lnTo>
                    <a:pt x="467" y="341"/>
                  </a:lnTo>
                  <a:lnTo>
                    <a:pt x="459" y="342"/>
                  </a:lnTo>
                  <a:lnTo>
                    <a:pt x="452" y="342"/>
                  </a:lnTo>
                  <a:lnTo>
                    <a:pt x="451" y="3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65400" y="6356880"/>
              <a:ext cx="207000" cy="290520"/>
            </a:xfrm>
            <a:custGeom>
              <a:avLst/>
              <a:gdLst/>
              <a:ahLst/>
              <a:rect l="l" t="t" r="r" b="b"/>
              <a:pathLst>
                <a:path w="920" h="1293">
                  <a:moveTo>
                    <a:pt x="709" y="1206"/>
                  </a:moveTo>
                  <a:lnTo>
                    <a:pt x="462" y="662"/>
                  </a:lnTo>
                  <a:lnTo>
                    <a:pt x="459" y="654"/>
                  </a:lnTo>
                  <a:lnTo>
                    <a:pt x="456" y="645"/>
                  </a:lnTo>
                  <a:lnTo>
                    <a:pt x="455" y="637"/>
                  </a:lnTo>
                  <a:lnTo>
                    <a:pt x="454" y="628"/>
                  </a:lnTo>
                  <a:lnTo>
                    <a:pt x="455" y="620"/>
                  </a:lnTo>
                  <a:lnTo>
                    <a:pt x="456" y="612"/>
                  </a:lnTo>
                  <a:lnTo>
                    <a:pt x="458" y="605"/>
                  </a:lnTo>
                  <a:lnTo>
                    <a:pt x="460" y="598"/>
                  </a:lnTo>
                  <a:lnTo>
                    <a:pt x="463" y="591"/>
                  </a:lnTo>
                  <a:lnTo>
                    <a:pt x="467" y="585"/>
                  </a:lnTo>
                  <a:lnTo>
                    <a:pt x="471" y="579"/>
                  </a:lnTo>
                  <a:lnTo>
                    <a:pt x="476" y="573"/>
                  </a:lnTo>
                  <a:lnTo>
                    <a:pt x="482" y="568"/>
                  </a:lnTo>
                  <a:lnTo>
                    <a:pt x="487" y="564"/>
                  </a:lnTo>
                  <a:lnTo>
                    <a:pt x="494" y="560"/>
                  </a:lnTo>
                  <a:lnTo>
                    <a:pt x="500" y="556"/>
                  </a:lnTo>
                  <a:lnTo>
                    <a:pt x="507" y="554"/>
                  </a:lnTo>
                  <a:lnTo>
                    <a:pt x="514" y="552"/>
                  </a:lnTo>
                  <a:lnTo>
                    <a:pt x="522" y="550"/>
                  </a:lnTo>
                  <a:lnTo>
                    <a:pt x="530" y="550"/>
                  </a:lnTo>
                  <a:lnTo>
                    <a:pt x="550" y="548"/>
                  </a:lnTo>
                  <a:lnTo>
                    <a:pt x="569" y="545"/>
                  </a:lnTo>
                  <a:lnTo>
                    <a:pt x="588" y="539"/>
                  </a:lnTo>
                  <a:lnTo>
                    <a:pt x="606" y="533"/>
                  </a:lnTo>
                  <a:lnTo>
                    <a:pt x="623" y="524"/>
                  </a:lnTo>
                  <a:lnTo>
                    <a:pt x="639" y="514"/>
                  </a:lnTo>
                  <a:lnTo>
                    <a:pt x="655" y="503"/>
                  </a:lnTo>
                  <a:lnTo>
                    <a:pt x="669" y="490"/>
                  </a:lnTo>
                  <a:lnTo>
                    <a:pt x="681" y="477"/>
                  </a:lnTo>
                  <a:lnTo>
                    <a:pt x="692" y="462"/>
                  </a:lnTo>
                  <a:lnTo>
                    <a:pt x="702" y="446"/>
                  </a:lnTo>
                  <a:lnTo>
                    <a:pt x="711" y="428"/>
                  </a:lnTo>
                  <a:lnTo>
                    <a:pt x="717" y="411"/>
                  </a:lnTo>
                  <a:lnTo>
                    <a:pt x="722" y="392"/>
                  </a:lnTo>
                  <a:lnTo>
                    <a:pt x="725" y="372"/>
                  </a:lnTo>
                  <a:lnTo>
                    <a:pt x="726" y="352"/>
                  </a:lnTo>
                  <a:lnTo>
                    <a:pt x="725" y="332"/>
                  </a:lnTo>
                  <a:lnTo>
                    <a:pt x="722" y="313"/>
                  </a:lnTo>
                  <a:lnTo>
                    <a:pt x="717" y="294"/>
                  </a:lnTo>
                  <a:lnTo>
                    <a:pt x="711" y="276"/>
                  </a:lnTo>
                  <a:lnTo>
                    <a:pt x="703" y="259"/>
                  </a:lnTo>
                  <a:lnTo>
                    <a:pt x="693" y="242"/>
                  </a:lnTo>
                  <a:lnTo>
                    <a:pt x="682" y="227"/>
                  </a:lnTo>
                  <a:lnTo>
                    <a:pt x="669" y="213"/>
                  </a:lnTo>
                  <a:lnTo>
                    <a:pt x="655" y="201"/>
                  </a:lnTo>
                  <a:lnTo>
                    <a:pt x="640" y="189"/>
                  </a:lnTo>
                  <a:lnTo>
                    <a:pt x="624" y="179"/>
                  </a:lnTo>
                  <a:lnTo>
                    <a:pt x="607" y="171"/>
                  </a:lnTo>
                  <a:lnTo>
                    <a:pt x="589" y="164"/>
                  </a:lnTo>
                  <a:lnTo>
                    <a:pt x="570" y="159"/>
                  </a:lnTo>
                  <a:lnTo>
                    <a:pt x="551" y="156"/>
                  </a:lnTo>
                  <a:lnTo>
                    <a:pt x="531" y="155"/>
                  </a:lnTo>
                  <a:lnTo>
                    <a:pt x="78" y="156"/>
                  </a:lnTo>
                  <a:lnTo>
                    <a:pt x="70" y="155"/>
                  </a:lnTo>
                  <a:lnTo>
                    <a:pt x="62" y="154"/>
                  </a:lnTo>
                  <a:lnTo>
                    <a:pt x="55" y="152"/>
                  </a:lnTo>
                  <a:lnTo>
                    <a:pt x="48" y="150"/>
                  </a:lnTo>
                  <a:lnTo>
                    <a:pt x="41" y="146"/>
                  </a:lnTo>
                  <a:lnTo>
                    <a:pt x="35" y="142"/>
                  </a:lnTo>
                  <a:lnTo>
                    <a:pt x="29" y="138"/>
                  </a:lnTo>
                  <a:lnTo>
                    <a:pt x="23" y="133"/>
                  </a:lnTo>
                  <a:lnTo>
                    <a:pt x="18" y="127"/>
                  </a:lnTo>
                  <a:lnTo>
                    <a:pt x="14" y="121"/>
                  </a:lnTo>
                  <a:lnTo>
                    <a:pt x="10" y="115"/>
                  </a:lnTo>
                  <a:lnTo>
                    <a:pt x="7" y="108"/>
                  </a:lnTo>
                  <a:lnTo>
                    <a:pt x="4" y="101"/>
                  </a:lnTo>
                  <a:lnTo>
                    <a:pt x="2" y="94"/>
                  </a:lnTo>
                  <a:lnTo>
                    <a:pt x="1" y="86"/>
                  </a:lnTo>
                  <a:lnTo>
                    <a:pt x="0" y="78"/>
                  </a:lnTo>
                  <a:lnTo>
                    <a:pt x="1" y="70"/>
                  </a:lnTo>
                  <a:lnTo>
                    <a:pt x="2" y="63"/>
                  </a:lnTo>
                  <a:lnTo>
                    <a:pt x="4" y="55"/>
                  </a:lnTo>
                  <a:lnTo>
                    <a:pt x="6" y="48"/>
                  </a:lnTo>
                  <a:lnTo>
                    <a:pt x="10" y="41"/>
                  </a:lnTo>
                  <a:lnTo>
                    <a:pt x="13" y="35"/>
                  </a:lnTo>
                  <a:lnTo>
                    <a:pt x="18" y="29"/>
                  </a:lnTo>
                  <a:lnTo>
                    <a:pt x="23" y="24"/>
                  </a:lnTo>
                  <a:lnTo>
                    <a:pt x="28" y="18"/>
                  </a:lnTo>
                  <a:lnTo>
                    <a:pt x="34" y="14"/>
                  </a:lnTo>
                  <a:lnTo>
                    <a:pt x="40" y="10"/>
                  </a:lnTo>
                  <a:lnTo>
                    <a:pt x="47" y="7"/>
                  </a:lnTo>
                  <a:lnTo>
                    <a:pt x="54" y="4"/>
                  </a:lnTo>
                  <a:lnTo>
                    <a:pt x="62" y="2"/>
                  </a:lnTo>
                  <a:lnTo>
                    <a:pt x="69" y="1"/>
                  </a:lnTo>
                  <a:lnTo>
                    <a:pt x="77" y="0"/>
                  </a:lnTo>
                  <a:lnTo>
                    <a:pt x="531" y="0"/>
                  </a:lnTo>
                  <a:lnTo>
                    <a:pt x="549" y="1"/>
                  </a:lnTo>
                  <a:lnTo>
                    <a:pt x="567" y="2"/>
                  </a:lnTo>
                  <a:lnTo>
                    <a:pt x="584" y="4"/>
                  </a:lnTo>
                  <a:lnTo>
                    <a:pt x="601" y="8"/>
                  </a:lnTo>
                  <a:lnTo>
                    <a:pt x="618" y="12"/>
                  </a:lnTo>
                  <a:lnTo>
                    <a:pt x="635" y="16"/>
                  </a:lnTo>
                  <a:lnTo>
                    <a:pt x="651" y="22"/>
                  </a:lnTo>
                  <a:lnTo>
                    <a:pt x="667" y="28"/>
                  </a:lnTo>
                  <a:lnTo>
                    <a:pt x="683" y="35"/>
                  </a:lnTo>
                  <a:lnTo>
                    <a:pt x="698" y="43"/>
                  </a:lnTo>
                  <a:lnTo>
                    <a:pt x="712" y="52"/>
                  </a:lnTo>
                  <a:lnTo>
                    <a:pt x="727" y="61"/>
                  </a:lnTo>
                  <a:lnTo>
                    <a:pt x="740" y="71"/>
                  </a:lnTo>
                  <a:lnTo>
                    <a:pt x="754" y="81"/>
                  </a:lnTo>
                  <a:lnTo>
                    <a:pt x="766" y="92"/>
                  </a:lnTo>
                  <a:lnTo>
                    <a:pt x="778" y="104"/>
                  </a:lnTo>
                  <a:lnTo>
                    <a:pt x="790" y="116"/>
                  </a:lnTo>
                  <a:lnTo>
                    <a:pt x="801" y="129"/>
                  </a:lnTo>
                  <a:lnTo>
                    <a:pt x="811" y="142"/>
                  </a:lnTo>
                  <a:lnTo>
                    <a:pt x="821" y="156"/>
                  </a:lnTo>
                  <a:lnTo>
                    <a:pt x="830" y="170"/>
                  </a:lnTo>
                  <a:lnTo>
                    <a:pt x="838" y="185"/>
                  </a:lnTo>
                  <a:lnTo>
                    <a:pt x="846" y="200"/>
                  </a:lnTo>
                  <a:lnTo>
                    <a:pt x="853" y="216"/>
                  </a:lnTo>
                  <a:lnTo>
                    <a:pt x="859" y="232"/>
                  </a:lnTo>
                  <a:lnTo>
                    <a:pt x="865" y="248"/>
                  </a:lnTo>
                  <a:lnTo>
                    <a:pt x="870" y="265"/>
                  </a:lnTo>
                  <a:lnTo>
                    <a:pt x="874" y="282"/>
                  </a:lnTo>
                  <a:lnTo>
                    <a:pt x="877" y="299"/>
                  </a:lnTo>
                  <a:lnTo>
                    <a:pt x="879" y="316"/>
                  </a:lnTo>
                  <a:lnTo>
                    <a:pt x="880" y="334"/>
                  </a:lnTo>
                  <a:lnTo>
                    <a:pt x="881" y="352"/>
                  </a:lnTo>
                  <a:lnTo>
                    <a:pt x="879" y="381"/>
                  </a:lnTo>
                  <a:lnTo>
                    <a:pt x="876" y="410"/>
                  </a:lnTo>
                  <a:lnTo>
                    <a:pt x="870" y="437"/>
                  </a:lnTo>
                  <a:lnTo>
                    <a:pt x="863" y="464"/>
                  </a:lnTo>
                  <a:lnTo>
                    <a:pt x="853" y="490"/>
                  </a:lnTo>
                  <a:lnTo>
                    <a:pt x="841" y="514"/>
                  </a:lnTo>
                  <a:lnTo>
                    <a:pt x="828" y="538"/>
                  </a:lnTo>
                  <a:lnTo>
                    <a:pt x="812" y="561"/>
                  </a:lnTo>
                  <a:lnTo>
                    <a:pt x="795" y="582"/>
                  </a:lnTo>
                  <a:lnTo>
                    <a:pt x="777" y="602"/>
                  </a:lnTo>
                  <a:lnTo>
                    <a:pt x="757" y="620"/>
                  </a:lnTo>
                  <a:lnTo>
                    <a:pt x="736" y="637"/>
                  </a:lnTo>
                  <a:lnTo>
                    <a:pt x="713" y="652"/>
                  </a:lnTo>
                  <a:lnTo>
                    <a:pt x="689" y="665"/>
                  </a:lnTo>
                  <a:lnTo>
                    <a:pt x="665" y="677"/>
                  </a:lnTo>
                  <a:lnTo>
                    <a:pt x="639" y="686"/>
                  </a:lnTo>
                  <a:lnTo>
                    <a:pt x="853" y="1138"/>
                  </a:lnTo>
                  <a:lnTo>
                    <a:pt x="920" y="1277"/>
                  </a:lnTo>
                  <a:lnTo>
                    <a:pt x="905" y="1283"/>
                  </a:lnTo>
                  <a:lnTo>
                    <a:pt x="890" y="1288"/>
                  </a:lnTo>
                  <a:lnTo>
                    <a:pt x="875" y="1291"/>
                  </a:lnTo>
                  <a:lnTo>
                    <a:pt x="860" y="1292"/>
                  </a:lnTo>
                  <a:lnTo>
                    <a:pt x="844" y="1293"/>
                  </a:lnTo>
                  <a:lnTo>
                    <a:pt x="829" y="1291"/>
                  </a:lnTo>
                  <a:lnTo>
                    <a:pt x="815" y="1289"/>
                  </a:lnTo>
                  <a:lnTo>
                    <a:pt x="800" y="1284"/>
                  </a:lnTo>
                  <a:lnTo>
                    <a:pt x="786" y="1279"/>
                  </a:lnTo>
                  <a:lnTo>
                    <a:pt x="773" y="1272"/>
                  </a:lnTo>
                  <a:lnTo>
                    <a:pt x="760" y="1264"/>
                  </a:lnTo>
                  <a:lnTo>
                    <a:pt x="748" y="1255"/>
                  </a:lnTo>
                  <a:lnTo>
                    <a:pt x="737" y="1244"/>
                  </a:lnTo>
                  <a:lnTo>
                    <a:pt x="727" y="1233"/>
                  </a:lnTo>
                  <a:lnTo>
                    <a:pt x="717" y="1220"/>
                  </a:lnTo>
                  <a:lnTo>
                    <a:pt x="710" y="1206"/>
                  </a:lnTo>
                  <a:lnTo>
                    <a:pt x="709" y="1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1773000"/>
            <a:ext cx="7769520" cy="1469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ff9933"/>
              </a:solidFill>
              <a:latin typeface="Georgia"/>
            </a:endParaRPr>
          </a:p>
        </p:txBody>
      </p:sp>
      <p:sp>
        <p:nvSpPr>
          <p:cNvPr id="45" name=""/>
          <p:cNvSpPr/>
          <p:nvPr/>
        </p:nvSpPr>
        <p:spPr>
          <a:xfrm>
            <a:off x="2763720" y="6599160"/>
            <a:ext cx="6129360" cy="0"/>
          </a:xfrm>
          <a:prstGeom prst="line">
            <a:avLst/>
          </a:prstGeom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63720" y="6599160"/>
            <a:ext cx="6129360" cy="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51280" y="6308640"/>
            <a:ext cx="2377440" cy="387000"/>
            <a:chOff x="251280" y="6308640"/>
            <a:chExt cx="2377440" cy="387000"/>
          </a:xfrm>
        </p:grpSpPr>
        <p:sp>
          <p:nvSpPr>
            <p:cNvPr id="48" name=""/>
            <p:cNvSpPr/>
            <p:nvPr/>
          </p:nvSpPr>
          <p:spPr>
            <a:xfrm>
              <a:off x="782640" y="6402960"/>
              <a:ext cx="1846080" cy="198000"/>
            </a:xfrm>
            <a:custGeom>
              <a:avLst/>
              <a:gdLst/>
              <a:ahLst/>
              <a:rect l="l" t="t" r="r" b="b"/>
              <a:pathLst>
                <a:path w="8199" h="882">
                  <a:moveTo>
                    <a:pt x="1874" y="372"/>
                  </a:moveTo>
                  <a:lnTo>
                    <a:pt x="1838" y="358"/>
                  </a:lnTo>
                  <a:lnTo>
                    <a:pt x="1805" y="345"/>
                  </a:lnTo>
                  <a:lnTo>
                    <a:pt x="1789" y="338"/>
                  </a:lnTo>
                  <a:lnTo>
                    <a:pt x="1774" y="330"/>
                  </a:lnTo>
                  <a:lnTo>
                    <a:pt x="1760" y="323"/>
                  </a:lnTo>
                  <a:lnTo>
                    <a:pt x="1747" y="315"/>
                  </a:lnTo>
                  <a:lnTo>
                    <a:pt x="1736" y="306"/>
                  </a:lnTo>
                  <a:lnTo>
                    <a:pt x="1725" y="297"/>
                  </a:lnTo>
                  <a:lnTo>
                    <a:pt x="1717" y="288"/>
                  </a:lnTo>
                  <a:lnTo>
                    <a:pt x="1709" y="277"/>
                  </a:lnTo>
                  <a:lnTo>
                    <a:pt x="1703" y="266"/>
                  </a:lnTo>
                  <a:lnTo>
                    <a:pt x="1699" y="253"/>
                  </a:lnTo>
                  <a:lnTo>
                    <a:pt x="1696" y="239"/>
                  </a:lnTo>
                  <a:lnTo>
                    <a:pt x="1695" y="224"/>
                  </a:lnTo>
                  <a:lnTo>
                    <a:pt x="1696" y="212"/>
                  </a:lnTo>
                  <a:lnTo>
                    <a:pt x="1698" y="200"/>
                  </a:lnTo>
                  <a:lnTo>
                    <a:pt x="1701" y="190"/>
                  </a:lnTo>
                  <a:lnTo>
                    <a:pt x="1704" y="180"/>
                  </a:lnTo>
                  <a:lnTo>
                    <a:pt x="1709" y="170"/>
                  </a:lnTo>
                  <a:lnTo>
                    <a:pt x="1715" y="162"/>
                  </a:lnTo>
                  <a:lnTo>
                    <a:pt x="1722" y="154"/>
                  </a:lnTo>
                  <a:lnTo>
                    <a:pt x="1729" y="147"/>
                  </a:lnTo>
                  <a:lnTo>
                    <a:pt x="1738" y="141"/>
                  </a:lnTo>
                  <a:lnTo>
                    <a:pt x="1747" y="135"/>
                  </a:lnTo>
                  <a:lnTo>
                    <a:pt x="1757" y="130"/>
                  </a:lnTo>
                  <a:lnTo>
                    <a:pt x="1768" y="126"/>
                  </a:lnTo>
                  <a:lnTo>
                    <a:pt x="1779" y="123"/>
                  </a:lnTo>
                  <a:lnTo>
                    <a:pt x="1792" y="121"/>
                  </a:lnTo>
                  <a:lnTo>
                    <a:pt x="1804" y="119"/>
                  </a:lnTo>
                  <a:lnTo>
                    <a:pt x="1818" y="119"/>
                  </a:lnTo>
                  <a:lnTo>
                    <a:pt x="1831" y="119"/>
                  </a:lnTo>
                  <a:lnTo>
                    <a:pt x="1844" y="121"/>
                  </a:lnTo>
                  <a:lnTo>
                    <a:pt x="1857" y="124"/>
                  </a:lnTo>
                  <a:lnTo>
                    <a:pt x="1869" y="127"/>
                  </a:lnTo>
                  <a:lnTo>
                    <a:pt x="1882" y="131"/>
                  </a:lnTo>
                  <a:lnTo>
                    <a:pt x="1893" y="136"/>
                  </a:lnTo>
                  <a:lnTo>
                    <a:pt x="1914" y="146"/>
                  </a:lnTo>
                  <a:lnTo>
                    <a:pt x="1932" y="156"/>
                  </a:lnTo>
                  <a:lnTo>
                    <a:pt x="1946" y="164"/>
                  </a:lnTo>
                  <a:lnTo>
                    <a:pt x="1958" y="173"/>
                  </a:lnTo>
                  <a:lnTo>
                    <a:pt x="2040" y="91"/>
                  </a:lnTo>
                  <a:lnTo>
                    <a:pt x="2029" y="81"/>
                  </a:lnTo>
                  <a:lnTo>
                    <a:pt x="2018" y="71"/>
                  </a:lnTo>
                  <a:lnTo>
                    <a:pt x="2005" y="62"/>
                  </a:lnTo>
                  <a:lnTo>
                    <a:pt x="1992" y="53"/>
                  </a:lnTo>
                  <a:lnTo>
                    <a:pt x="1979" y="45"/>
                  </a:lnTo>
                  <a:lnTo>
                    <a:pt x="1965" y="38"/>
                  </a:lnTo>
                  <a:lnTo>
                    <a:pt x="1950" y="31"/>
                  </a:lnTo>
                  <a:lnTo>
                    <a:pt x="1936" y="25"/>
                  </a:lnTo>
                  <a:lnTo>
                    <a:pt x="1921" y="19"/>
                  </a:lnTo>
                  <a:lnTo>
                    <a:pt x="1906" y="14"/>
                  </a:lnTo>
                  <a:lnTo>
                    <a:pt x="1891" y="10"/>
                  </a:lnTo>
                  <a:lnTo>
                    <a:pt x="1876" y="7"/>
                  </a:lnTo>
                  <a:lnTo>
                    <a:pt x="1861" y="4"/>
                  </a:lnTo>
                  <a:lnTo>
                    <a:pt x="1846" y="2"/>
                  </a:lnTo>
                  <a:lnTo>
                    <a:pt x="1832" y="1"/>
                  </a:lnTo>
                  <a:lnTo>
                    <a:pt x="1818" y="0"/>
                  </a:lnTo>
                  <a:lnTo>
                    <a:pt x="1795" y="1"/>
                  </a:lnTo>
                  <a:lnTo>
                    <a:pt x="1773" y="4"/>
                  </a:lnTo>
                  <a:lnTo>
                    <a:pt x="1751" y="9"/>
                  </a:lnTo>
                  <a:lnTo>
                    <a:pt x="1729" y="15"/>
                  </a:lnTo>
                  <a:lnTo>
                    <a:pt x="1708" y="23"/>
                  </a:lnTo>
                  <a:lnTo>
                    <a:pt x="1688" y="33"/>
                  </a:lnTo>
                  <a:lnTo>
                    <a:pt x="1669" y="45"/>
                  </a:lnTo>
                  <a:lnTo>
                    <a:pt x="1651" y="58"/>
                  </a:lnTo>
                  <a:lnTo>
                    <a:pt x="1634" y="73"/>
                  </a:lnTo>
                  <a:lnTo>
                    <a:pt x="1626" y="81"/>
                  </a:lnTo>
                  <a:lnTo>
                    <a:pt x="1619" y="90"/>
                  </a:lnTo>
                  <a:lnTo>
                    <a:pt x="1612" y="99"/>
                  </a:lnTo>
                  <a:lnTo>
                    <a:pt x="1606" y="108"/>
                  </a:lnTo>
                  <a:lnTo>
                    <a:pt x="1600" y="118"/>
                  </a:lnTo>
                  <a:lnTo>
                    <a:pt x="1594" y="128"/>
                  </a:lnTo>
                  <a:lnTo>
                    <a:pt x="1590" y="139"/>
                  </a:lnTo>
                  <a:lnTo>
                    <a:pt x="1585" y="150"/>
                  </a:lnTo>
                  <a:lnTo>
                    <a:pt x="1582" y="161"/>
                  </a:lnTo>
                  <a:lnTo>
                    <a:pt x="1578" y="173"/>
                  </a:lnTo>
                  <a:lnTo>
                    <a:pt x="1576" y="185"/>
                  </a:lnTo>
                  <a:lnTo>
                    <a:pt x="1574" y="198"/>
                  </a:lnTo>
                  <a:lnTo>
                    <a:pt x="1573" y="210"/>
                  </a:lnTo>
                  <a:lnTo>
                    <a:pt x="1573" y="224"/>
                  </a:lnTo>
                  <a:lnTo>
                    <a:pt x="1573" y="237"/>
                  </a:lnTo>
                  <a:lnTo>
                    <a:pt x="1574" y="250"/>
                  </a:lnTo>
                  <a:lnTo>
                    <a:pt x="1575" y="262"/>
                  </a:lnTo>
                  <a:lnTo>
                    <a:pt x="1577" y="274"/>
                  </a:lnTo>
                  <a:lnTo>
                    <a:pt x="1580" y="286"/>
                  </a:lnTo>
                  <a:lnTo>
                    <a:pt x="1583" y="297"/>
                  </a:lnTo>
                  <a:lnTo>
                    <a:pt x="1586" y="308"/>
                  </a:lnTo>
                  <a:lnTo>
                    <a:pt x="1590" y="318"/>
                  </a:lnTo>
                  <a:lnTo>
                    <a:pt x="1600" y="337"/>
                  </a:lnTo>
                  <a:lnTo>
                    <a:pt x="1610" y="354"/>
                  </a:lnTo>
                  <a:lnTo>
                    <a:pt x="1623" y="369"/>
                  </a:lnTo>
                  <a:lnTo>
                    <a:pt x="1637" y="383"/>
                  </a:lnTo>
                  <a:lnTo>
                    <a:pt x="1648" y="393"/>
                  </a:lnTo>
                  <a:lnTo>
                    <a:pt x="1659" y="402"/>
                  </a:lnTo>
                  <a:lnTo>
                    <a:pt x="1671" y="410"/>
                  </a:lnTo>
                  <a:lnTo>
                    <a:pt x="1683" y="417"/>
                  </a:lnTo>
                  <a:lnTo>
                    <a:pt x="1709" y="431"/>
                  </a:lnTo>
                  <a:lnTo>
                    <a:pt x="1735" y="443"/>
                  </a:lnTo>
                  <a:lnTo>
                    <a:pt x="1762" y="454"/>
                  </a:lnTo>
                  <a:lnTo>
                    <a:pt x="1788" y="465"/>
                  </a:lnTo>
                  <a:lnTo>
                    <a:pt x="1814" y="475"/>
                  </a:lnTo>
                  <a:lnTo>
                    <a:pt x="1839" y="486"/>
                  </a:lnTo>
                  <a:lnTo>
                    <a:pt x="1862" y="498"/>
                  </a:lnTo>
                  <a:lnTo>
                    <a:pt x="1883" y="511"/>
                  </a:lnTo>
                  <a:lnTo>
                    <a:pt x="1893" y="518"/>
                  </a:lnTo>
                  <a:lnTo>
                    <a:pt x="1902" y="525"/>
                  </a:lnTo>
                  <a:lnTo>
                    <a:pt x="1910" y="532"/>
                  </a:lnTo>
                  <a:lnTo>
                    <a:pt x="1918" y="541"/>
                  </a:lnTo>
                  <a:lnTo>
                    <a:pt x="1925" y="549"/>
                  </a:lnTo>
                  <a:lnTo>
                    <a:pt x="1931" y="559"/>
                  </a:lnTo>
                  <a:lnTo>
                    <a:pt x="1936" y="569"/>
                  </a:lnTo>
                  <a:lnTo>
                    <a:pt x="1940" y="580"/>
                  </a:lnTo>
                  <a:lnTo>
                    <a:pt x="1944" y="592"/>
                  </a:lnTo>
                  <a:lnTo>
                    <a:pt x="1947" y="605"/>
                  </a:lnTo>
                  <a:lnTo>
                    <a:pt x="1948" y="619"/>
                  </a:lnTo>
                  <a:lnTo>
                    <a:pt x="1949" y="634"/>
                  </a:lnTo>
                  <a:lnTo>
                    <a:pt x="1948" y="647"/>
                  </a:lnTo>
                  <a:lnTo>
                    <a:pt x="1946" y="660"/>
                  </a:lnTo>
                  <a:lnTo>
                    <a:pt x="1942" y="672"/>
                  </a:lnTo>
                  <a:lnTo>
                    <a:pt x="1938" y="684"/>
                  </a:lnTo>
                  <a:lnTo>
                    <a:pt x="1932" y="696"/>
                  </a:lnTo>
                  <a:lnTo>
                    <a:pt x="1925" y="707"/>
                  </a:lnTo>
                  <a:lnTo>
                    <a:pt x="1917" y="717"/>
                  </a:lnTo>
                  <a:lnTo>
                    <a:pt x="1908" y="726"/>
                  </a:lnTo>
                  <a:lnTo>
                    <a:pt x="1899" y="735"/>
                  </a:lnTo>
                  <a:lnTo>
                    <a:pt x="1888" y="742"/>
                  </a:lnTo>
                  <a:lnTo>
                    <a:pt x="1877" y="749"/>
                  </a:lnTo>
                  <a:lnTo>
                    <a:pt x="1865" y="755"/>
                  </a:lnTo>
                  <a:lnTo>
                    <a:pt x="1853" y="759"/>
                  </a:lnTo>
                  <a:lnTo>
                    <a:pt x="1840" y="762"/>
                  </a:lnTo>
                  <a:lnTo>
                    <a:pt x="1827" y="764"/>
                  </a:lnTo>
                  <a:lnTo>
                    <a:pt x="1814" y="765"/>
                  </a:lnTo>
                  <a:lnTo>
                    <a:pt x="1799" y="764"/>
                  </a:lnTo>
                  <a:lnTo>
                    <a:pt x="1785" y="762"/>
                  </a:lnTo>
                  <a:lnTo>
                    <a:pt x="1771" y="759"/>
                  </a:lnTo>
                  <a:lnTo>
                    <a:pt x="1757" y="754"/>
                  </a:lnTo>
                  <a:lnTo>
                    <a:pt x="1744" y="749"/>
                  </a:lnTo>
                  <a:lnTo>
                    <a:pt x="1732" y="744"/>
                  </a:lnTo>
                  <a:lnTo>
                    <a:pt x="1721" y="737"/>
                  </a:lnTo>
                  <a:lnTo>
                    <a:pt x="1710" y="731"/>
                  </a:lnTo>
                  <a:lnTo>
                    <a:pt x="1692" y="719"/>
                  </a:lnTo>
                  <a:lnTo>
                    <a:pt x="1678" y="708"/>
                  </a:lnTo>
                  <a:lnTo>
                    <a:pt x="1666" y="698"/>
                  </a:lnTo>
                  <a:lnTo>
                    <a:pt x="1584" y="780"/>
                  </a:lnTo>
                  <a:lnTo>
                    <a:pt x="1595" y="791"/>
                  </a:lnTo>
                  <a:lnTo>
                    <a:pt x="1607" y="802"/>
                  </a:lnTo>
                  <a:lnTo>
                    <a:pt x="1619" y="813"/>
                  </a:lnTo>
                  <a:lnTo>
                    <a:pt x="1632" y="823"/>
                  </a:lnTo>
                  <a:lnTo>
                    <a:pt x="1646" y="832"/>
                  </a:lnTo>
                  <a:lnTo>
                    <a:pt x="1660" y="840"/>
                  </a:lnTo>
                  <a:lnTo>
                    <a:pt x="1675" y="848"/>
                  </a:lnTo>
                  <a:lnTo>
                    <a:pt x="1689" y="855"/>
                  </a:lnTo>
                  <a:lnTo>
                    <a:pt x="1705" y="861"/>
                  </a:lnTo>
                  <a:lnTo>
                    <a:pt x="1720" y="867"/>
                  </a:lnTo>
                  <a:lnTo>
                    <a:pt x="1736" y="871"/>
                  </a:lnTo>
                  <a:lnTo>
                    <a:pt x="1751" y="875"/>
                  </a:lnTo>
                  <a:lnTo>
                    <a:pt x="1767" y="878"/>
                  </a:lnTo>
                  <a:lnTo>
                    <a:pt x="1783" y="880"/>
                  </a:lnTo>
                  <a:lnTo>
                    <a:pt x="1798" y="882"/>
                  </a:lnTo>
                  <a:lnTo>
                    <a:pt x="1814" y="882"/>
                  </a:lnTo>
                  <a:lnTo>
                    <a:pt x="1827" y="882"/>
                  </a:lnTo>
                  <a:lnTo>
                    <a:pt x="1839" y="881"/>
                  </a:lnTo>
                  <a:lnTo>
                    <a:pt x="1851" y="879"/>
                  </a:lnTo>
                  <a:lnTo>
                    <a:pt x="1864" y="877"/>
                  </a:lnTo>
                  <a:lnTo>
                    <a:pt x="1887" y="871"/>
                  </a:lnTo>
                  <a:lnTo>
                    <a:pt x="1911" y="862"/>
                  </a:lnTo>
                  <a:lnTo>
                    <a:pt x="1933" y="852"/>
                  </a:lnTo>
                  <a:lnTo>
                    <a:pt x="1954" y="840"/>
                  </a:lnTo>
                  <a:lnTo>
                    <a:pt x="1974" y="825"/>
                  </a:lnTo>
                  <a:lnTo>
                    <a:pt x="1993" y="809"/>
                  </a:lnTo>
                  <a:lnTo>
                    <a:pt x="2010" y="792"/>
                  </a:lnTo>
                  <a:lnTo>
                    <a:pt x="2025" y="773"/>
                  </a:lnTo>
                  <a:lnTo>
                    <a:pt x="2038" y="752"/>
                  </a:lnTo>
                  <a:lnTo>
                    <a:pt x="2044" y="741"/>
                  </a:lnTo>
                  <a:lnTo>
                    <a:pt x="2050" y="730"/>
                  </a:lnTo>
                  <a:lnTo>
                    <a:pt x="2055" y="719"/>
                  </a:lnTo>
                  <a:lnTo>
                    <a:pt x="2059" y="708"/>
                  </a:lnTo>
                  <a:lnTo>
                    <a:pt x="2063" y="696"/>
                  </a:lnTo>
                  <a:lnTo>
                    <a:pt x="2066" y="684"/>
                  </a:lnTo>
                  <a:lnTo>
                    <a:pt x="2068" y="671"/>
                  </a:lnTo>
                  <a:lnTo>
                    <a:pt x="2070" y="659"/>
                  </a:lnTo>
                  <a:lnTo>
                    <a:pt x="2071" y="646"/>
                  </a:lnTo>
                  <a:lnTo>
                    <a:pt x="2071" y="634"/>
                  </a:lnTo>
                  <a:lnTo>
                    <a:pt x="2071" y="619"/>
                  </a:lnTo>
                  <a:lnTo>
                    <a:pt x="2070" y="604"/>
                  </a:lnTo>
                  <a:lnTo>
                    <a:pt x="2069" y="590"/>
                  </a:lnTo>
                  <a:lnTo>
                    <a:pt x="2067" y="577"/>
                  </a:lnTo>
                  <a:lnTo>
                    <a:pt x="2065" y="564"/>
                  </a:lnTo>
                  <a:lnTo>
                    <a:pt x="2062" y="552"/>
                  </a:lnTo>
                  <a:lnTo>
                    <a:pt x="2058" y="541"/>
                  </a:lnTo>
                  <a:lnTo>
                    <a:pt x="2054" y="529"/>
                  </a:lnTo>
                  <a:lnTo>
                    <a:pt x="2045" y="509"/>
                  </a:lnTo>
                  <a:lnTo>
                    <a:pt x="2034" y="489"/>
                  </a:lnTo>
                  <a:lnTo>
                    <a:pt x="2022" y="472"/>
                  </a:lnTo>
                  <a:lnTo>
                    <a:pt x="2008" y="456"/>
                  </a:lnTo>
                  <a:lnTo>
                    <a:pt x="1994" y="442"/>
                  </a:lnTo>
                  <a:lnTo>
                    <a:pt x="1978" y="429"/>
                  </a:lnTo>
                  <a:lnTo>
                    <a:pt x="1962" y="417"/>
                  </a:lnTo>
                  <a:lnTo>
                    <a:pt x="1945" y="406"/>
                  </a:lnTo>
                  <a:lnTo>
                    <a:pt x="1927" y="397"/>
                  </a:lnTo>
                  <a:lnTo>
                    <a:pt x="1909" y="388"/>
                  </a:lnTo>
                  <a:lnTo>
                    <a:pt x="1891" y="380"/>
                  </a:lnTo>
                  <a:lnTo>
                    <a:pt x="1875" y="372"/>
                  </a:lnTo>
                  <a:lnTo>
                    <a:pt x="1874" y="372"/>
                  </a:lnTo>
                  <a:lnTo>
                    <a:pt x="2680" y="383"/>
                  </a:lnTo>
                  <a:lnTo>
                    <a:pt x="2352" y="383"/>
                  </a:lnTo>
                  <a:lnTo>
                    <a:pt x="2351" y="12"/>
                  </a:lnTo>
                  <a:lnTo>
                    <a:pt x="2237" y="12"/>
                  </a:lnTo>
                  <a:lnTo>
                    <a:pt x="2236" y="870"/>
                  </a:lnTo>
                  <a:lnTo>
                    <a:pt x="2351" y="870"/>
                  </a:lnTo>
                  <a:lnTo>
                    <a:pt x="2352" y="497"/>
                  </a:lnTo>
                  <a:lnTo>
                    <a:pt x="2680" y="497"/>
                  </a:lnTo>
                  <a:lnTo>
                    <a:pt x="2681" y="870"/>
                  </a:lnTo>
                  <a:lnTo>
                    <a:pt x="2796" y="870"/>
                  </a:lnTo>
                  <a:lnTo>
                    <a:pt x="2797" y="12"/>
                  </a:lnTo>
                  <a:lnTo>
                    <a:pt x="2680" y="12"/>
                  </a:lnTo>
                  <a:lnTo>
                    <a:pt x="2680" y="383"/>
                  </a:lnTo>
                  <a:lnTo>
                    <a:pt x="1874" y="372"/>
                  </a:lnTo>
                  <a:lnTo>
                    <a:pt x="1376" y="12"/>
                  </a:lnTo>
                  <a:lnTo>
                    <a:pt x="1155" y="373"/>
                  </a:lnTo>
                  <a:lnTo>
                    <a:pt x="1153" y="376"/>
                  </a:lnTo>
                  <a:lnTo>
                    <a:pt x="1149" y="379"/>
                  </a:lnTo>
                  <a:lnTo>
                    <a:pt x="1144" y="381"/>
                  </a:lnTo>
                  <a:lnTo>
                    <a:pt x="1138" y="382"/>
                  </a:lnTo>
                  <a:lnTo>
                    <a:pt x="1138" y="12"/>
                  </a:lnTo>
                  <a:lnTo>
                    <a:pt x="1023" y="12"/>
                  </a:lnTo>
                  <a:lnTo>
                    <a:pt x="1023" y="812"/>
                  </a:lnTo>
                  <a:lnTo>
                    <a:pt x="1023" y="816"/>
                  </a:lnTo>
                  <a:lnTo>
                    <a:pt x="1023" y="870"/>
                  </a:lnTo>
                  <a:lnTo>
                    <a:pt x="1078" y="870"/>
                  </a:lnTo>
                  <a:lnTo>
                    <a:pt x="1080" y="870"/>
                  </a:lnTo>
                  <a:lnTo>
                    <a:pt x="1082" y="870"/>
                  </a:lnTo>
                  <a:lnTo>
                    <a:pt x="1138" y="870"/>
                  </a:lnTo>
                  <a:lnTo>
                    <a:pt x="1138" y="771"/>
                  </a:lnTo>
                  <a:lnTo>
                    <a:pt x="1138" y="496"/>
                  </a:lnTo>
                  <a:lnTo>
                    <a:pt x="1141" y="496"/>
                  </a:lnTo>
                  <a:lnTo>
                    <a:pt x="1351" y="870"/>
                  </a:lnTo>
                  <a:lnTo>
                    <a:pt x="1486" y="870"/>
                  </a:lnTo>
                  <a:lnTo>
                    <a:pt x="1241" y="443"/>
                  </a:lnTo>
                  <a:lnTo>
                    <a:pt x="1507" y="12"/>
                  </a:lnTo>
                  <a:lnTo>
                    <a:pt x="1376" y="12"/>
                  </a:lnTo>
                  <a:lnTo>
                    <a:pt x="1874" y="372"/>
                  </a:lnTo>
                  <a:lnTo>
                    <a:pt x="8199" y="14"/>
                  </a:lnTo>
                  <a:lnTo>
                    <a:pt x="7646" y="14"/>
                  </a:lnTo>
                  <a:lnTo>
                    <a:pt x="7646" y="125"/>
                  </a:lnTo>
                  <a:lnTo>
                    <a:pt x="7863" y="127"/>
                  </a:lnTo>
                  <a:lnTo>
                    <a:pt x="7863" y="870"/>
                  </a:lnTo>
                  <a:lnTo>
                    <a:pt x="7979" y="870"/>
                  </a:lnTo>
                  <a:lnTo>
                    <a:pt x="7979" y="127"/>
                  </a:lnTo>
                  <a:lnTo>
                    <a:pt x="8199" y="125"/>
                  </a:lnTo>
                  <a:lnTo>
                    <a:pt x="8199" y="14"/>
                  </a:lnTo>
                  <a:lnTo>
                    <a:pt x="1874" y="372"/>
                  </a:lnTo>
                  <a:lnTo>
                    <a:pt x="6209" y="476"/>
                  </a:lnTo>
                  <a:lnTo>
                    <a:pt x="6044" y="476"/>
                  </a:lnTo>
                  <a:lnTo>
                    <a:pt x="6004" y="590"/>
                  </a:lnTo>
                  <a:lnTo>
                    <a:pt x="6251" y="590"/>
                  </a:lnTo>
                  <a:lnTo>
                    <a:pt x="6353" y="870"/>
                  </a:lnTo>
                  <a:lnTo>
                    <a:pt x="6480" y="870"/>
                  </a:lnTo>
                  <a:lnTo>
                    <a:pt x="6196" y="93"/>
                  </a:lnTo>
                  <a:lnTo>
                    <a:pt x="6168" y="12"/>
                  </a:lnTo>
                  <a:lnTo>
                    <a:pt x="6084" y="12"/>
                  </a:lnTo>
                  <a:lnTo>
                    <a:pt x="6071" y="50"/>
                  </a:lnTo>
                  <a:lnTo>
                    <a:pt x="6070" y="52"/>
                  </a:lnTo>
                  <a:lnTo>
                    <a:pt x="5783" y="870"/>
                  </a:lnTo>
                  <a:lnTo>
                    <a:pt x="5905" y="870"/>
                  </a:lnTo>
                  <a:lnTo>
                    <a:pt x="6004" y="590"/>
                  </a:lnTo>
                  <a:lnTo>
                    <a:pt x="6044" y="476"/>
                  </a:lnTo>
                  <a:lnTo>
                    <a:pt x="6125" y="242"/>
                  </a:lnTo>
                  <a:lnTo>
                    <a:pt x="6209" y="476"/>
                  </a:lnTo>
                  <a:lnTo>
                    <a:pt x="1874" y="372"/>
                  </a:lnTo>
                  <a:lnTo>
                    <a:pt x="687" y="870"/>
                  </a:lnTo>
                  <a:lnTo>
                    <a:pt x="802" y="870"/>
                  </a:lnTo>
                  <a:lnTo>
                    <a:pt x="802" y="12"/>
                  </a:lnTo>
                  <a:lnTo>
                    <a:pt x="687" y="12"/>
                  </a:lnTo>
                  <a:lnTo>
                    <a:pt x="687" y="870"/>
                  </a:lnTo>
                  <a:lnTo>
                    <a:pt x="1874" y="372"/>
                  </a:lnTo>
                  <a:lnTo>
                    <a:pt x="264" y="127"/>
                  </a:lnTo>
                  <a:lnTo>
                    <a:pt x="278" y="128"/>
                  </a:lnTo>
                  <a:lnTo>
                    <a:pt x="291" y="129"/>
                  </a:lnTo>
                  <a:lnTo>
                    <a:pt x="303" y="132"/>
                  </a:lnTo>
                  <a:lnTo>
                    <a:pt x="314" y="135"/>
                  </a:lnTo>
                  <a:lnTo>
                    <a:pt x="324" y="140"/>
                  </a:lnTo>
                  <a:lnTo>
                    <a:pt x="333" y="145"/>
                  </a:lnTo>
                  <a:lnTo>
                    <a:pt x="341" y="151"/>
                  </a:lnTo>
                  <a:lnTo>
                    <a:pt x="349" y="158"/>
                  </a:lnTo>
                  <a:lnTo>
                    <a:pt x="356" y="166"/>
                  </a:lnTo>
                  <a:lnTo>
                    <a:pt x="362" y="175"/>
                  </a:lnTo>
                  <a:lnTo>
                    <a:pt x="367" y="185"/>
                  </a:lnTo>
                  <a:lnTo>
                    <a:pt x="371" y="196"/>
                  </a:lnTo>
                  <a:lnTo>
                    <a:pt x="374" y="207"/>
                  </a:lnTo>
                  <a:lnTo>
                    <a:pt x="377" y="220"/>
                  </a:lnTo>
                  <a:lnTo>
                    <a:pt x="378" y="233"/>
                  </a:lnTo>
                  <a:lnTo>
                    <a:pt x="379" y="248"/>
                  </a:lnTo>
                  <a:lnTo>
                    <a:pt x="379" y="287"/>
                  </a:lnTo>
                  <a:lnTo>
                    <a:pt x="377" y="309"/>
                  </a:lnTo>
                  <a:lnTo>
                    <a:pt x="377" y="315"/>
                  </a:lnTo>
                  <a:lnTo>
                    <a:pt x="375" y="326"/>
                  </a:lnTo>
                  <a:lnTo>
                    <a:pt x="372" y="336"/>
                  </a:lnTo>
                  <a:lnTo>
                    <a:pt x="368" y="346"/>
                  </a:lnTo>
                  <a:lnTo>
                    <a:pt x="364" y="355"/>
                  </a:lnTo>
                  <a:lnTo>
                    <a:pt x="360" y="363"/>
                  </a:lnTo>
                  <a:lnTo>
                    <a:pt x="355" y="371"/>
                  </a:lnTo>
                  <a:lnTo>
                    <a:pt x="349" y="378"/>
                  </a:lnTo>
                  <a:lnTo>
                    <a:pt x="342" y="384"/>
                  </a:lnTo>
                  <a:lnTo>
                    <a:pt x="335" y="390"/>
                  </a:lnTo>
                  <a:lnTo>
                    <a:pt x="326" y="395"/>
                  </a:lnTo>
                  <a:lnTo>
                    <a:pt x="318" y="399"/>
                  </a:lnTo>
                  <a:lnTo>
                    <a:pt x="308" y="402"/>
                  </a:lnTo>
                  <a:lnTo>
                    <a:pt x="298" y="405"/>
                  </a:lnTo>
                  <a:lnTo>
                    <a:pt x="287" y="407"/>
                  </a:lnTo>
                  <a:lnTo>
                    <a:pt x="276" y="408"/>
                  </a:lnTo>
                  <a:lnTo>
                    <a:pt x="264" y="409"/>
                  </a:lnTo>
                  <a:lnTo>
                    <a:pt x="246" y="409"/>
                  </a:lnTo>
                  <a:lnTo>
                    <a:pt x="115" y="408"/>
                  </a:lnTo>
                  <a:lnTo>
                    <a:pt x="115" y="127"/>
                  </a:lnTo>
                  <a:lnTo>
                    <a:pt x="1" y="13"/>
                  </a:lnTo>
                  <a:lnTo>
                    <a:pt x="0" y="813"/>
                  </a:lnTo>
                  <a:lnTo>
                    <a:pt x="0" y="870"/>
                  </a:lnTo>
                  <a:lnTo>
                    <a:pt x="55" y="870"/>
                  </a:lnTo>
                  <a:lnTo>
                    <a:pt x="57" y="870"/>
                  </a:lnTo>
                  <a:lnTo>
                    <a:pt x="60" y="870"/>
                  </a:lnTo>
                  <a:lnTo>
                    <a:pt x="115" y="870"/>
                  </a:lnTo>
                  <a:lnTo>
                    <a:pt x="115" y="814"/>
                  </a:lnTo>
                  <a:lnTo>
                    <a:pt x="115" y="812"/>
                  </a:lnTo>
                  <a:lnTo>
                    <a:pt x="115" y="523"/>
                  </a:lnTo>
                  <a:lnTo>
                    <a:pt x="262" y="524"/>
                  </a:lnTo>
                  <a:lnTo>
                    <a:pt x="439" y="870"/>
                  </a:lnTo>
                  <a:lnTo>
                    <a:pt x="567" y="870"/>
                  </a:lnTo>
                  <a:lnTo>
                    <a:pt x="378" y="497"/>
                  </a:lnTo>
                  <a:lnTo>
                    <a:pt x="390" y="490"/>
                  </a:lnTo>
                  <a:lnTo>
                    <a:pt x="401" y="483"/>
                  </a:lnTo>
                  <a:lnTo>
                    <a:pt x="412" y="474"/>
                  </a:lnTo>
                  <a:lnTo>
                    <a:pt x="422" y="466"/>
                  </a:lnTo>
                  <a:lnTo>
                    <a:pt x="432" y="456"/>
                  </a:lnTo>
                  <a:lnTo>
                    <a:pt x="440" y="446"/>
                  </a:lnTo>
                  <a:lnTo>
                    <a:pt x="448" y="435"/>
                  </a:lnTo>
                  <a:lnTo>
                    <a:pt x="456" y="424"/>
                  </a:lnTo>
                  <a:lnTo>
                    <a:pt x="463" y="412"/>
                  </a:lnTo>
                  <a:lnTo>
                    <a:pt x="469" y="399"/>
                  </a:lnTo>
                  <a:lnTo>
                    <a:pt x="474" y="386"/>
                  </a:lnTo>
                  <a:lnTo>
                    <a:pt x="479" y="373"/>
                  </a:lnTo>
                  <a:lnTo>
                    <a:pt x="483" y="359"/>
                  </a:lnTo>
                  <a:lnTo>
                    <a:pt x="486" y="345"/>
                  </a:lnTo>
                  <a:lnTo>
                    <a:pt x="489" y="330"/>
                  </a:lnTo>
                  <a:lnTo>
                    <a:pt x="490" y="315"/>
                  </a:lnTo>
                  <a:lnTo>
                    <a:pt x="492" y="248"/>
                  </a:lnTo>
                  <a:lnTo>
                    <a:pt x="491" y="222"/>
                  </a:lnTo>
                  <a:lnTo>
                    <a:pt x="488" y="198"/>
                  </a:lnTo>
                  <a:lnTo>
                    <a:pt x="483" y="175"/>
                  </a:lnTo>
                  <a:lnTo>
                    <a:pt x="476" y="152"/>
                  </a:lnTo>
                  <a:lnTo>
                    <a:pt x="467" y="132"/>
                  </a:lnTo>
                  <a:lnTo>
                    <a:pt x="456" y="112"/>
                  </a:lnTo>
                  <a:lnTo>
                    <a:pt x="444" y="94"/>
                  </a:lnTo>
                  <a:lnTo>
                    <a:pt x="430" y="78"/>
                  </a:lnTo>
                  <a:lnTo>
                    <a:pt x="414" y="63"/>
                  </a:lnTo>
                  <a:lnTo>
                    <a:pt x="397" y="50"/>
                  </a:lnTo>
                  <a:lnTo>
                    <a:pt x="378" y="39"/>
                  </a:lnTo>
                  <a:lnTo>
                    <a:pt x="357" y="29"/>
                  </a:lnTo>
                  <a:lnTo>
                    <a:pt x="336" y="22"/>
                  </a:lnTo>
                  <a:lnTo>
                    <a:pt x="313" y="17"/>
                  </a:lnTo>
                  <a:lnTo>
                    <a:pt x="289" y="13"/>
                  </a:lnTo>
                  <a:lnTo>
                    <a:pt x="264" y="12"/>
                  </a:lnTo>
                  <a:lnTo>
                    <a:pt x="1" y="13"/>
                  </a:lnTo>
                  <a:lnTo>
                    <a:pt x="115" y="127"/>
                  </a:lnTo>
                  <a:lnTo>
                    <a:pt x="264" y="127"/>
                  </a:lnTo>
                  <a:lnTo>
                    <a:pt x="1874" y="372"/>
                  </a:lnTo>
                  <a:lnTo>
                    <a:pt x="4977" y="12"/>
                  </a:lnTo>
                  <a:lnTo>
                    <a:pt x="4977" y="869"/>
                  </a:lnTo>
                  <a:lnTo>
                    <a:pt x="5092" y="869"/>
                  </a:lnTo>
                  <a:lnTo>
                    <a:pt x="5091" y="12"/>
                  </a:lnTo>
                  <a:lnTo>
                    <a:pt x="4977" y="12"/>
                  </a:lnTo>
                  <a:lnTo>
                    <a:pt x="1874" y="372"/>
                  </a:lnTo>
                  <a:lnTo>
                    <a:pt x="5825" y="12"/>
                  </a:lnTo>
                  <a:lnTo>
                    <a:pt x="5241" y="12"/>
                  </a:lnTo>
                  <a:lnTo>
                    <a:pt x="5241" y="126"/>
                  </a:lnTo>
                  <a:lnTo>
                    <a:pt x="5475" y="127"/>
                  </a:lnTo>
                  <a:lnTo>
                    <a:pt x="5475" y="869"/>
                  </a:lnTo>
                  <a:lnTo>
                    <a:pt x="5590" y="869"/>
                  </a:lnTo>
                  <a:lnTo>
                    <a:pt x="5590" y="127"/>
                  </a:lnTo>
                  <a:lnTo>
                    <a:pt x="5825" y="127"/>
                  </a:lnTo>
                  <a:lnTo>
                    <a:pt x="5825" y="12"/>
                  </a:lnTo>
                  <a:lnTo>
                    <a:pt x="1874" y="372"/>
                  </a:lnTo>
                  <a:lnTo>
                    <a:pt x="6706" y="619"/>
                  </a:lnTo>
                  <a:lnTo>
                    <a:pt x="6706" y="12"/>
                  </a:lnTo>
                  <a:lnTo>
                    <a:pt x="6591" y="12"/>
                  </a:lnTo>
                  <a:lnTo>
                    <a:pt x="6591" y="494"/>
                  </a:lnTo>
                  <a:lnTo>
                    <a:pt x="6591" y="867"/>
                  </a:lnTo>
                  <a:lnTo>
                    <a:pt x="7002" y="867"/>
                  </a:lnTo>
                  <a:lnTo>
                    <a:pt x="7002" y="753"/>
                  </a:lnTo>
                  <a:lnTo>
                    <a:pt x="6706" y="752"/>
                  </a:lnTo>
                  <a:lnTo>
                    <a:pt x="6706" y="619"/>
                  </a:lnTo>
                  <a:lnTo>
                    <a:pt x="1874" y="372"/>
                  </a:lnTo>
                  <a:lnTo>
                    <a:pt x="4362" y="869"/>
                  </a:lnTo>
                  <a:lnTo>
                    <a:pt x="4477" y="869"/>
                  </a:lnTo>
                  <a:lnTo>
                    <a:pt x="4477" y="523"/>
                  </a:lnTo>
                  <a:lnTo>
                    <a:pt x="4594" y="523"/>
                  </a:lnTo>
                  <a:lnTo>
                    <a:pt x="4613" y="522"/>
                  </a:lnTo>
                  <a:lnTo>
                    <a:pt x="4637" y="521"/>
                  </a:lnTo>
                  <a:lnTo>
                    <a:pt x="4659" y="518"/>
                  </a:lnTo>
                  <a:lnTo>
                    <a:pt x="4681" y="513"/>
                  </a:lnTo>
                  <a:lnTo>
                    <a:pt x="4701" y="506"/>
                  </a:lnTo>
                  <a:lnTo>
                    <a:pt x="4721" y="498"/>
                  </a:lnTo>
                  <a:lnTo>
                    <a:pt x="4739" y="488"/>
                  </a:lnTo>
                  <a:lnTo>
                    <a:pt x="4756" y="476"/>
                  </a:lnTo>
                  <a:lnTo>
                    <a:pt x="4771" y="463"/>
                  </a:lnTo>
                  <a:lnTo>
                    <a:pt x="4785" y="448"/>
                  </a:lnTo>
                  <a:lnTo>
                    <a:pt x="4798" y="432"/>
                  </a:lnTo>
                  <a:lnTo>
                    <a:pt x="4809" y="414"/>
                  </a:lnTo>
                  <a:lnTo>
                    <a:pt x="4818" y="395"/>
                  </a:lnTo>
                  <a:lnTo>
                    <a:pt x="4826" y="376"/>
                  </a:lnTo>
                  <a:lnTo>
                    <a:pt x="4833" y="355"/>
                  </a:lnTo>
                  <a:lnTo>
                    <a:pt x="4837" y="333"/>
                  </a:lnTo>
                  <a:lnTo>
                    <a:pt x="4839" y="310"/>
                  </a:lnTo>
                  <a:lnTo>
                    <a:pt x="4840" y="295"/>
                  </a:lnTo>
                  <a:lnTo>
                    <a:pt x="4840" y="248"/>
                  </a:lnTo>
                  <a:lnTo>
                    <a:pt x="4839" y="222"/>
                  </a:lnTo>
                  <a:lnTo>
                    <a:pt x="4837" y="198"/>
                  </a:lnTo>
                  <a:lnTo>
                    <a:pt x="4832" y="175"/>
                  </a:lnTo>
                  <a:lnTo>
                    <a:pt x="4825" y="153"/>
                  </a:lnTo>
                  <a:lnTo>
                    <a:pt x="4816" y="132"/>
                  </a:lnTo>
                  <a:lnTo>
                    <a:pt x="4806" y="112"/>
                  </a:lnTo>
                  <a:lnTo>
                    <a:pt x="4793" y="94"/>
                  </a:lnTo>
                  <a:lnTo>
                    <a:pt x="4779" y="78"/>
                  </a:lnTo>
                  <a:lnTo>
                    <a:pt x="4764" y="63"/>
                  </a:lnTo>
                  <a:lnTo>
                    <a:pt x="4746" y="50"/>
                  </a:lnTo>
                  <a:lnTo>
                    <a:pt x="4728" y="39"/>
                  </a:lnTo>
                  <a:lnTo>
                    <a:pt x="4707" y="29"/>
                  </a:lnTo>
                  <a:lnTo>
                    <a:pt x="4686" y="22"/>
                  </a:lnTo>
                  <a:lnTo>
                    <a:pt x="4663" y="17"/>
                  </a:lnTo>
                  <a:lnTo>
                    <a:pt x="4639" y="13"/>
                  </a:lnTo>
                  <a:lnTo>
                    <a:pt x="4614" y="12"/>
                  </a:lnTo>
                  <a:lnTo>
                    <a:pt x="4361" y="12"/>
                  </a:lnTo>
                  <a:lnTo>
                    <a:pt x="4477" y="127"/>
                  </a:lnTo>
                  <a:lnTo>
                    <a:pt x="4614" y="127"/>
                  </a:lnTo>
                  <a:lnTo>
                    <a:pt x="4628" y="128"/>
                  </a:lnTo>
                  <a:lnTo>
                    <a:pt x="4641" y="129"/>
                  </a:lnTo>
                  <a:lnTo>
                    <a:pt x="4653" y="132"/>
                  </a:lnTo>
                  <a:lnTo>
                    <a:pt x="4664" y="135"/>
                  </a:lnTo>
                  <a:lnTo>
                    <a:pt x="4674" y="140"/>
                  </a:lnTo>
                  <a:lnTo>
                    <a:pt x="4683" y="145"/>
                  </a:lnTo>
                  <a:lnTo>
                    <a:pt x="4691" y="151"/>
                  </a:lnTo>
                  <a:lnTo>
                    <a:pt x="4698" y="158"/>
                  </a:lnTo>
                  <a:lnTo>
                    <a:pt x="4705" y="166"/>
                  </a:lnTo>
                  <a:lnTo>
                    <a:pt x="4711" y="175"/>
                  </a:lnTo>
                  <a:lnTo>
                    <a:pt x="4716" y="185"/>
                  </a:lnTo>
                  <a:lnTo>
                    <a:pt x="4720" y="196"/>
                  </a:lnTo>
                  <a:lnTo>
                    <a:pt x="4723" y="207"/>
                  </a:lnTo>
                  <a:lnTo>
                    <a:pt x="4726" y="220"/>
                  </a:lnTo>
                  <a:lnTo>
                    <a:pt x="4727" y="233"/>
                  </a:lnTo>
                  <a:lnTo>
                    <a:pt x="4728" y="248"/>
                  </a:lnTo>
                  <a:lnTo>
                    <a:pt x="4728" y="286"/>
                  </a:lnTo>
                  <a:lnTo>
                    <a:pt x="4726" y="310"/>
                  </a:lnTo>
                  <a:lnTo>
                    <a:pt x="4724" y="321"/>
                  </a:lnTo>
                  <a:lnTo>
                    <a:pt x="4721" y="332"/>
                  </a:lnTo>
                  <a:lnTo>
                    <a:pt x="4718" y="342"/>
                  </a:lnTo>
                  <a:lnTo>
                    <a:pt x="4715" y="351"/>
                  </a:lnTo>
                  <a:lnTo>
                    <a:pt x="4710" y="359"/>
                  </a:lnTo>
                  <a:lnTo>
                    <a:pt x="4705" y="367"/>
                  </a:lnTo>
                  <a:lnTo>
                    <a:pt x="4699" y="374"/>
                  </a:lnTo>
                  <a:lnTo>
                    <a:pt x="4693" y="381"/>
                  </a:lnTo>
                  <a:lnTo>
                    <a:pt x="4686" y="386"/>
                  </a:lnTo>
                  <a:lnTo>
                    <a:pt x="4678" y="391"/>
                  </a:lnTo>
                  <a:lnTo>
                    <a:pt x="4669" y="396"/>
                  </a:lnTo>
                  <a:lnTo>
                    <a:pt x="4660" y="399"/>
                  </a:lnTo>
                  <a:lnTo>
                    <a:pt x="4650" y="402"/>
                  </a:lnTo>
                  <a:lnTo>
                    <a:pt x="4640" y="404"/>
                  </a:lnTo>
                  <a:lnTo>
                    <a:pt x="4628" y="406"/>
                  </a:lnTo>
                  <a:lnTo>
                    <a:pt x="4616" y="406"/>
                  </a:lnTo>
                  <a:lnTo>
                    <a:pt x="4569" y="408"/>
                  </a:lnTo>
                  <a:lnTo>
                    <a:pt x="4477" y="408"/>
                  </a:lnTo>
                  <a:lnTo>
                    <a:pt x="4477" y="127"/>
                  </a:lnTo>
                  <a:lnTo>
                    <a:pt x="4361" y="12"/>
                  </a:lnTo>
                  <a:lnTo>
                    <a:pt x="4362" y="869"/>
                  </a:lnTo>
                  <a:lnTo>
                    <a:pt x="1874" y="372"/>
                  </a:lnTo>
                  <a:lnTo>
                    <a:pt x="3999" y="372"/>
                  </a:lnTo>
                  <a:lnTo>
                    <a:pt x="3930" y="345"/>
                  </a:lnTo>
                  <a:lnTo>
                    <a:pt x="3914" y="338"/>
                  </a:lnTo>
                  <a:lnTo>
                    <a:pt x="3899" y="330"/>
                  </a:lnTo>
                  <a:lnTo>
                    <a:pt x="3885" y="323"/>
                  </a:lnTo>
                  <a:lnTo>
                    <a:pt x="3872" y="315"/>
                  </a:lnTo>
                  <a:lnTo>
                    <a:pt x="3861" y="306"/>
                  </a:lnTo>
                  <a:lnTo>
                    <a:pt x="3850" y="297"/>
                  </a:lnTo>
                  <a:lnTo>
                    <a:pt x="3842" y="288"/>
                  </a:lnTo>
                  <a:lnTo>
                    <a:pt x="3834" y="278"/>
                  </a:lnTo>
                  <a:lnTo>
                    <a:pt x="3828" y="266"/>
                  </a:lnTo>
                  <a:lnTo>
                    <a:pt x="3824" y="253"/>
                  </a:lnTo>
                  <a:lnTo>
                    <a:pt x="3821" y="239"/>
                  </a:lnTo>
                  <a:lnTo>
                    <a:pt x="3820" y="223"/>
                  </a:lnTo>
                  <a:lnTo>
                    <a:pt x="3821" y="212"/>
                  </a:lnTo>
                  <a:lnTo>
                    <a:pt x="3823" y="200"/>
                  </a:lnTo>
                  <a:lnTo>
                    <a:pt x="3826" y="190"/>
                  </a:lnTo>
                  <a:lnTo>
                    <a:pt x="3829" y="180"/>
                  </a:lnTo>
                  <a:lnTo>
                    <a:pt x="3834" y="170"/>
                  </a:lnTo>
                  <a:lnTo>
                    <a:pt x="3840" y="162"/>
                  </a:lnTo>
                  <a:lnTo>
                    <a:pt x="3847" y="154"/>
                  </a:lnTo>
                  <a:lnTo>
                    <a:pt x="3854" y="147"/>
                  </a:lnTo>
                  <a:lnTo>
                    <a:pt x="3863" y="141"/>
                  </a:lnTo>
                  <a:lnTo>
                    <a:pt x="3872" y="135"/>
                  </a:lnTo>
                  <a:lnTo>
                    <a:pt x="3882" y="130"/>
                  </a:lnTo>
                  <a:lnTo>
                    <a:pt x="3893" y="126"/>
                  </a:lnTo>
                  <a:lnTo>
                    <a:pt x="3904" y="123"/>
                  </a:lnTo>
                  <a:lnTo>
                    <a:pt x="3917" y="121"/>
                  </a:lnTo>
                  <a:lnTo>
                    <a:pt x="3929" y="119"/>
                  </a:lnTo>
                  <a:lnTo>
                    <a:pt x="3943" y="119"/>
                  </a:lnTo>
                  <a:lnTo>
                    <a:pt x="3956" y="119"/>
                  </a:lnTo>
                  <a:lnTo>
                    <a:pt x="3969" y="121"/>
                  </a:lnTo>
                  <a:lnTo>
                    <a:pt x="3982" y="124"/>
                  </a:lnTo>
                  <a:lnTo>
                    <a:pt x="3995" y="127"/>
                  </a:lnTo>
                  <a:lnTo>
                    <a:pt x="4007" y="131"/>
                  </a:lnTo>
                  <a:lnTo>
                    <a:pt x="4019" y="136"/>
                  </a:lnTo>
                  <a:lnTo>
                    <a:pt x="4041" y="146"/>
                  </a:lnTo>
                  <a:lnTo>
                    <a:pt x="4059" y="156"/>
                  </a:lnTo>
                  <a:lnTo>
                    <a:pt x="4073" y="165"/>
                  </a:lnTo>
                  <a:lnTo>
                    <a:pt x="4085" y="174"/>
                  </a:lnTo>
                  <a:lnTo>
                    <a:pt x="4167" y="92"/>
                  </a:lnTo>
                  <a:lnTo>
                    <a:pt x="4156" y="82"/>
                  </a:lnTo>
                  <a:lnTo>
                    <a:pt x="4144" y="72"/>
                  </a:lnTo>
                  <a:lnTo>
                    <a:pt x="4132" y="62"/>
                  </a:lnTo>
                  <a:lnTo>
                    <a:pt x="4118" y="54"/>
                  </a:lnTo>
                  <a:lnTo>
                    <a:pt x="4105" y="46"/>
                  </a:lnTo>
                  <a:lnTo>
                    <a:pt x="4091" y="38"/>
                  </a:lnTo>
                  <a:lnTo>
                    <a:pt x="4076" y="31"/>
                  </a:lnTo>
                  <a:lnTo>
                    <a:pt x="4062" y="25"/>
                  </a:lnTo>
                  <a:lnTo>
                    <a:pt x="4047" y="19"/>
                  </a:lnTo>
                  <a:lnTo>
                    <a:pt x="4032" y="14"/>
                  </a:lnTo>
                  <a:lnTo>
                    <a:pt x="4017" y="10"/>
                  </a:lnTo>
                  <a:lnTo>
                    <a:pt x="4001" y="7"/>
                  </a:lnTo>
                  <a:lnTo>
                    <a:pt x="3986" y="4"/>
                  </a:lnTo>
                  <a:lnTo>
                    <a:pt x="3972" y="2"/>
                  </a:lnTo>
                  <a:lnTo>
                    <a:pt x="3957" y="1"/>
                  </a:lnTo>
                  <a:lnTo>
                    <a:pt x="3943" y="0"/>
                  </a:lnTo>
                  <a:lnTo>
                    <a:pt x="3920" y="1"/>
                  </a:lnTo>
                  <a:lnTo>
                    <a:pt x="3898" y="4"/>
                  </a:lnTo>
                  <a:lnTo>
                    <a:pt x="3876" y="9"/>
                  </a:lnTo>
                  <a:lnTo>
                    <a:pt x="3854" y="15"/>
                  </a:lnTo>
                  <a:lnTo>
                    <a:pt x="3833" y="23"/>
                  </a:lnTo>
                  <a:lnTo>
                    <a:pt x="3813" y="33"/>
                  </a:lnTo>
                  <a:lnTo>
                    <a:pt x="3794" y="45"/>
                  </a:lnTo>
                  <a:lnTo>
                    <a:pt x="3776" y="58"/>
                  </a:lnTo>
                  <a:lnTo>
                    <a:pt x="3759" y="73"/>
                  </a:lnTo>
                  <a:lnTo>
                    <a:pt x="3751" y="81"/>
                  </a:lnTo>
                  <a:lnTo>
                    <a:pt x="3744" y="90"/>
                  </a:lnTo>
                  <a:lnTo>
                    <a:pt x="3737" y="99"/>
                  </a:lnTo>
                  <a:lnTo>
                    <a:pt x="3731" y="108"/>
                  </a:lnTo>
                  <a:lnTo>
                    <a:pt x="3725" y="118"/>
                  </a:lnTo>
                  <a:lnTo>
                    <a:pt x="3719" y="128"/>
                  </a:lnTo>
                  <a:lnTo>
                    <a:pt x="3714" y="139"/>
                  </a:lnTo>
                  <a:lnTo>
                    <a:pt x="3710" y="150"/>
                  </a:lnTo>
                  <a:lnTo>
                    <a:pt x="3706" y="161"/>
                  </a:lnTo>
                  <a:lnTo>
                    <a:pt x="3703" y="173"/>
                  </a:lnTo>
                  <a:lnTo>
                    <a:pt x="3701" y="185"/>
                  </a:lnTo>
                  <a:lnTo>
                    <a:pt x="3699" y="198"/>
                  </a:lnTo>
                  <a:lnTo>
                    <a:pt x="3698" y="210"/>
                  </a:lnTo>
                  <a:lnTo>
                    <a:pt x="3698" y="223"/>
                  </a:lnTo>
                  <a:lnTo>
                    <a:pt x="3698" y="237"/>
                  </a:lnTo>
                  <a:lnTo>
                    <a:pt x="3699" y="250"/>
                  </a:lnTo>
                  <a:lnTo>
                    <a:pt x="3700" y="262"/>
                  </a:lnTo>
                  <a:lnTo>
                    <a:pt x="3702" y="274"/>
                  </a:lnTo>
                  <a:lnTo>
                    <a:pt x="3705" y="286"/>
                  </a:lnTo>
                  <a:lnTo>
                    <a:pt x="3708" y="297"/>
                  </a:lnTo>
                  <a:lnTo>
                    <a:pt x="3711" y="308"/>
                  </a:lnTo>
                  <a:lnTo>
                    <a:pt x="3715" y="318"/>
                  </a:lnTo>
                  <a:lnTo>
                    <a:pt x="3725" y="337"/>
                  </a:lnTo>
                  <a:lnTo>
                    <a:pt x="3735" y="354"/>
                  </a:lnTo>
                  <a:lnTo>
                    <a:pt x="3748" y="369"/>
                  </a:lnTo>
                  <a:lnTo>
                    <a:pt x="3762" y="383"/>
                  </a:lnTo>
                  <a:lnTo>
                    <a:pt x="3773" y="393"/>
                  </a:lnTo>
                  <a:lnTo>
                    <a:pt x="3784" y="402"/>
                  </a:lnTo>
                  <a:lnTo>
                    <a:pt x="3796" y="410"/>
                  </a:lnTo>
                  <a:lnTo>
                    <a:pt x="3808" y="417"/>
                  </a:lnTo>
                  <a:lnTo>
                    <a:pt x="3834" y="431"/>
                  </a:lnTo>
                  <a:lnTo>
                    <a:pt x="3860" y="443"/>
                  </a:lnTo>
                  <a:lnTo>
                    <a:pt x="3887" y="454"/>
                  </a:lnTo>
                  <a:lnTo>
                    <a:pt x="3913" y="465"/>
                  </a:lnTo>
                  <a:lnTo>
                    <a:pt x="3939" y="475"/>
                  </a:lnTo>
                  <a:lnTo>
                    <a:pt x="3964" y="486"/>
                  </a:lnTo>
                  <a:lnTo>
                    <a:pt x="3987" y="498"/>
                  </a:lnTo>
                  <a:lnTo>
                    <a:pt x="4008" y="511"/>
                  </a:lnTo>
                  <a:lnTo>
                    <a:pt x="4018" y="518"/>
                  </a:lnTo>
                  <a:lnTo>
                    <a:pt x="4027" y="525"/>
                  </a:lnTo>
                  <a:lnTo>
                    <a:pt x="4035" y="532"/>
                  </a:lnTo>
                  <a:lnTo>
                    <a:pt x="4043" y="541"/>
                  </a:lnTo>
                  <a:lnTo>
                    <a:pt x="4050" y="549"/>
                  </a:lnTo>
                  <a:lnTo>
                    <a:pt x="4056" y="559"/>
                  </a:lnTo>
                  <a:lnTo>
                    <a:pt x="4061" y="569"/>
                  </a:lnTo>
                  <a:lnTo>
                    <a:pt x="4065" y="580"/>
                  </a:lnTo>
                  <a:lnTo>
                    <a:pt x="4069" y="592"/>
                  </a:lnTo>
                  <a:lnTo>
                    <a:pt x="4072" y="605"/>
                  </a:lnTo>
                  <a:lnTo>
                    <a:pt x="4073" y="619"/>
                  </a:lnTo>
                  <a:lnTo>
                    <a:pt x="4074" y="634"/>
                  </a:lnTo>
                  <a:lnTo>
                    <a:pt x="4073" y="647"/>
                  </a:lnTo>
                  <a:lnTo>
                    <a:pt x="4071" y="660"/>
                  </a:lnTo>
                  <a:lnTo>
                    <a:pt x="4067" y="672"/>
                  </a:lnTo>
                  <a:lnTo>
                    <a:pt x="4063" y="684"/>
                  </a:lnTo>
                  <a:lnTo>
                    <a:pt x="4057" y="696"/>
                  </a:lnTo>
                  <a:lnTo>
                    <a:pt x="4050" y="707"/>
                  </a:lnTo>
                  <a:lnTo>
                    <a:pt x="4042" y="717"/>
                  </a:lnTo>
                  <a:lnTo>
                    <a:pt x="4033" y="726"/>
                  </a:lnTo>
                  <a:lnTo>
                    <a:pt x="4024" y="735"/>
                  </a:lnTo>
                  <a:lnTo>
                    <a:pt x="4013" y="742"/>
                  </a:lnTo>
                  <a:lnTo>
                    <a:pt x="4002" y="749"/>
                  </a:lnTo>
                  <a:lnTo>
                    <a:pt x="3990" y="755"/>
                  </a:lnTo>
                  <a:lnTo>
                    <a:pt x="3978" y="759"/>
                  </a:lnTo>
                  <a:lnTo>
                    <a:pt x="3965" y="762"/>
                  </a:lnTo>
                  <a:lnTo>
                    <a:pt x="3953" y="764"/>
                  </a:lnTo>
                  <a:lnTo>
                    <a:pt x="3939" y="765"/>
                  </a:lnTo>
                  <a:lnTo>
                    <a:pt x="3923" y="764"/>
                  </a:lnTo>
                  <a:lnTo>
                    <a:pt x="3908" y="762"/>
                  </a:lnTo>
                  <a:lnTo>
                    <a:pt x="3893" y="758"/>
                  </a:lnTo>
                  <a:lnTo>
                    <a:pt x="3878" y="753"/>
                  </a:lnTo>
                  <a:lnTo>
                    <a:pt x="3865" y="748"/>
                  </a:lnTo>
                  <a:lnTo>
                    <a:pt x="3852" y="742"/>
                  </a:lnTo>
                  <a:lnTo>
                    <a:pt x="3840" y="735"/>
                  </a:lnTo>
                  <a:lnTo>
                    <a:pt x="3829" y="729"/>
                  </a:lnTo>
                  <a:lnTo>
                    <a:pt x="3810" y="715"/>
                  </a:lnTo>
                  <a:lnTo>
                    <a:pt x="3796" y="704"/>
                  </a:lnTo>
                  <a:lnTo>
                    <a:pt x="3784" y="693"/>
                  </a:lnTo>
                  <a:lnTo>
                    <a:pt x="3704" y="773"/>
                  </a:lnTo>
                  <a:lnTo>
                    <a:pt x="3715" y="786"/>
                  </a:lnTo>
                  <a:lnTo>
                    <a:pt x="3727" y="797"/>
                  </a:lnTo>
                  <a:lnTo>
                    <a:pt x="3739" y="809"/>
                  </a:lnTo>
                  <a:lnTo>
                    <a:pt x="3752" y="819"/>
                  </a:lnTo>
                  <a:lnTo>
                    <a:pt x="3766" y="829"/>
                  </a:lnTo>
                  <a:lnTo>
                    <a:pt x="3781" y="838"/>
                  </a:lnTo>
                  <a:lnTo>
                    <a:pt x="3795" y="846"/>
                  </a:lnTo>
                  <a:lnTo>
                    <a:pt x="3811" y="853"/>
                  </a:lnTo>
                  <a:lnTo>
                    <a:pt x="3826" y="860"/>
                  </a:lnTo>
                  <a:lnTo>
                    <a:pt x="3842" y="866"/>
                  </a:lnTo>
                  <a:lnTo>
                    <a:pt x="3858" y="871"/>
                  </a:lnTo>
                  <a:lnTo>
                    <a:pt x="3874" y="875"/>
                  </a:lnTo>
                  <a:lnTo>
                    <a:pt x="3890" y="878"/>
                  </a:lnTo>
                  <a:lnTo>
                    <a:pt x="3907" y="880"/>
                  </a:lnTo>
                  <a:lnTo>
                    <a:pt x="3923" y="882"/>
                  </a:lnTo>
                  <a:lnTo>
                    <a:pt x="3939" y="882"/>
                  </a:lnTo>
                  <a:lnTo>
                    <a:pt x="3952" y="882"/>
                  </a:lnTo>
                  <a:lnTo>
                    <a:pt x="3964" y="881"/>
                  </a:lnTo>
                  <a:lnTo>
                    <a:pt x="3976" y="879"/>
                  </a:lnTo>
                  <a:lnTo>
                    <a:pt x="3989" y="877"/>
                  </a:lnTo>
                  <a:lnTo>
                    <a:pt x="4013" y="871"/>
                  </a:lnTo>
                  <a:lnTo>
                    <a:pt x="4036" y="862"/>
                  </a:lnTo>
                  <a:lnTo>
                    <a:pt x="4058" y="852"/>
                  </a:lnTo>
                  <a:lnTo>
                    <a:pt x="4079" y="840"/>
                  </a:lnTo>
                  <a:lnTo>
                    <a:pt x="4099" y="825"/>
                  </a:lnTo>
                  <a:lnTo>
                    <a:pt x="4118" y="809"/>
                  </a:lnTo>
                  <a:lnTo>
                    <a:pt x="4135" y="792"/>
                  </a:lnTo>
                  <a:lnTo>
                    <a:pt x="4150" y="773"/>
                  </a:lnTo>
                  <a:lnTo>
                    <a:pt x="4163" y="752"/>
                  </a:lnTo>
                  <a:lnTo>
                    <a:pt x="4169" y="741"/>
                  </a:lnTo>
                  <a:lnTo>
                    <a:pt x="4175" y="730"/>
                  </a:lnTo>
                  <a:lnTo>
                    <a:pt x="4180" y="719"/>
                  </a:lnTo>
                  <a:lnTo>
                    <a:pt x="4184" y="708"/>
                  </a:lnTo>
                  <a:lnTo>
                    <a:pt x="4188" y="696"/>
                  </a:lnTo>
                  <a:lnTo>
                    <a:pt x="4191" y="684"/>
                  </a:lnTo>
                  <a:lnTo>
                    <a:pt x="4193" y="672"/>
                  </a:lnTo>
                  <a:lnTo>
                    <a:pt x="4195" y="659"/>
                  </a:lnTo>
                  <a:lnTo>
                    <a:pt x="4196" y="646"/>
                  </a:lnTo>
                  <a:lnTo>
                    <a:pt x="4196" y="634"/>
                  </a:lnTo>
                  <a:lnTo>
                    <a:pt x="4196" y="619"/>
                  </a:lnTo>
                  <a:lnTo>
                    <a:pt x="4195" y="604"/>
                  </a:lnTo>
                  <a:lnTo>
                    <a:pt x="4194" y="590"/>
                  </a:lnTo>
                  <a:lnTo>
                    <a:pt x="4192" y="577"/>
                  </a:lnTo>
                  <a:lnTo>
                    <a:pt x="4190" y="565"/>
                  </a:lnTo>
                  <a:lnTo>
                    <a:pt x="4187" y="552"/>
                  </a:lnTo>
                  <a:lnTo>
                    <a:pt x="4183" y="541"/>
                  </a:lnTo>
                  <a:lnTo>
                    <a:pt x="4179" y="529"/>
                  </a:lnTo>
                  <a:lnTo>
                    <a:pt x="4170" y="509"/>
                  </a:lnTo>
                  <a:lnTo>
                    <a:pt x="4159" y="489"/>
                  </a:lnTo>
                  <a:lnTo>
                    <a:pt x="4147" y="472"/>
                  </a:lnTo>
                  <a:lnTo>
                    <a:pt x="4133" y="456"/>
                  </a:lnTo>
                  <a:lnTo>
                    <a:pt x="4119" y="442"/>
                  </a:lnTo>
                  <a:lnTo>
                    <a:pt x="4103" y="429"/>
                  </a:lnTo>
                  <a:lnTo>
                    <a:pt x="4087" y="417"/>
                  </a:lnTo>
                  <a:lnTo>
                    <a:pt x="4070" y="406"/>
                  </a:lnTo>
                  <a:lnTo>
                    <a:pt x="4052" y="397"/>
                  </a:lnTo>
                  <a:lnTo>
                    <a:pt x="4034" y="388"/>
                  </a:lnTo>
                  <a:lnTo>
                    <a:pt x="4016" y="380"/>
                  </a:lnTo>
                  <a:lnTo>
                    <a:pt x="3999" y="372"/>
                  </a:lnTo>
                  <a:lnTo>
                    <a:pt x="1874" y="372"/>
                  </a:lnTo>
                  <a:lnTo>
                    <a:pt x="3038" y="749"/>
                  </a:lnTo>
                  <a:lnTo>
                    <a:pt x="3048" y="764"/>
                  </a:lnTo>
                  <a:lnTo>
                    <a:pt x="3058" y="778"/>
                  </a:lnTo>
                  <a:lnTo>
                    <a:pt x="3070" y="791"/>
                  </a:lnTo>
                  <a:lnTo>
                    <a:pt x="3082" y="804"/>
                  </a:lnTo>
                  <a:lnTo>
                    <a:pt x="3094" y="816"/>
                  </a:lnTo>
                  <a:lnTo>
                    <a:pt x="3107" y="827"/>
                  </a:lnTo>
                  <a:lnTo>
                    <a:pt x="3121" y="837"/>
                  </a:lnTo>
                  <a:lnTo>
                    <a:pt x="3136" y="846"/>
                  </a:lnTo>
                  <a:lnTo>
                    <a:pt x="3151" y="854"/>
                  </a:lnTo>
                  <a:lnTo>
                    <a:pt x="3167" y="861"/>
                  </a:lnTo>
                  <a:lnTo>
                    <a:pt x="3184" y="868"/>
                  </a:lnTo>
                  <a:lnTo>
                    <a:pt x="3201" y="873"/>
                  </a:lnTo>
                  <a:lnTo>
                    <a:pt x="3219" y="877"/>
                  </a:lnTo>
                  <a:lnTo>
                    <a:pt x="3237" y="880"/>
                  </a:lnTo>
                  <a:lnTo>
                    <a:pt x="3256" y="882"/>
                  </a:lnTo>
                  <a:lnTo>
                    <a:pt x="3276" y="882"/>
                  </a:lnTo>
                  <a:lnTo>
                    <a:pt x="3277" y="882"/>
                  </a:lnTo>
                  <a:lnTo>
                    <a:pt x="3296" y="881"/>
                  </a:lnTo>
                  <a:lnTo>
                    <a:pt x="3315" y="880"/>
                  </a:lnTo>
                  <a:lnTo>
                    <a:pt x="3333" y="877"/>
                  </a:lnTo>
                  <a:lnTo>
                    <a:pt x="3351" y="873"/>
                  </a:lnTo>
                  <a:lnTo>
                    <a:pt x="3368" y="867"/>
                  </a:lnTo>
                  <a:lnTo>
                    <a:pt x="3385" y="861"/>
                  </a:lnTo>
                  <a:lnTo>
                    <a:pt x="3401" y="854"/>
                  </a:lnTo>
                  <a:lnTo>
                    <a:pt x="3416" y="846"/>
                  </a:lnTo>
                  <a:lnTo>
                    <a:pt x="3430" y="837"/>
                  </a:lnTo>
                  <a:lnTo>
                    <a:pt x="3444" y="826"/>
                  </a:lnTo>
                  <a:lnTo>
                    <a:pt x="3458" y="815"/>
                  </a:lnTo>
                  <a:lnTo>
                    <a:pt x="3470" y="804"/>
                  </a:lnTo>
                  <a:lnTo>
                    <a:pt x="3482" y="791"/>
                  </a:lnTo>
                  <a:lnTo>
                    <a:pt x="3493" y="778"/>
                  </a:lnTo>
                  <a:lnTo>
                    <a:pt x="3504" y="764"/>
                  </a:lnTo>
                  <a:lnTo>
                    <a:pt x="3514" y="749"/>
                  </a:lnTo>
                  <a:lnTo>
                    <a:pt x="3523" y="733"/>
                  </a:lnTo>
                  <a:lnTo>
                    <a:pt x="3532" y="717"/>
                  </a:lnTo>
                  <a:lnTo>
                    <a:pt x="3540" y="700"/>
                  </a:lnTo>
                  <a:lnTo>
                    <a:pt x="3547" y="683"/>
                  </a:lnTo>
                  <a:lnTo>
                    <a:pt x="3554" y="665"/>
                  </a:lnTo>
                  <a:lnTo>
                    <a:pt x="3560" y="647"/>
                  </a:lnTo>
                  <a:lnTo>
                    <a:pt x="3565" y="628"/>
                  </a:lnTo>
                  <a:lnTo>
                    <a:pt x="3570" y="608"/>
                  </a:lnTo>
                  <a:lnTo>
                    <a:pt x="3575" y="589"/>
                  </a:lnTo>
                  <a:lnTo>
                    <a:pt x="3578" y="569"/>
                  </a:lnTo>
                  <a:lnTo>
                    <a:pt x="3582" y="548"/>
                  </a:lnTo>
                  <a:lnTo>
                    <a:pt x="3584" y="527"/>
                  </a:lnTo>
                  <a:lnTo>
                    <a:pt x="3588" y="484"/>
                  </a:lnTo>
                  <a:lnTo>
                    <a:pt x="3589" y="441"/>
                  </a:lnTo>
                  <a:lnTo>
                    <a:pt x="3588" y="397"/>
                  </a:lnTo>
                  <a:lnTo>
                    <a:pt x="3584" y="354"/>
                  </a:lnTo>
                  <a:lnTo>
                    <a:pt x="3582" y="333"/>
                  </a:lnTo>
                  <a:lnTo>
                    <a:pt x="3578" y="313"/>
                  </a:lnTo>
                  <a:lnTo>
                    <a:pt x="3575" y="293"/>
                  </a:lnTo>
                  <a:lnTo>
                    <a:pt x="3570" y="273"/>
                  </a:lnTo>
                  <a:lnTo>
                    <a:pt x="3565" y="254"/>
                  </a:lnTo>
                  <a:lnTo>
                    <a:pt x="3560" y="235"/>
                  </a:lnTo>
                  <a:lnTo>
                    <a:pt x="3554" y="216"/>
                  </a:lnTo>
                  <a:lnTo>
                    <a:pt x="3547" y="199"/>
                  </a:lnTo>
                  <a:lnTo>
                    <a:pt x="3540" y="181"/>
                  </a:lnTo>
                  <a:lnTo>
                    <a:pt x="3532" y="165"/>
                  </a:lnTo>
                  <a:lnTo>
                    <a:pt x="3523" y="149"/>
                  </a:lnTo>
                  <a:lnTo>
                    <a:pt x="3514" y="133"/>
                  </a:lnTo>
                  <a:lnTo>
                    <a:pt x="3504" y="118"/>
                  </a:lnTo>
                  <a:lnTo>
                    <a:pt x="3493" y="104"/>
                  </a:lnTo>
                  <a:lnTo>
                    <a:pt x="3482" y="91"/>
                  </a:lnTo>
                  <a:lnTo>
                    <a:pt x="3470" y="78"/>
                  </a:lnTo>
                  <a:lnTo>
                    <a:pt x="3457" y="66"/>
                  </a:lnTo>
                  <a:lnTo>
                    <a:pt x="3444" y="55"/>
                  </a:lnTo>
                  <a:lnTo>
                    <a:pt x="3430" y="45"/>
                  </a:lnTo>
                  <a:lnTo>
                    <a:pt x="3416" y="36"/>
                  </a:lnTo>
                  <a:lnTo>
                    <a:pt x="3400" y="28"/>
                  </a:lnTo>
                  <a:lnTo>
                    <a:pt x="3384" y="21"/>
                  </a:lnTo>
                  <a:lnTo>
                    <a:pt x="3368" y="15"/>
                  </a:lnTo>
                  <a:lnTo>
                    <a:pt x="3351" y="10"/>
                  </a:lnTo>
                  <a:lnTo>
                    <a:pt x="3333" y="6"/>
                  </a:lnTo>
                  <a:lnTo>
                    <a:pt x="3314" y="3"/>
                  </a:lnTo>
                  <a:lnTo>
                    <a:pt x="3295" y="1"/>
                  </a:lnTo>
                  <a:lnTo>
                    <a:pt x="3276" y="0"/>
                  </a:lnTo>
                  <a:lnTo>
                    <a:pt x="3256" y="1"/>
                  </a:lnTo>
                  <a:lnTo>
                    <a:pt x="3237" y="3"/>
                  </a:lnTo>
                  <a:lnTo>
                    <a:pt x="3219" y="6"/>
                  </a:lnTo>
                  <a:lnTo>
                    <a:pt x="3201" y="10"/>
                  </a:lnTo>
                  <a:lnTo>
                    <a:pt x="3184" y="15"/>
                  </a:lnTo>
                  <a:lnTo>
                    <a:pt x="3167" y="21"/>
                  </a:lnTo>
                  <a:lnTo>
                    <a:pt x="3151" y="28"/>
                  </a:lnTo>
                  <a:lnTo>
                    <a:pt x="3136" y="36"/>
                  </a:lnTo>
                  <a:lnTo>
                    <a:pt x="3121" y="45"/>
                  </a:lnTo>
                  <a:lnTo>
                    <a:pt x="3107" y="55"/>
                  </a:lnTo>
                  <a:lnTo>
                    <a:pt x="3094" y="66"/>
                  </a:lnTo>
                  <a:lnTo>
                    <a:pt x="3081" y="78"/>
                  </a:lnTo>
                  <a:lnTo>
                    <a:pt x="3070" y="91"/>
                  </a:lnTo>
                  <a:lnTo>
                    <a:pt x="3058" y="104"/>
                  </a:lnTo>
                  <a:lnTo>
                    <a:pt x="3048" y="118"/>
                  </a:lnTo>
                  <a:lnTo>
                    <a:pt x="3038" y="133"/>
                  </a:lnTo>
                  <a:lnTo>
                    <a:pt x="3029" y="149"/>
                  </a:lnTo>
                  <a:lnTo>
                    <a:pt x="3020" y="165"/>
                  </a:lnTo>
                  <a:lnTo>
                    <a:pt x="3012" y="181"/>
                  </a:lnTo>
                  <a:lnTo>
                    <a:pt x="3004" y="199"/>
                  </a:lnTo>
                  <a:lnTo>
                    <a:pt x="2998" y="216"/>
                  </a:lnTo>
                  <a:lnTo>
                    <a:pt x="2992" y="235"/>
                  </a:lnTo>
                  <a:lnTo>
                    <a:pt x="2986" y="254"/>
                  </a:lnTo>
                  <a:lnTo>
                    <a:pt x="2981" y="273"/>
                  </a:lnTo>
                  <a:lnTo>
                    <a:pt x="2977" y="293"/>
                  </a:lnTo>
                  <a:lnTo>
                    <a:pt x="2973" y="313"/>
                  </a:lnTo>
                  <a:lnTo>
                    <a:pt x="2970" y="333"/>
                  </a:lnTo>
                  <a:lnTo>
                    <a:pt x="2967" y="354"/>
                  </a:lnTo>
                  <a:lnTo>
                    <a:pt x="2964" y="397"/>
                  </a:lnTo>
                  <a:lnTo>
                    <a:pt x="2963" y="441"/>
                  </a:lnTo>
                  <a:lnTo>
                    <a:pt x="3086" y="441"/>
                  </a:lnTo>
                  <a:lnTo>
                    <a:pt x="3087" y="407"/>
                  </a:lnTo>
                  <a:lnTo>
                    <a:pt x="3090" y="374"/>
                  </a:lnTo>
                  <a:lnTo>
                    <a:pt x="3093" y="343"/>
                  </a:lnTo>
                  <a:lnTo>
                    <a:pt x="3099" y="313"/>
                  </a:lnTo>
                  <a:lnTo>
                    <a:pt x="3106" y="284"/>
                  </a:lnTo>
                  <a:lnTo>
                    <a:pt x="3114" y="257"/>
                  </a:lnTo>
                  <a:lnTo>
                    <a:pt x="3124" y="232"/>
                  </a:lnTo>
                  <a:lnTo>
                    <a:pt x="3136" y="210"/>
                  </a:lnTo>
                  <a:lnTo>
                    <a:pt x="3148" y="189"/>
                  </a:lnTo>
                  <a:lnTo>
                    <a:pt x="3155" y="180"/>
                  </a:lnTo>
                  <a:lnTo>
                    <a:pt x="3162" y="171"/>
                  </a:lnTo>
                  <a:lnTo>
                    <a:pt x="3170" y="163"/>
                  </a:lnTo>
                  <a:lnTo>
                    <a:pt x="3178" y="155"/>
                  </a:lnTo>
                  <a:lnTo>
                    <a:pt x="3186" y="149"/>
                  </a:lnTo>
                  <a:lnTo>
                    <a:pt x="3195" y="142"/>
                  </a:lnTo>
                  <a:lnTo>
                    <a:pt x="3203" y="137"/>
                  </a:lnTo>
                  <a:lnTo>
                    <a:pt x="3213" y="132"/>
                  </a:lnTo>
                  <a:lnTo>
                    <a:pt x="3222" y="128"/>
                  </a:lnTo>
                  <a:lnTo>
                    <a:pt x="3232" y="125"/>
                  </a:lnTo>
                  <a:lnTo>
                    <a:pt x="3242" y="122"/>
                  </a:lnTo>
                  <a:lnTo>
                    <a:pt x="3253" y="120"/>
                  </a:lnTo>
                  <a:lnTo>
                    <a:pt x="3264" y="119"/>
                  </a:lnTo>
                  <a:lnTo>
                    <a:pt x="3276" y="119"/>
                  </a:lnTo>
                  <a:lnTo>
                    <a:pt x="3287" y="119"/>
                  </a:lnTo>
                  <a:lnTo>
                    <a:pt x="3298" y="120"/>
                  </a:lnTo>
                  <a:lnTo>
                    <a:pt x="3309" y="122"/>
                  </a:lnTo>
                  <a:lnTo>
                    <a:pt x="3319" y="125"/>
                  </a:lnTo>
                  <a:lnTo>
                    <a:pt x="3329" y="128"/>
                  </a:lnTo>
                  <a:lnTo>
                    <a:pt x="3339" y="132"/>
                  </a:lnTo>
                  <a:lnTo>
                    <a:pt x="3348" y="137"/>
                  </a:lnTo>
                  <a:lnTo>
                    <a:pt x="3357" y="142"/>
                  </a:lnTo>
                  <a:lnTo>
                    <a:pt x="3365" y="149"/>
                  </a:lnTo>
                  <a:lnTo>
                    <a:pt x="3374" y="155"/>
                  </a:lnTo>
                  <a:lnTo>
                    <a:pt x="3381" y="163"/>
                  </a:lnTo>
                  <a:lnTo>
                    <a:pt x="3389" y="171"/>
                  </a:lnTo>
                  <a:lnTo>
                    <a:pt x="3396" y="180"/>
                  </a:lnTo>
                  <a:lnTo>
                    <a:pt x="3403" y="189"/>
                  </a:lnTo>
                  <a:lnTo>
                    <a:pt x="3416" y="210"/>
                  </a:lnTo>
                  <a:lnTo>
                    <a:pt x="3427" y="232"/>
                  </a:lnTo>
                  <a:lnTo>
                    <a:pt x="3437" y="257"/>
                  </a:lnTo>
                  <a:lnTo>
                    <a:pt x="3446" y="284"/>
                  </a:lnTo>
                  <a:lnTo>
                    <a:pt x="3452" y="313"/>
                  </a:lnTo>
                  <a:lnTo>
                    <a:pt x="3458" y="343"/>
                  </a:lnTo>
                  <a:lnTo>
                    <a:pt x="3462" y="374"/>
                  </a:lnTo>
                  <a:lnTo>
                    <a:pt x="3464" y="407"/>
                  </a:lnTo>
                  <a:lnTo>
                    <a:pt x="3465" y="441"/>
                  </a:lnTo>
                  <a:lnTo>
                    <a:pt x="3464" y="474"/>
                  </a:lnTo>
                  <a:lnTo>
                    <a:pt x="3462" y="507"/>
                  </a:lnTo>
                  <a:lnTo>
                    <a:pt x="3458" y="539"/>
                  </a:lnTo>
                  <a:lnTo>
                    <a:pt x="3452" y="569"/>
                  </a:lnTo>
                  <a:lnTo>
                    <a:pt x="3446" y="597"/>
                  </a:lnTo>
                  <a:lnTo>
                    <a:pt x="3437" y="624"/>
                  </a:lnTo>
                  <a:lnTo>
                    <a:pt x="3427" y="649"/>
                  </a:lnTo>
                  <a:lnTo>
                    <a:pt x="3416" y="672"/>
                  </a:lnTo>
                  <a:lnTo>
                    <a:pt x="3403" y="693"/>
                  </a:lnTo>
                  <a:lnTo>
                    <a:pt x="3396" y="702"/>
                  </a:lnTo>
                  <a:lnTo>
                    <a:pt x="3389" y="711"/>
                  </a:lnTo>
                  <a:lnTo>
                    <a:pt x="3381" y="719"/>
                  </a:lnTo>
                  <a:lnTo>
                    <a:pt x="3373" y="727"/>
                  </a:lnTo>
                  <a:lnTo>
                    <a:pt x="3365" y="734"/>
                  </a:lnTo>
                  <a:lnTo>
                    <a:pt x="3357" y="740"/>
                  </a:lnTo>
                  <a:lnTo>
                    <a:pt x="3348" y="745"/>
                  </a:lnTo>
                  <a:lnTo>
                    <a:pt x="3339" y="750"/>
                  </a:lnTo>
                  <a:lnTo>
                    <a:pt x="3329" y="754"/>
                  </a:lnTo>
                  <a:lnTo>
                    <a:pt x="3319" y="758"/>
                  </a:lnTo>
                  <a:lnTo>
                    <a:pt x="3309" y="760"/>
                  </a:lnTo>
                  <a:lnTo>
                    <a:pt x="3298" y="762"/>
                  </a:lnTo>
                  <a:lnTo>
                    <a:pt x="3287" y="763"/>
                  </a:lnTo>
                  <a:lnTo>
                    <a:pt x="3276" y="764"/>
                  </a:lnTo>
                  <a:lnTo>
                    <a:pt x="3264" y="763"/>
                  </a:lnTo>
                  <a:lnTo>
                    <a:pt x="3253" y="762"/>
                  </a:lnTo>
                  <a:lnTo>
                    <a:pt x="3242" y="760"/>
                  </a:lnTo>
                  <a:lnTo>
                    <a:pt x="3232" y="758"/>
                  </a:lnTo>
                  <a:lnTo>
                    <a:pt x="3222" y="754"/>
                  </a:lnTo>
                  <a:lnTo>
                    <a:pt x="3213" y="750"/>
                  </a:lnTo>
                  <a:lnTo>
                    <a:pt x="3203" y="745"/>
                  </a:lnTo>
                  <a:lnTo>
                    <a:pt x="3194" y="740"/>
                  </a:lnTo>
                  <a:lnTo>
                    <a:pt x="3186" y="734"/>
                  </a:lnTo>
                  <a:lnTo>
                    <a:pt x="3178" y="727"/>
                  </a:lnTo>
                  <a:lnTo>
                    <a:pt x="3170" y="719"/>
                  </a:lnTo>
                  <a:lnTo>
                    <a:pt x="3162" y="711"/>
                  </a:lnTo>
                  <a:lnTo>
                    <a:pt x="3155" y="702"/>
                  </a:lnTo>
                  <a:lnTo>
                    <a:pt x="3148" y="693"/>
                  </a:lnTo>
                  <a:lnTo>
                    <a:pt x="3136" y="672"/>
                  </a:lnTo>
                  <a:lnTo>
                    <a:pt x="3124" y="649"/>
                  </a:lnTo>
                  <a:lnTo>
                    <a:pt x="3114" y="624"/>
                  </a:lnTo>
                  <a:lnTo>
                    <a:pt x="3106" y="597"/>
                  </a:lnTo>
                  <a:lnTo>
                    <a:pt x="3099" y="569"/>
                  </a:lnTo>
                  <a:lnTo>
                    <a:pt x="3093" y="539"/>
                  </a:lnTo>
                  <a:lnTo>
                    <a:pt x="3090" y="507"/>
                  </a:lnTo>
                  <a:lnTo>
                    <a:pt x="3087" y="474"/>
                  </a:lnTo>
                  <a:lnTo>
                    <a:pt x="3086" y="441"/>
                  </a:lnTo>
                  <a:lnTo>
                    <a:pt x="2963" y="441"/>
                  </a:lnTo>
                  <a:lnTo>
                    <a:pt x="2964" y="484"/>
                  </a:lnTo>
                  <a:lnTo>
                    <a:pt x="2967" y="527"/>
                  </a:lnTo>
                  <a:lnTo>
                    <a:pt x="2970" y="548"/>
                  </a:lnTo>
                  <a:lnTo>
                    <a:pt x="2973" y="569"/>
                  </a:lnTo>
                  <a:lnTo>
                    <a:pt x="2977" y="589"/>
                  </a:lnTo>
                  <a:lnTo>
                    <a:pt x="2981" y="608"/>
                  </a:lnTo>
                  <a:lnTo>
                    <a:pt x="2986" y="628"/>
                  </a:lnTo>
                  <a:lnTo>
                    <a:pt x="2992" y="647"/>
                  </a:lnTo>
                  <a:lnTo>
                    <a:pt x="2998" y="665"/>
                  </a:lnTo>
                  <a:lnTo>
                    <a:pt x="3004" y="683"/>
                  </a:lnTo>
                  <a:lnTo>
                    <a:pt x="3012" y="700"/>
                  </a:lnTo>
                  <a:lnTo>
                    <a:pt x="3020" y="717"/>
                  </a:lnTo>
                  <a:lnTo>
                    <a:pt x="3028" y="733"/>
                  </a:lnTo>
                  <a:lnTo>
                    <a:pt x="3038" y="749"/>
                  </a:lnTo>
                  <a:lnTo>
                    <a:pt x="1874" y="372"/>
                  </a:lnTo>
                  <a:lnTo>
                    <a:pt x="7241" y="477"/>
                  </a:lnTo>
                  <a:lnTo>
                    <a:pt x="7499" y="477"/>
                  </a:lnTo>
                  <a:lnTo>
                    <a:pt x="7499" y="362"/>
                  </a:lnTo>
                  <a:lnTo>
                    <a:pt x="7241" y="362"/>
                  </a:lnTo>
                  <a:lnTo>
                    <a:pt x="7241" y="127"/>
                  </a:lnTo>
                  <a:lnTo>
                    <a:pt x="7545" y="127"/>
                  </a:lnTo>
                  <a:lnTo>
                    <a:pt x="7545" y="12"/>
                  </a:lnTo>
                  <a:lnTo>
                    <a:pt x="7126" y="12"/>
                  </a:lnTo>
                  <a:lnTo>
                    <a:pt x="7126" y="870"/>
                  </a:lnTo>
                  <a:lnTo>
                    <a:pt x="7557" y="870"/>
                  </a:lnTo>
                  <a:lnTo>
                    <a:pt x="7557" y="756"/>
                  </a:lnTo>
                  <a:lnTo>
                    <a:pt x="7241" y="755"/>
                  </a:lnTo>
                  <a:lnTo>
                    <a:pt x="7241" y="477"/>
                  </a:lnTo>
                  <a:lnTo>
                    <a:pt x="1874" y="372"/>
                  </a:lnTo>
                  <a:close/>
                </a:path>
              </a:pathLst>
            </a:custGeom>
            <a:solidFill>
              <a:srgbClr val="8b8d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1280" y="6308640"/>
              <a:ext cx="386280" cy="387000"/>
            </a:xfrm>
            <a:custGeom>
              <a:avLst/>
              <a:gdLst/>
              <a:ahLst/>
              <a:rect l="l" t="t" r="r" b="b"/>
              <a:pathLst>
                <a:path w="1716" h="1723">
                  <a:moveTo>
                    <a:pt x="1637" y="0"/>
                  </a:moveTo>
                  <a:lnTo>
                    <a:pt x="79" y="0"/>
                  </a:lnTo>
                  <a:lnTo>
                    <a:pt x="71" y="0"/>
                  </a:lnTo>
                  <a:lnTo>
                    <a:pt x="63" y="1"/>
                  </a:lnTo>
                  <a:lnTo>
                    <a:pt x="56" y="3"/>
                  </a:lnTo>
                  <a:lnTo>
                    <a:pt x="48" y="6"/>
                  </a:lnTo>
                  <a:lnTo>
                    <a:pt x="42" y="9"/>
                  </a:lnTo>
                  <a:lnTo>
                    <a:pt x="35" y="13"/>
                  </a:lnTo>
                  <a:lnTo>
                    <a:pt x="29" y="18"/>
                  </a:lnTo>
                  <a:lnTo>
                    <a:pt x="23" y="23"/>
                  </a:lnTo>
                  <a:lnTo>
                    <a:pt x="18" y="28"/>
                  </a:lnTo>
                  <a:lnTo>
                    <a:pt x="14" y="34"/>
                  </a:lnTo>
                  <a:lnTo>
                    <a:pt x="10" y="41"/>
                  </a:lnTo>
                  <a:lnTo>
                    <a:pt x="7" y="48"/>
                  </a:lnTo>
                  <a:lnTo>
                    <a:pt x="4" y="55"/>
                  </a:lnTo>
                  <a:lnTo>
                    <a:pt x="2" y="63"/>
                  </a:lnTo>
                  <a:lnTo>
                    <a:pt x="1" y="70"/>
                  </a:lnTo>
                  <a:lnTo>
                    <a:pt x="0" y="78"/>
                  </a:lnTo>
                  <a:lnTo>
                    <a:pt x="0" y="1645"/>
                  </a:lnTo>
                  <a:lnTo>
                    <a:pt x="1" y="1653"/>
                  </a:lnTo>
                  <a:lnTo>
                    <a:pt x="2" y="1660"/>
                  </a:lnTo>
                  <a:lnTo>
                    <a:pt x="4" y="1668"/>
                  </a:lnTo>
                  <a:lnTo>
                    <a:pt x="7" y="1675"/>
                  </a:lnTo>
                  <a:lnTo>
                    <a:pt x="10" y="1682"/>
                  </a:lnTo>
                  <a:lnTo>
                    <a:pt x="14" y="1689"/>
                  </a:lnTo>
                  <a:lnTo>
                    <a:pt x="18" y="1695"/>
                  </a:lnTo>
                  <a:lnTo>
                    <a:pt x="23" y="1700"/>
                  </a:lnTo>
                  <a:lnTo>
                    <a:pt x="29" y="1705"/>
                  </a:lnTo>
                  <a:lnTo>
                    <a:pt x="35" y="1710"/>
                  </a:lnTo>
                  <a:lnTo>
                    <a:pt x="42" y="1714"/>
                  </a:lnTo>
                  <a:lnTo>
                    <a:pt x="48" y="1717"/>
                  </a:lnTo>
                  <a:lnTo>
                    <a:pt x="56" y="1720"/>
                  </a:lnTo>
                  <a:lnTo>
                    <a:pt x="63" y="1722"/>
                  </a:lnTo>
                  <a:lnTo>
                    <a:pt x="71" y="1723"/>
                  </a:lnTo>
                  <a:lnTo>
                    <a:pt x="79" y="1723"/>
                  </a:lnTo>
                  <a:lnTo>
                    <a:pt x="1637" y="1723"/>
                  </a:lnTo>
                  <a:lnTo>
                    <a:pt x="1645" y="1723"/>
                  </a:lnTo>
                  <a:lnTo>
                    <a:pt x="1653" y="1722"/>
                  </a:lnTo>
                  <a:lnTo>
                    <a:pt x="1660" y="1720"/>
                  </a:lnTo>
                  <a:lnTo>
                    <a:pt x="1668" y="1717"/>
                  </a:lnTo>
                  <a:lnTo>
                    <a:pt x="1674" y="1714"/>
                  </a:lnTo>
                  <a:lnTo>
                    <a:pt x="1681" y="1710"/>
                  </a:lnTo>
                  <a:lnTo>
                    <a:pt x="1687" y="1705"/>
                  </a:lnTo>
                  <a:lnTo>
                    <a:pt x="1693" y="1700"/>
                  </a:lnTo>
                  <a:lnTo>
                    <a:pt x="1698" y="1695"/>
                  </a:lnTo>
                  <a:lnTo>
                    <a:pt x="1702" y="1689"/>
                  </a:lnTo>
                  <a:lnTo>
                    <a:pt x="1706" y="1682"/>
                  </a:lnTo>
                  <a:lnTo>
                    <a:pt x="1710" y="1675"/>
                  </a:lnTo>
                  <a:lnTo>
                    <a:pt x="1712" y="1668"/>
                  </a:lnTo>
                  <a:lnTo>
                    <a:pt x="1714" y="1660"/>
                  </a:lnTo>
                  <a:lnTo>
                    <a:pt x="1715" y="1653"/>
                  </a:lnTo>
                  <a:lnTo>
                    <a:pt x="1716" y="1645"/>
                  </a:lnTo>
                  <a:lnTo>
                    <a:pt x="1716" y="78"/>
                  </a:lnTo>
                  <a:lnTo>
                    <a:pt x="1715" y="70"/>
                  </a:lnTo>
                  <a:lnTo>
                    <a:pt x="1714" y="63"/>
                  </a:lnTo>
                  <a:lnTo>
                    <a:pt x="1712" y="55"/>
                  </a:lnTo>
                  <a:lnTo>
                    <a:pt x="1710" y="48"/>
                  </a:lnTo>
                  <a:lnTo>
                    <a:pt x="1706" y="41"/>
                  </a:lnTo>
                  <a:lnTo>
                    <a:pt x="1702" y="34"/>
                  </a:lnTo>
                  <a:lnTo>
                    <a:pt x="1698" y="28"/>
                  </a:lnTo>
                  <a:lnTo>
                    <a:pt x="1693" y="23"/>
                  </a:lnTo>
                  <a:lnTo>
                    <a:pt x="1687" y="18"/>
                  </a:lnTo>
                  <a:lnTo>
                    <a:pt x="1681" y="13"/>
                  </a:lnTo>
                  <a:lnTo>
                    <a:pt x="1674" y="9"/>
                  </a:lnTo>
                  <a:lnTo>
                    <a:pt x="1668" y="6"/>
                  </a:lnTo>
                  <a:lnTo>
                    <a:pt x="1660" y="3"/>
                  </a:lnTo>
                  <a:lnTo>
                    <a:pt x="1653" y="1"/>
                  </a:lnTo>
                  <a:lnTo>
                    <a:pt x="1645" y="0"/>
                  </a:lnTo>
                  <a:lnTo>
                    <a:pt x="1638" y="0"/>
                  </a:lnTo>
                  <a:lnTo>
                    <a:pt x="1637" y="0"/>
                  </a:lnTo>
                  <a:close/>
                </a:path>
              </a:pathLst>
            </a:custGeom>
            <a:solidFill>
              <a:srgbClr val="e37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25800" y="6528600"/>
              <a:ext cx="118800" cy="118440"/>
            </a:xfrm>
            <a:custGeom>
              <a:avLst/>
              <a:gdLst/>
              <a:ahLst/>
              <a:rect l="l" t="t" r="r" b="b"/>
              <a:pathLst>
                <a:path w="529" h="528">
                  <a:moveTo>
                    <a:pt x="451" y="342"/>
                  </a:moveTo>
                  <a:lnTo>
                    <a:pt x="343" y="342"/>
                  </a:lnTo>
                  <a:lnTo>
                    <a:pt x="343" y="452"/>
                  </a:lnTo>
                  <a:lnTo>
                    <a:pt x="342" y="460"/>
                  </a:lnTo>
                  <a:lnTo>
                    <a:pt x="341" y="467"/>
                  </a:lnTo>
                  <a:lnTo>
                    <a:pt x="339" y="475"/>
                  </a:lnTo>
                  <a:lnTo>
                    <a:pt x="336" y="482"/>
                  </a:lnTo>
                  <a:lnTo>
                    <a:pt x="333" y="488"/>
                  </a:lnTo>
                  <a:lnTo>
                    <a:pt x="329" y="495"/>
                  </a:lnTo>
                  <a:lnTo>
                    <a:pt x="325" y="501"/>
                  </a:lnTo>
                  <a:lnTo>
                    <a:pt x="320" y="506"/>
                  </a:lnTo>
                  <a:lnTo>
                    <a:pt x="314" y="511"/>
                  </a:lnTo>
                  <a:lnTo>
                    <a:pt x="308" y="515"/>
                  </a:lnTo>
                  <a:lnTo>
                    <a:pt x="302" y="519"/>
                  </a:lnTo>
                  <a:lnTo>
                    <a:pt x="295" y="522"/>
                  </a:lnTo>
                  <a:lnTo>
                    <a:pt x="288" y="525"/>
                  </a:lnTo>
                  <a:lnTo>
                    <a:pt x="280" y="527"/>
                  </a:lnTo>
                  <a:lnTo>
                    <a:pt x="273" y="528"/>
                  </a:lnTo>
                  <a:lnTo>
                    <a:pt x="265" y="528"/>
                  </a:lnTo>
                  <a:lnTo>
                    <a:pt x="257" y="528"/>
                  </a:lnTo>
                  <a:lnTo>
                    <a:pt x="249" y="527"/>
                  </a:lnTo>
                  <a:lnTo>
                    <a:pt x="242" y="525"/>
                  </a:lnTo>
                  <a:lnTo>
                    <a:pt x="234" y="522"/>
                  </a:lnTo>
                  <a:lnTo>
                    <a:pt x="228" y="519"/>
                  </a:lnTo>
                  <a:lnTo>
                    <a:pt x="221" y="515"/>
                  </a:lnTo>
                  <a:lnTo>
                    <a:pt x="215" y="510"/>
                  </a:lnTo>
                  <a:lnTo>
                    <a:pt x="209" y="505"/>
                  </a:lnTo>
                  <a:lnTo>
                    <a:pt x="204" y="500"/>
                  </a:lnTo>
                  <a:lnTo>
                    <a:pt x="200" y="494"/>
                  </a:lnTo>
                  <a:lnTo>
                    <a:pt x="196" y="487"/>
                  </a:lnTo>
                  <a:lnTo>
                    <a:pt x="193" y="481"/>
                  </a:lnTo>
                  <a:lnTo>
                    <a:pt x="190" y="473"/>
                  </a:lnTo>
                  <a:lnTo>
                    <a:pt x="188" y="466"/>
                  </a:lnTo>
                  <a:lnTo>
                    <a:pt x="187" y="458"/>
                  </a:lnTo>
                  <a:lnTo>
                    <a:pt x="187" y="450"/>
                  </a:lnTo>
                  <a:lnTo>
                    <a:pt x="187" y="342"/>
                  </a:lnTo>
                  <a:lnTo>
                    <a:pt x="79" y="342"/>
                  </a:lnTo>
                  <a:lnTo>
                    <a:pt x="71" y="342"/>
                  </a:lnTo>
                  <a:lnTo>
                    <a:pt x="63" y="341"/>
                  </a:lnTo>
                  <a:lnTo>
                    <a:pt x="55" y="339"/>
                  </a:lnTo>
                  <a:lnTo>
                    <a:pt x="48" y="336"/>
                  </a:lnTo>
                  <a:lnTo>
                    <a:pt x="41" y="333"/>
                  </a:lnTo>
                  <a:lnTo>
                    <a:pt x="35" y="329"/>
                  </a:lnTo>
                  <a:lnTo>
                    <a:pt x="29" y="325"/>
                  </a:lnTo>
                  <a:lnTo>
                    <a:pt x="23" y="319"/>
                  </a:lnTo>
                  <a:lnTo>
                    <a:pt x="18" y="314"/>
                  </a:lnTo>
                  <a:lnTo>
                    <a:pt x="14" y="308"/>
                  </a:lnTo>
                  <a:lnTo>
                    <a:pt x="10" y="301"/>
                  </a:lnTo>
                  <a:lnTo>
                    <a:pt x="7" y="295"/>
                  </a:lnTo>
                  <a:lnTo>
                    <a:pt x="4" y="287"/>
                  </a:lnTo>
                  <a:lnTo>
                    <a:pt x="2" y="280"/>
                  </a:lnTo>
                  <a:lnTo>
                    <a:pt x="1" y="272"/>
                  </a:lnTo>
                  <a:lnTo>
                    <a:pt x="0" y="264"/>
                  </a:lnTo>
                  <a:lnTo>
                    <a:pt x="1" y="256"/>
                  </a:lnTo>
                  <a:lnTo>
                    <a:pt x="2" y="248"/>
                  </a:lnTo>
                  <a:lnTo>
                    <a:pt x="4" y="241"/>
                  </a:lnTo>
                  <a:lnTo>
                    <a:pt x="7" y="234"/>
                  </a:lnTo>
                  <a:lnTo>
                    <a:pt x="10" y="227"/>
                  </a:lnTo>
                  <a:lnTo>
                    <a:pt x="14" y="220"/>
                  </a:lnTo>
                  <a:lnTo>
                    <a:pt x="18" y="214"/>
                  </a:lnTo>
                  <a:lnTo>
                    <a:pt x="23" y="209"/>
                  </a:lnTo>
                  <a:lnTo>
                    <a:pt x="29" y="204"/>
                  </a:lnTo>
                  <a:lnTo>
                    <a:pt x="35" y="199"/>
                  </a:lnTo>
                  <a:lnTo>
                    <a:pt x="41" y="195"/>
                  </a:lnTo>
                  <a:lnTo>
                    <a:pt x="48" y="192"/>
                  </a:lnTo>
                  <a:lnTo>
                    <a:pt x="55" y="189"/>
                  </a:lnTo>
                  <a:lnTo>
                    <a:pt x="63" y="187"/>
                  </a:lnTo>
                  <a:lnTo>
                    <a:pt x="71" y="186"/>
                  </a:lnTo>
                  <a:lnTo>
                    <a:pt x="79" y="186"/>
                  </a:lnTo>
                  <a:lnTo>
                    <a:pt x="187" y="186"/>
                  </a:lnTo>
                  <a:lnTo>
                    <a:pt x="187" y="78"/>
                  </a:lnTo>
                  <a:lnTo>
                    <a:pt x="187" y="70"/>
                  </a:lnTo>
                  <a:lnTo>
                    <a:pt x="188" y="62"/>
                  </a:lnTo>
                  <a:lnTo>
                    <a:pt x="190" y="55"/>
                  </a:lnTo>
                  <a:lnTo>
                    <a:pt x="193" y="48"/>
                  </a:lnTo>
                  <a:lnTo>
                    <a:pt x="196" y="41"/>
                  </a:lnTo>
                  <a:lnTo>
                    <a:pt x="200" y="34"/>
                  </a:lnTo>
                  <a:lnTo>
                    <a:pt x="204" y="28"/>
                  </a:lnTo>
                  <a:lnTo>
                    <a:pt x="209" y="23"/>
                  </a:lnTo>
                  <a:lnTo>
                    <a:pt x="215" y="18"/>
                  </a:lnTo>
                  <a:lnTo>
                    <a:pt x="221" y="13"/>
                  </a:lnTo>
                  <a:lnTo>
                    <a:pt x="228" y="9"/>
                  </a:lnTo>
                  <a:lnTo>
                    <a:pt x="234" y="6"/>
                  </a:lnTo>
                  <a:lnTo>
                    <a:pt x="242" y="3"/>
                  </a:lnTo>
                  <a:lnTo>
                    <a:pt x="249" y="1"/>
                  </a:lnTo>
                  <a:lnTo>
                    <a:pt x="257" y="0"/>
                  </a:lnTo>
                  <a:lnTo>
                    <a:pt x="265" y="0"/>
                  </a:lnTo>
                  <a:lnTo>
                    <a:pt x="273" y="0"/>
                  </a:lnTo>
                  <a:lnTo>
                    <a:pt x="281" y="1"/>
                  </a:lnTo>
                  <a:lnTo>
                    <a:pt x="288" y="3"/>
                  </a:lnTo>
                  <a:lnTo>
                    <a:pt x="295" y="6"/>
                  </a:lnTo>
                  <a:lnTo>
                    <a:pt x="302" y="9"/>
                  </a:lnTo>
                  <a:lnTo>
                    <a:pt x="309" y="13"/>
                  </a:lnTo>
                  <a:lnTo>
                    <a:pt x="315" y="18"/>
                  </a:lnTo>
                  <a:lnTo>
                    <a:pt x="320" y="23"/>
                  </a:lnTo>
                  <a:lnTo>
                    <a:pt x="325" y="28"/>
                  </a:lnTo>
                  <a:lnTo>
                    <a:pt x="330" y="34"/>
                  </a:lnTo>
                  <a:lnTo>
                    <a:pt x="334" y="41"/>
                  </a:lnTo>
                  <a:lnTo>
                    <a:pt x="337" y="48"/>
                  </a:lnTo>
                  <a:lnTo>
                    <a:pt x="340" y="55"/>
                  </a:lnTo>
                  <a:lnTo>
                    <a:pt x="341" y="62"/>
                  </a:lnTo>
                  <a:lnTo>
                    <a:pt x="343" y="70"/>
                  </a:lnTo>
                  <a:lnTo>
                    <a:pt x="343" y="78"/>
                  </a:lnTo>
                  <a:lnTo>
                    <a:pt x="343" y="186"/>
                  </a:lnTo>
                  <a:lnTo>
                    <a:pt x="452" y="186"/>
                  </a:lnTo>
                  <a:lnTo>
                    <a:pt x="460" y="186"/>
                  </a:lnTo>
                  <a:lnTo>
                    <a:pt x="468" y="188"/>
                  </a:lnTo>
                  <a:lnTo>
                    <a:pt x="475" y="190"/>
                  </a:lnTo>
                  <a:lnTo>
                    <a:pt x="482" y="192"/>
                  </a:lnTo>
                  <a:lnTo>
                    <a:pt x="489" y="196"/>
                  </a:lnTo>
                  <a:lnTo>
                    <a:pt x="495" y="200"/>
                  </a:lnTo>
                  <a:lnTo>
                    <a:pt x="501" y="204"/>
                  </a:lnTo>
                  <a:lnTo>
                    <a:pt x="507" y="209"/>
                  </a:lnTo>
                  <a:lnTo>
                    <a:pt x="512" y="215"/>
                  </a:lnTo>
                  <a:lnTo>
                    <a:pt x="516" y="221"/>
                  </a:lnTo>
                  <a:lnTo>
                    <a:pt x="520" y="227"/>
                  </a:lnTo>
                  <a:lnTo>
                    <a:pt x="523" y="234"/>
                  </a:lnTo>
                  <a:lnTo>
                    <a:pt x="526" y="241"/>
                  </a:lnTo>
                  <a:lnTo>
                    <a:pt x="528" y="248"/>
                  </a:lnTo>
                  <a:lnTo>
                    <a:pt x="529" y="256"/>
                  </a:lnTo>
                  <a:lnTo>
                    <a:pt x="529" y="264"/>
                  </a:lnTo>
                  <a:lnTo>
                    <a:pt x="529" y="272"/>
                  </a:lnTo>
                  <a:lnTo>
                    <a:pt x="528" y="280"/>
                  </a:lnTo>
                  <a:lnTo>
                    <a:pt x="526" y="287"/>
                  </a:lnTo>
                  <a:lnTo>
                    <a:pt x="523" y="295"/>
                  </a:lnTo>
                  <a:lnTo>
                    <a:pt x="520" y="301"/>
                  </a:lnTo>
                  <a:lnTo>
                    <a:pt x="516" y="308"/>
                  </a:lnTo>
                  <a:lnTo>
                    <a:pt x="511" y="314"/>
                  </a:lnTo>
                  <a:lnTo>
                    <a:pt x="506" y="319"/>
                  </a:lnTo>
                  <a:lnTo>
                    <a:pt x="501" y="325"/>
                  </a:lnTo>
                  <a:lnTo>
                    <a:pt x="495" y="329"/>
                  </a:lnTo>
                  <a:lnTo>
                    <a:pt x="488" y="333"/>
                  </a:lnTo>
                  <a:lnTo>
                    <a:pt x="481" y="336"/>
                  </a:lnTo>
                  <a:lnTo>
                    <a:pt x="474" y="339"/>
                  </a:lnTo>
                  <a:lnTo>
                    <a:pt x="467" y="341"/>
                  </a:lnTo>
                  <a:lnTo>
                    <a:pt x="459" y="342"/>
                  </a:lnTo>
                  <a:lnTo>
                    <a:pt x="452" y="342"/>
                  </a:lnTo>
                  <a:lnTo>
                    <a:pt x="451" y="3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65400" y="6356880"/>
              <a:ext cx="207000" cy="290520"/>
            </a:xfrm>
            <a:custGeom>
              <a:avLst/>
              <a:gdLst/>
              <a:ahLst/>
              <a:rect l="l" t="t" r="r" b="b"/>
              <a:pathLst>
                <a:path w="920" h="1293">
                  <a:moveTo>
                    <a:pt x="709" y="1206"/>
                  </a:moveTo>
                  <a:lnTo>
                    <a:pt x="462" y="662"/>
                  </a:lnTo>
                  <a:lnTo>
                    <a:pt x="459" y="654"/>
                  </a:lnTo>
                  <a:lnTo>
                    <a:pt x="456" y="645"/>
                  </a:lnTo>
                  <a:lnTo>
                    <a:pt x="455" y="637"/>
                  </a:lnTo>
                  <a:lnTo>
                    <a:pt x="454" y="628"/>
                  </a:lnTo>
                  <a:lnTo>
                    <a:pt x="455" y="620"/>
                  </a:lnTo>
                  <a:lnTo>
                    <a:pt x="456" y="612"/>
                  </a:lnTo>
                  <a:lnTo>
                    <a:pt x="458" y="605"/>
                  </a:lnTo>
                  <a:lnTo>
                    <a:pt x="460" y="598"/>
                  </a:lnTo>
                  <a:lnTo>
                    <a:pt x="463" y="591"/>
                  </a:lnTo>
                  <a:lnTo>
                    <a:pt x="467" y="585"/>
                  </a:lnTo>
                  <a:lnTo>
                    <a:pt x="471" y="579"/>
                  </a:lnTo>
                  <a:lnTo>
                    <a:pt x="476" y="573"/>
                  </a:lnTo>
                  <a:lnTo>
                    <a:pt x="482" y="568"/>
                  </a:lnTo>
                  <a:lnTo>
                    <a:pt x="487" y="564"/>
                  </a:lnTo>
                  <a:lnTo>
                    <a:pt x="494" y="560"/>
                  </a:lnTo>
                  <a:lnTo>
                    <a:pt x="500" y="556"/>
                  </a:lnTo>
                  <a:lnTo>
                    <a:pt x="507" y="554"/>
                  </a:lnTo>
                  <a:lnTo>
                    <a:pt x="514" y="552"/>
                  </a:lnTo>
                  <a:lnTo>
                    <a:pt x="522" y="550"/>
                  </a:lnTo>
                  <a:lnTo>
                    <a:pt x="530" y="550"/>
                  </a:lnTo>
                  <a:lnTo>
                    <a:pt x="550" y="548"/>
                  </a:lnTo>
                  <a:lnTo>
                    <a:pt x="569" y="545"/>
                  </a:lnTo>
                  <a:lnTo>
                    <a:pt x="588" y="539"/>
                  </a:lnTo>
                  <a:lnTo>
                    <a:pt x="606" y="533"/>
                  </a:lnTo>
                  <a:lnTo>
                    <a:pt x="623" y="524"/>
                  </a:lnTo>
                  <a:lnTo>
                    <a:pt x="639" y="514"/>
                  </a:lnTo>
                  <a:lnTo>
                    <a:pt x="655" y="503"/>
                  </a:lnTo>
                  <a:lnTo>
                    <a:pt x="669" y="490"/>
                  </a:lnTo>
                  <a:lnTo>
                    <a:pt x="681" y="477"/>
                  </a:lnTo>
                  <a:lnTo>
                    <a:pt x="692" y="462"/>
                  </a:lnTo>
                  <a:lnTo>
                    <a:pt x="702" y="446"/>
                  </a:lnTo>
                  <a:lnTo>
                    <a:pt x="711" y="428"/>
                  </a:lnTo>
                  <a:lnTo>
                    <a:pt x="717" y="411"/>
                  </a:lnTo>
                  <a:lnTo>
                    <a:pt x="722" y="392"/>
                  </a:lnTo>
                  <a:lnTo>
                    <a:pt x="725" y="372"/>
                  </a:lnTo>
                  <a:lnTo>
                    <a:pt x="726" y="352"/>
                  </a:lnTo>
                  <a:lnTo>
                    <a:pt x="725" y="332"/>
                  </a:lnTo>
                  <a:lnTo>
                    <a:pt x="722" y="313"/>
                  </a:lnTo>
                  <a:lnTo>
                    <a:pt x="717" y="294"/>
                  </a:lnTo>
                  <a:lnTo>
                    <a:pt x="711" y="276"/>
                  </a:lnTo>
                  <a:lnTo>
                    <a:pt x="703" y="259"/>
                  </a:lnTo>
                  <a:lnTo>
                    <a:pt x="693" y="242"/>
                  </a:lnTo>
                  <a:lnTo>
                    <a:pt x="682" y="227"/>
                  </a:lnTo>
                  <a:lnTo>
                    <a:pt x="669" y="213"/>
                  </a:lnTo>
                  <a:lnTo>
                    <a:pt x="655" y="201"/>
                  </a:lnTo>
                  <a:lnTo>
                    <a:pt x="640" y="189"/>
                  </a:lnTo>
                  <a:lnTo>
                    <a:pt x="624" y="179"/>
                  </a:lnTo>
                  <a:lnTo>
                    <a:pt x="607" y="171"/>
                  </a:lnTo>
                  <a:lnTo>
                    <a:pt x="589" y="164"/>
                  </a:lnTo>
                  <a:lnTo>
                    <a:pt x="570" y="159"/>
                  </a:lnTo>
                  <a:lnTo>
                    <a:pt x="551" y="156"/>
                  </a:lnTo>
                  <a:lnTo>
                    <a:pt x="531" y="155"/>
                  </a:lnTo>
                  <a:lnTo>
                    <a:pt x="78" y="156"/>
                  </a:lnTo>
                  <a:lnTo>
                    <a:pt x="70" y="155"/>
                  </a:lnTo>
                  <a:lnTo>
                    <a:pt x="62" y="154"/>
                  </a:lnTo>
                  <a:lnTo>
                    <a:pt x="55" y="152"/>
                  </a:lnTo>
                  <a:lnTo>
                    <a:pt x="48" y="150"/>
                  </a:lnTo>
                  <a:lnTo>
                    <a:pt x="41" y="146"/>
                  </a:lnTo>
                  <a:lnTo>
                    <a:pt x="35" y="142"/>
                  </a:lnTo>
                  <a:lnTo>
                    <a:pt x="29" y="138"/>
                  </a:lnTo>
                  <a:lnTo>
                    <a:pt x="23" y="133"/>
                  </a:lnTo>
                  <a:lnTo>
                    <a:pt x="18" y="127"/>
                  </a:lnTo>
                  <a:lnTo>
                    <a:pt x="14" y="121"/>
                  </a:lnTo>
                  <a:lnTo>
                    <a:pt x="10" y="115"/>
                  </a:lnTo>
                  <a:lnTo>
                    <a:pt x="7" y="108"/>
                  </a:lnTo>
                  <a:lnTo>
                    <a:pt x="4" y="101"/>
                  </a:lnTo>
                  <a:lnTo>
                    <a:pt x="2" y="94"/>
                  </a:lnTo>
                  <a:lnTo>
                    <a:pt x="1" y="86"/>
                  </a:lnTo>
                  <a:lnTo>
                    <a:pt x="0" y="78"/>
                  </a:lnTo>
                  <a:lnTo>
                    <a:pt x="1" y="70"/>
                  </a:lnTo>
                  <a:lnTo>
                    <a:pt x="2" y="63"/>
                  </a:lnTo>
                  <a:lnTo>
                    <a:pt x="4" y="55"/>
                  </a:lnTo>
                  <a:lnTo>
                    <a:pt x="6" y="48"/>
                  </a:lnTo>
                  <a:lnTo>
                    <a:pt x="10" y="41"/>
                  </a:lnTo>
                  <a:lnTo>
                    <a:pt x="13" y="35"/>
                  </a:lnTo>
                  <a:lnTo>
                    <a:pt x="18" y="29"/>
                  </a:lnTo>
                  <a:lnTo>
                    <a:pt x="23" y="24"/>
                  </a:lnTo>
                  <a:lnTo>
                    <a:pt x="28" y="18"/>
                  </a:lnTo>
                  <a:lnTo>
                    <a:pt x="34" y="14"/>
                  </a:lnTo>
                  <a:lnTo>
                    <a:pt x="40" y="10"/>
                  </a:lnTo>
                  <a:lnTo>
                    <a:pt x="47" y="7"/>
                  </a:lnTo>
                  <a:lnTo>
                    <a:pt x="54" y="4"/>
                  </a:lnTo>
                  <a:lnTo>
                    <a:pt x="62" y="2"/>
                  </a:lnTo>
                  <a:lnTo>
                    <a:pt x="69" y="1"/>
                  </a:lnTo>
                  <a:lnTo>
                    <a:pt x="77" y="0"/>
                  </a:lnTo>
                  <a:lnTo>
                    <a:pt x="531" y="0"/>
                  </a:lnTo>
                  <a:lnTo>
                    <a:pt x="549" y="1"/>
                  </a:lnTo>
                  <a:lnTo>
                    <a:pt x="567" y="2"/>
                  </a:lnTo>
                  <a:lnTo>
                    <a:pt x="584" y="4"/>
                  </a:lnTo>
                  <a:lnTo>
                    <a:pt x="601" y="8"/>
                  </a:lnTo>
                  <a:lnTo>
                    <a:pt x="618" y="12"/>
                  </a:lnTo>
                  <a:lnTo>
                    <a:pt x="635" y="16"/>
                  </a:lnTo>
                  <a:lnTo>
                    <a:pt x="651" y="22"/>
                  </a:lnTo>
                  <a:lnTo>
                    <a:pt x="667" y="28"/>
                  </a:lnTo>
                  <a:lnTo>
                    <a:pt x="683" y="35"/>
                  </a:lnTo>
                  <a:lnTo>
                    <a:pt x="698" y="43"/>
                  </a:lnTo>
                  <a:lnTo>
                    <a:pt x="712" y="52"/>
                  </a:lnTo>
                  <a:lnTo>
                    <a:pt x="727" y="61"/>
                  </a:lnTo>
                  <a:lnTo>
                    <a:pt x="740" y="71"/>
                  </a:lnTo>
                  <a:lnTo>
                    <a:pt x="754" y="81"/>
                  </a:lnTo>
                  <a:lnTo>
                    <a:pt x="766" y="92"/>
                  </a:lnTo>
                  <a:lnTo>
                    <a:pt x="778" y="104"/>
                  </a:lnTo>
                  <a:lnTo>
                    <a:pt x="790" y="116"/>
                  </a:lnTo>
                  <a:lnTo>
                    <a:pt x="801" y="129"/>
                  </a:lnTo>
                  <a:lnTo>
                    <a:pt x="811" y="142"/>
                  </a:lnTo>
                  <a:lnTo>
                    <a:pt x="821" y="156"/>
                  </a:lnTo>
                  <a:lnTo>
                    <a:pt x="830" y="170"/>
                  </a:lnTo>
                  <a:lnTo>
                    <a:pt x="838" y="185"/>
                  </a:lnTo>
                  <a:lnTo>
                    <a:pt x="846" y="200"/>
                  </a:lnTo>
                  <a:lnTo>
                    <a:pt x="853" y="216"/>
                  </a:lnTo>
                  <a:lnTo>
                    <a:pt x="859" y="232"/>
                  </a:lnTo>
                  <a:lnTo>
                    <a:pt x="865" y="248"/>
                  </a:lnTo>
                  <a:lnTo>
                    <a:pt x="870" y="265"/>
                  </a:lnTo>
                  <a:lnTo>
                    <a:pt x="874" y="282"/>
                  </a:lnTo>
                  <a:lnTo>
                    <a:pt x="877" y="299"/>
                  </a:lnTo>
                  <a:lnTo>
                    <a:pt x="879" y="316"/>
                  </a:lnTo>
                  <a:lnTo>
                    <a:pt x="880" y="334"/>
                  </a:lnTo>
                  <a:lnTo>
                    <a:pt x="881" y="352"/>
                  </a:lnTo>
                  <a:lnTo>
                    <a:pt x="879" y="381"/>
                  </a:lnTo>
                  <a:lnTo>
                    <a:pt x="876" y="410"/>
                  </a:lnTo>
                  <a:lnTo>
                    <a:pt x="870" y="437"/>
                  </a:lnTo>
                  <a:lnTo>
                    <a:pt x="863" y="464"/>
                  </a:lnTo>
                  <a:lnTo>
                    <a:pt x="853" y="490"/>
                  </a:lnTo>
                  <a:lnTo>
                    <a:pt x="841" y="514"/>
                  </a:lnTo>
                  <a:lnTo>
                    <a:pt x="828" y="538"/>
                  </a:lnTo>
                  <a:lnTo>
                    <a:pt x="812" y="561"/>
                  </a:lnTo>
                  <a:lnTo>
                    <a:pt x="795" y="582"/>
                  </a:lnTo>
                  <a:lnTo>
                    <a:pt x="777" y="602"/>
                  </a:lnTo>
                  <a:lnTo>
                    <a:pt x="757" y="620"/>
                  </a:lnTo>
                  <a:lnTo>
                    <a:pt x="736" y="637"/>
                  </a:lnTo>
                  <a:lnTo>
                    <a:pt x="713" y="652"/>
                  </a:lnTo>
                  <a:lnTo>
                    <a:pt x="689" y="665"/>
                  </a:lnTo>
                  <a:lnTo>
                    <a:pt x="665" y="677"/>
                  </a:lnTo>
                  <a:lnTo>
                    <a:pt x="639" y="686"/>
                  </a:lnTo>
                  <a:lnTo>
                    <a:pt x="853" y="1138"/>
                  </a:lnTo>
                  <a:lnTo>
                    <a:pt x="920" y="1277"/>
                  </a:lnTo>
                  <a:lnTo>
                    <a:pt x="905" y="1283"/>
                  </a:lnTo>
                  <a:lnTo>
                    <a:pt x="890" y="1288"/>
                  </a:lnTo>
                  <a:lnTo>
                    <a:pt x="875" y="1291"/>
                  </a:lnTo>
                  <a:lnTo>
                    <a:pt x="860" y="1292"/>
                  </a:lnTo>
                  <a:lnTo>
                    <a:pt x="844" y="1293"/>
                  </a:lnTo>
                  <a:lnTo>
                    <a:pt x="829" y="1291"/>
                  </a:lnTo>
                  <a:lnTo>
                    <a:pt x="815" y="1289"/>
                  </a:lnTo>
                  <a:lnTo>
                    <a:pt x="800" y="1284"/>
                  </a:lnTo>
                  <a:lnTo>
                    <a:pt x="786" y="1279"/>
                  </a:lnTo>
                  <a:lnTo>
                    <a:pt x="773" y="1272"/>
                  </a:lnTo>
                  <a:lnTo>
                    <a:pt x="760" y="1264"/>
                  </a:lnTo>
                  <a:lnTo>
                    <a:pt x="748" y="1255"/>
                  </a:lnTo>
                  <a:lnTo>
                    <a:pt x="737" y="1244"/>
                  </a:lnTo>
                  <a:lnTo>
                    <a:pt x="727" y="1233"/>
                  </a:lnTo>
                  <a:lnTo>
                    <a:pt x="717" y="1220"/>
                  </a:lnTo>
                  <a:lnTo>
                    <a:pt x="710" y="1206"/>
                  </a:lnTo>
                  <a:lnTo>
                    <a:pt x="709" y="1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1" marL="357120" indent="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712800" indent="366840" algn="ctr">
              <a:lnSpc>
                <a:spcPct val="95000"/>
              </a:lnSpc>
              <a:buClr>
                <a:srgbClr val="ff993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3" marL="1371600" indent="157320" algn="ctr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indent="108000" algn="ctr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 indent="10800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 indent="10800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000" y="765000"/>
            <a:ext cx="7769160" cy="216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Georgia"/>
              </a:rPr>
              <a:t>FSTL 18.10.07</a:t>
            </a:r>
            <a:br>
              <a:rPr sz="4000"/>
            </a:br>
            <a:br>
              <a:rPr sz="4000"/>
            </a:br>
            <a:r>
              <a:rPr b="1" lang="en-US" sz="4400" spc="-1" strike="noStrike">
                <a:solidFill>
                  <a:srgbClr val="ff9933"/>
                </a:solidFill>
                <a:latin typeface="Georgia"/>
              </a:rPr>
              <a:t>Hvordan forvalter vi verdiene som investeres i </a:t>
            </a:r>
            <a:br>
              <a:rPr sz="4400"/>
            </a:br>
            <a:r>
              <a:rPr b="1" lang="en-US" sz="4400" spc="-1" strike="noStrike">
                <a:solidFill>
                  <a:srgbClr val="ff9933"/>
                </a:solidFill>
                <a:latin typeface="Georgia"/>
              </a:rPr>
              <a:t>sykehusbygg og teknisk utstyr</a:t>
            </a:r>
            <a:r>
              <a:rPr b="1" lang="en-US" sz="3200" spc="-1" strike="noStrike">
                <a:solidFill>
                  <a:srgbClr val="ff9933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ff9933"/>
              </a:solidFill>
              <a:latin typeface="Georg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258920" y="5084640"/>
            <a:ext cx="6400800" cy="79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 algn="ctr">
              <a:lnSpc>
                <a:spcPct val="95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av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Elin S. Berggren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280360" cy="936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Georgia"/>
              </a:rPr>
              <a:t>Hvordan forvalter vi verdiene?</a:t>
            </a:r>
            <a:r>
              <a:rPr b="1" lang="en-US" sz="4400" spc="-1" strike="noStrike">
                <a:solidFill>
                  <a:srgbClr val="ff9933"/>
                </a:solidFill>
                <a:latin typeface="Georgia"/>
              </a:rPr>
              <a:t> </a:t>
            </a:r>
            <a:endParaRPr b="0" lang="en-US" sz="4400" spc="-1" strike="noStrike">
              <a:solidFill>
                <a:srgbClr val="ff9933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971640" y="1557360"/>
            <a:ext cx="6688080" cy="424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9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Er investeringsnivået riktig?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1" marL="357120" indent="182520">
              <a:lnSpc>
                <a:spcPct val="95000"/>
              </a:lnSpc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Nei hvis det skal dekke;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712800" indent="366840">
              <a:lnSpc>
                <a:spcPct val="95000"/>
              </a:lnSpc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erdibevarende vedlikehold pt store etterslep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3" marL="1371600" indent="15732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T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3" marL="1371600" indent="15732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IT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3" marL="1371600" indent="15732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Bygg og eiendom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2" marL="712800" indent="366840">
              <a:lnSpc>
                <a:spcPct val="95000"/>
              </a:lnSpc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Endringer og tilpassninger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3" marL="1371600" indent="15732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Bygg og eiendom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2" marL="712800" indent="366840">
              <a:lnSpc>
                <a:spcPct val="95000"/>
              </a:lnSpc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Tilsynspålegg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2" marL="712800" indent="366840">
              <a:lnSpc>
                <a:spcPct val="95000"/>
              </a:lnSpc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Etterleve lover og forskrifter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357120" indent="182520">
              <a:lnSpc>
                <a:spcPct val="95000"/>
              </a:lnSpc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Etterslepet øker og bygningene forfaller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Rectangle 20"/>
          <p:cNvSpPr/>
          <p:nvPr/>
        </p:nvSpPr>
        <p:spPr>
          <a:xfrm>
            <a:off x="6670440" y="6423120"/>
            <a:ext cx="1934280" cy="29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46800" bIns="46800" anchor="t">
            <a:spAutoFit/>
          </a:bodyPr>
          <a:p>
            <a:pPr algn="r">
              <a:lnSpc>
                <a:spcPct val="95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33"/>
                </a:solidFill>
                <a:latin typeface="Arial Narrow"/>
              </a:rPr>
              <a:t>ISE -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Eiendomsavdelin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280360" cy="936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Georgia"/>
              </a:rPr>
              <a:t>Hvordan forvalter vi verdiene?</a:t>
            </a:r>
            <a:r>
              <a:rPr b="1" lang="en-US" sz="4400" spc="-1" strike="noStrike">
                <a:solidFill>
                  <a:srgbClr val="ff9933"/>
                </a:solidFill>
                <a:latin typeface="Georgia"/>
              </a:rPr>
              <a:t> </a:t>
            </a:r>
            <a:endParaRPr b="0" lang="en-US" sz="4400" spc="-1" strike="noStrike">
              <a:solidFill>
                <a:srgbClr val="ff9933"/>
              </a:solidFill>
              <a:latin typeface="Georg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971280" y="1557360"/>
            <a:ext cx="6769080" cy="424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9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Investerer vi riktig?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Etter min mening NEI, fordi…..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357120" indent="182520">
              <a:lnSpc>
                <a:spcPct val="95000"/>
              </a:lnSpc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For mye ad-hoc investeringer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357120" indent="182520">
              <a:lnSpc>
                <a:spcPct val="95000"/>
              </a:lnSpc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For lite planmessighet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357120" indent="182520">
              <a:lnSpc>
                <a:spcPct val="95000"/>
              </a:lnSpc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For mye suboptimalisering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2" marL="712800" indent="366840">
              <a:lnSpc>
                <a:spcPct val="95000"/>
              </a:lnSpc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for mye ego (teknisk) fokus 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lvl="2" marL="712800" indent="366840">
              <a:lnSpc>
                <a:spcPct val="95000"/>
              </a:lnSpc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for lite helhetstenking, hva er best for sykehuset og pasienten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lvl="3" marL="1371600" indent="157320">
              <a:lnSpc>
                <a:spcPct val="10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for lite fokus på resultater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lvl="3" marL="1371600" indent="157320">
              <a:lnSpc>
                <a:spcPct val="10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for lite fokus på kostnadseffektivitet/arealeffektivitet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lvl="3" marL="1371600" indent="157320">
              <a:lnSpc>
                <a:spcPct val="10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for lite fokus på kvalitet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lvl="1" marL="357120" indent="182520">
              <a:lnSpc>
                <a:spcPct val="95000"/>
              </a:lnSpc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Hvordan påvirker bygningene m/utsty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371600" indent="157320">
              <a:lnSpc>
                <a:spcPct val="10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levert av helseproduksjon?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lvl="3" marL="1371600" indent="157320">
              <a:lnSpc>
                <a:spcPct val="10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levert av forskning?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lvl="3" marL="1371600" indent="157320">
              <a:lnSpc>
                <a:spcPct val="10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levert av opplæring?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Rectangle 20"/>
          <p:cNvSpPr/>
          <p:nvPr/>
        </p:nvSpPr>
        <p:spPr>
          <a:xfrm>
            <a:off x="6670440" y="6423120"/>
            <a:ext cx="1934280" cy="29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46800" bIns="46800" anchor="t">
            <a:spAutoFit/>
          </a:bodyPr>
          <a:p>
            <a:pPr algn="r">
              <a:lnSpc>
                <a:spcPct val="95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33"/>
                </a:solidFill>
                <a:latin typeface="Arial Narrow"/>
              </a:rPr>
              <a:t>ISE -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Eiendomsavdelin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020000" y="4508640"/>
            <a:ext cx="1163520" cy="18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280360" cy="936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Georgia"/>
              </a:rPr>
              <a:t>Hvordan forvalter vi verdiene?</a:t>
            </a:r>
            <a:r>
              <a:rPr b="1" lang="en-US" sz="4400" spc="-1" strike="noStrike">
                <a:solidFill>
                  <a:srgbClr val="ff9933"/>
                </a:solidFill>
                <a:latin typeface="Georgia"/>
              </a:rPr>
              <a:t> </a:t>
            </a:r>
            <a:endParaRPr b="0" lang="en-US" sz="4400" spc="-1" strike="noStrike">
              <a:solidFill>
                <a:srgbClr val="ff9933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971640" y="1557000"/>
            <a:ext cx="6688080" cy="3600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9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Hvorfor er det slik?</a:t>
            </a: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1" marL="357120" indent="182520">
              <a:lnSpc>
                <a:spcPct val="95000"/>
              </a:lnSpc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Er regionsinndelingen en hemsko?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3" marL="1371600" indent="1573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Norge er like stor som en bydel i London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357120" indent="182520">
              <a:lnSpc>
                <a:spcPct val="95000"/>
              </a:lnSpc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Er vi flinkere til å ”krige” enn til å 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amarbeide?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357120" indent="182520">
              <a:lnSpc>
                <a:spcPct val="95000"/>
              </a:lnSpc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Gir vi, eiendomsavdelingen, våre 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ykehusledere det riktige fundament for 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ine investeringsbeslutninger?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7" name="Rectangle 20"/>
          <p:cNvSpPr/>
          <p:nvPr/>
        </p:nvSpPr>
        <p:spPr>
          <a:xfrm>
            <a:off x="6670440" y="6423120"/>
            <a:ext cx="1934280" cy="29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46800" bIns="46800" anchor="t">
            <a:spAutoFit/>
          </a:bodyPr>
          <a:p>
            <a:pPr algn="r">
              <a:lnSpc>
                <a:spcPct val="95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33"/>
                </a:solidFill>
                <a:latin typeface="Arial Narrow"/>
              </a:rPr>
              <a:t>ISE -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Eiendomsavdelin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280360" cy="936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Georgia"/>
              </a:rPr>
              <a:t>Hvordan forvalter vi verdiene?</a:t>
            </a:r>
            <a:r>
              <a:rPr b="1" lang="en-US" sz="4400" spc="-1" strike="noStrike">
                <a:solidFill>
                  <a:srgbClr val="ff9933"/>
                </a:solidFill>
                <a:latin typeface="Georgia"/>
              </a:rPr>
              <a:t> </a:t>
            </a:r>
            <a:endParaRPr b="0" lang="en-US" sz="4400" spc="-1" strike="noStrike">
              <a:solidFill>
                <a:srgbClr val="ff9933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971280" y="1557000"/>
            <a:ext cx="75610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9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Finnes det alternative finansieringskilder?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1" marL="357120" indent="182520">
              <a:lnSpc>
                <a:spcPct val="95000"/>
              </a:lnSpc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OP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357120" indent="182520">
              <a:lnSpc>
                <a:spcPct val="95000"/>
              </a:lnSpc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inansiell leasing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357120" indent="182520">
              <a:lnSpc>
                <a:spcPct val="95000"/>
              </a:lnSpc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alg av eiendommer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357120" indent="182520">
              <a:lnSpc>
                <a:spcPct val="95000"/>
              </a:lnSpc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A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357120" indent="182520">
              <a:lnSpc>
                <a:spcPct val="95000"/>
              </a:lnSpc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Gaver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357120" indent="182520">
              <a:lnSpc>
                <a:spcPct val="95000"/>
              </a:lnSpc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Legater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357120" indent="182520">
              <a:lnSpc>
                <a:spcPct val="95000"/>
              </a:lnSpc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Andre?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35712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0" name="Rectangle 20"/>
          <p:cNvSpPr/>
          <p:nvPr/>
        </p:nvSpPr>
        <p:spPr>
          <a:xfrm>
            <a:off x="6670440" y="6423120"/>
            <a:ext cx="1934280" cy="29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46800" bIns="46800" anchor="t">
            <a:spAutoFit/>
          </a:bodyPr>
          <a:p>
            <a:pPr algn="r">
              <a:lnSpc>
                <a:spcPct val="95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33"/>
                </a:solidFill>
                <a:latin typeface="Arial Narrow"/>
              </a:rPr>
              <a:t>ISE -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Eiendomsavdelin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280360" cy="936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Georgia"/>
              </a:rPr>
              <a:t>Hvordan forvalter vi verdiene?</a:t>
            </a:r>
            <a:r>
              <a:rPr b="1" lang="en-US" sz="4400" spc="-1" strike="noStrike">
                <a:solidFill>
                  <a:srgbClr val="ff9933"/>
                </a:solidFill>
                <a:latin typeface="Georgia"/>
              </a:rPr>
              <a:t> </a:t>
            </a:r>
            <a:endParaRPr b="0" lang="en-US" sz="4400" spc="-1" strike="noStrike">
              <a:solidFill>
                <a:srgbClr val="ff9933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971640" y="1557000"/>
            <a:ext cx="6688080" cy="3600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9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Takk for oppmerksomheten !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Rectangle 20"/>
          <p:cNvSpPr/>
          <p:nvPr/>
        </p:nvSpPr>
        <p:spPr>
          <a:xfrm>
            <a:off x="6670440" y="6423120"/>
            <a:ext cx="1934280" cy="29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46800" bIns="46800" anchor="t">
            <a:spAutoFit/>
          </a:bodyPr>
          <a:p>
            <a:pPr algn="r">
              <a:lnSpc>
                <a:spcPct val="95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33"/>
                </a:solidFill>
                <a:latin typeface="Arial Narrow"/>
              </a:rPr>
              <a:t>ISE -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Eiendomsavdelin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666960" y="2471760"/>
            <a:ext cx="180828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7240" y="476280"/>
            <a:ext cx="77695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Georgia"/>
              </a:rPr>
              <a:t>Hvordan er økonomien i sykehus-norge?</a:t>
            </a:r>
            <a:endParaRPr b="0" lang="en-US" sz="4400" spc="-1" strike="noStrike">
              <a:solidFill>
                <a:srgbClr val="ff9933"/>
              </a:solidFill>
              <a:latin typeface="Georgia"/>
            </a:endParaRPr>
          </a:p>
        </p:txBody>
      </p:sp>
      <p:sp>
        <p:nvSpPr>
          <p:cNvPr id="136" name="Rectangle 20"/>
          <p:cNvSpPr/>
          <p:nvPr/>
        </p:nvSpPr>
        <p:spPr>
          <a:xfrm>
            <a:off x="8152560" y="6423120"/>
            <a:ext cx="452880" cy="29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46800" bIns="46800" anchor="t">
            <a:spAutoFit/>
          </a:bodyPr>
          <a:p>
            <a:pPr algn="r">
              <a:lnSpc>
                <a:spcPct val="95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Rectangle 20" descr=""/>
          <p:cNvPicPr/>
          <p:nvPr/>
        </p:nvPicPr>
        <p:blipFill>
          <a:blip r:embed="rId1"/>
          <a:stretch/>
        </p:blipFill>
        <p:spPr>
          <a:xfrm>
            <a:off x="3699000" y="3286080"/>
            <a:ext cx="17460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7240" y="836280"/>
            <a:ext cx="77695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9933"/>
                </a:solidFill>
                <a:latin typeface="Georgia"/>
              </a:rPr>
              <a:t>Avvik mellom estimert årsresultat 2007 </a:t>
            </a:r>
            <a:br>
              <a:rPr sz="3200"/>
            </a:br>
            <a:r>
              <a:rPr b="0" lang="nb-NO" sz="3200" spc="-1" strike="noStrike">
                <a:solidFill>
                  <a:srgbClr val="ff9933"/>
                </a:solidFill>
                <a:latin typeface="Georgia"/>
              </a:rPr>
              <a:t>og årets resultatkrav</a:t>
            </a:r>
            <a:endParaRPr b="0" lang="en-US" sz="3200" spc="-1" strike="noStrike">
              <a:solidFill>
                <a:srgbClr val="ff9933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324000" y="2565360"/>
            <a:ext cx="8424720" cy="2473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 algn="ctr">
              <a:lnSpc>
                <a:spcPct val="9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79280" y="2492280"/>
          <a:ext cx="8856720" cy="3003120"/>
        </p:xfrm>
        <a:graphic>
          <a:graphicData uri="http://schemas.openxmlformats.org/drawingml/2006/table">
            <a:tbl>
              <a:tblPr/>
              <a:tblGrid>
                <a:gridCol w="1871640"/>
                <a:gridCol w="1441440"/>
                <a:gridCol w="1224000"/>
                <a:gridCol w="1511280"/>
                <a:gridCol w="1333800"/>
                <a:gridCol w="1474560"/>
              </a:tblGrid>
              <a:tr h="77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Sør-Ø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V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Midt-Nor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No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Su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9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land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Resultatkrav for 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95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8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95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95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95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1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95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1 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Estimert årsresult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pr 1. halvår 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1 280 til -1 3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300 til-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285 til -3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335 til -4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2 200 til -2 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Estimert avvik mot resultatkra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400 til -4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 til -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200 til -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200 til -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800 til -1 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07280" cy="792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Georgia"/>
              </a:rPr>
              <a:t>Statsbudsjettet for 2008</a:t>
            </a:r>
            <a:endParaRPr b="0" lang="en-US" sz="4400" spc="-1" strike="noStrike">
              <a:solidFill>
                <a:srgbClr val="ff9933"/>
              </a:solidFill>
              <a:latin typeface="Georg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07280" cy="475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70000" indent="-270000">
              <a:lnSpc>
                <a:spcPct val="95000"/>
              </a:lnSpc>
              <a:spcAft>
                <a:spcPts val="700"/>
              </a:spcAft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808080"/>
                </a:solidFill>
                <a:latin typeface="Arial"/>
              </a:rPr>
              <a:t>Øker bevilgningen med 1,79 mdr kroner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270000" indent="-270000">
              <a:lnSpc>
                <a:spcPct val="95000"/>
              </a:lnSpc>
              <a:spcAft>
                <a:spcPts val="700"/>
              </a:spcAft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808080"/>
                </a:solidFill>
                <a:latin typeface="Arial"/>
              </a:rPr>
              <a:t>Øker investeringene med 1,67 mdr kroner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270000" indent="-270000">
              <a:lnSpc>
                <a:spcPct val="95000"/>
              </a:lnSpc>
              <a:spcAft>
                <a:spcPts val="700"/>
              </a:spcAft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808080"/>
                </a:solidFill>
                <a:latin typeface="Arial"/>
              </a:rPr>
              <a:t>Øke aktiviteten med 1,5 %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270000" indent="-270000">
              <a:lnSpc>
                <a:spcPct val="95000"/>
              </a:lnSpc>
              <a:spcAft>
                <a:spcPts val="700"/>
              </a:spcAft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808080"/>
                </a:solidFill>
                <a:latin typeface="Arial"/>
              </a:rPr>
              <a:t>Men hvor mye får vi av midlene?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07280" cy="792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Georgia"/>
              </a:rPr>
              <a:t>Omlegginger og sparing for RH</a:t>
            </a:r>
            <a:endParaRPr b="0" lang="en-US" sz="4400" spc="-1" strike="noStrike">
              <a:solidFill>
                <a:srgbClr val="ff9933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07280" cy="475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70000" indent="-270000">
              <a:lnSpc>
                <a:spcPct val="95000"/>
              </a:lnSpc>
              <a:spcAft>
                <a:spcPts val="700"/>
              </a:spcAft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Sykehuset må spare 300-400 mill kroner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270000" indent="-270000">
              <a:lnSpc>
                <a:spcPct val="95000"/>
              </a:lnSpc>
              <a:spcAft>
                <a:spcPts val="700"/>
              </a:spcAft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Medfører 300-400 stillinger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270000" indent="-270000">
              <a:lnSpc>
                <a:spcPct val="95000"/>
              </a:lnSpc>
              <a:spcAft>
                <a:spcPts val="700"/>
              </a:spcAft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Betydelig omlegging av den kliniske virksomheten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270000" indent="-270000">
              <a:lnSpc>
                <a:spcPct val="95000"/>
              </a:lnSpc>
              <a:spcAft>
                <a:spcPts val="700"/>
              </a:spcAft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Ny strategi for sykehuset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270000" indent="0">
              <a:lnSpc>
                <a:spcPct val="95000"/>
              </a:lnSpc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07280" cy="792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Georgia"/>
              </a:rPr>
              <a:t>Investeringsprofil/prosjekter</a:t>
            </a:r>
            <a:endParaRPr b="0" lang="en-US" sz="4400" spc="-1" strike="noStrike">
              <a:solidFill>
                <a:srgbClr val="ff9933"/>
              </a:solidFill>
              <a:latin typeface="Georg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07280" cy="475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70000" indent="-270000">
              <a:lnSpc>
                <a:spcPct val="85000"/>
              </a:lnSpc>
              <a:spcAft>
                <a:spcPts val="601"/>
              </a:spcAft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808080"/>
                </a:solidFill>
                <a:latin typeface="Arial"/>
              </a:rPr>
              <a:t>Unngå at MTU øker i gjennomsnittsalder (9,7 år)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270000" indent="-270000">
              <a:lnSpc>
                <a:spcPct val="85000"/>
              </a:lnSpc>
              <a:spcAft>
                <a:spcPts val="601"/>
              </a:spcAft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808080"/>
                </a:solidFill>
                <a:latin typeface="Arial"/>
              </a:rPr>
              <a:t>Digitalt sykehu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270000" indent="-270000">
              <a:lnSpc>
                <a:spcPct val="85000"/>
              </a:lnSpc>
              <a:spcAft>
                <a:spcPts val="601"/>
              </a:spcAft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808080"/>
                </a:solidFill>
                <a:latin typeface="Arial"/>
              </a:rPr>
              <a:t>Buffet-servering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270000" indent="-270000">
              <a:lnSpc>
                <a:spcPct val="85000"/>
              </a:lnSpc>
              <a:spcAft>
                <a:spcPts val="601"/>
              </a:spcAft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808080"/>
                </a:solidFill>
                <a:latin typeface="Arial"/>
              </a:rPr>
              <a:t>SSE - Voksenenheten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270000" indent="-270000">
              <a:lnSpc>
                <a:spcPct val="85000"/>
              </a:lnSpc>
              <a:spcAft>
                <a:spcPts val="601"/>
              </a:spcAft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808080"/>
                </a:solidFill>
                <a:latin typeface="Arial"/>
              </a:rPr>
              <a:t>SSR – Hjerneskadesentere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270000" indent="-270000">
              <a:lnSpc>
                <a:spcPct val="85000"/>
              </a:lnSpc>
              <a:spcAft>
                <a:spcPts val="601"/>
              </a:spcAft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808080"/>
                </a:solidFill>
                <a:latin typeface="Arial"/>
              </a:rPr>
              <a:t>Visualiseringssentere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270000" indent="-270000">
              <a:lnSpc>
                <a:spcPct val="85000"/>
              </a:lnSpc>
              <a:spcAft>
                <a:spcPts val="601"/>
              </a:spcAft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808080"/>
                </a:solidFill>
                <a:latin typeface="Arial"/>
              </a:rPr>
              <a:t>Forskningsbygge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270000" indent="-270000">
              <a:lnSpc>
                <a:spcPct val="85000"/>
              </a:lnSpc>
              <a:spcAft>
                <a:spcPts val="601"/>
              </a:spcAft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808080"/>
                </a:solidFill>
                <a:latin typeface="Arial"/>
              </a:rPr>
              <a:t>Sykehotell Gaustad og Montebello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270000" indent="-270000">
              <a:lnSpc>
                <a:spcPct val="85000"/>
              </a:lnSpc>
              <a:spcAft>
                <a:spcPts val="601"/>
              </a:spcAft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808080"/>
                </a:solidFill>
                <a:latin typeface="Arial"/>
              </a:rPr>
              <a:t>Pårørendeovernatting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27000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270000" indent="-270000">
              <a:lnSpc>
                <a:spcPct val="85000"/>
              </a:lnSpc>
              <a:spcAft>
                <a:spcPts val="601"/>
              </a:spcAft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808080"/>
                </a:solidFill>
                <a:latin typeface="Arial"/>
              </a:rPr>
              <a:t>VI VIL IKKE FÅ SÅ MYE MIDLER SOM VI HAR BEHOV FOR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280360" cy="936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Georgia"/>
              </a:rPr>
              <a:t>Hvordan forvalter vi verdiene?</a:t>
            </a:r>
            <a:r>
              <a:rPr b="1" lang="en-US" sz="4400" spc="-1" strike="noStrike">
                <a:solidFill>
                  <a:srgbClr val="ff9933"/>
                </a:solidFill>
                <a:latin typeface="Georgia"/>
              </a:rPr>
              <a:t> </a:t>
            </a:r>
            <a:endParaRPr b="0" lang="en-US" sz="4400" spc="-1" strike="noStrike">
              <a:solidFill>
                <a:srgbClr val="ff9933"/>
              </a:solidFill>
              <a:latin typeface="Georg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58920" y="2060280"/>
            <a:ext cx="6400800" cy="2663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 algn="ctr">
              <a:lnSpc>
                <a:spcPct val="85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IFLG.: Euro Health Consumer Index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er Norge på 7plass i brukervennlig helsevesen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Med karakteristikken – ”Generally not too bad. In reasent years access problems have been ”solved” by pouring money over them – very expencive healthcare!”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6670440" y="6423120"/>
            <a:ext cx="1934280" cy="29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46800" bIns="46800" anchor="t">
            <a:spAutoFit/>
          </a:bodyPr>
          <a:p>
            <a:pPr algn="r">
              <a:lnSpc>
                <a:spcPct val="95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33"/>
                </a:solidFill>
                <a:latin typeface="Arial Narrow"/>
              </a:rPr>
              <a:t>ISE -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Eiendomsavdelin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585800" y="4508640"/>
            <a:ext cx="1413000" cy="141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611280" y="1397160"/>
          <a:ext cx="7705800" cy="4381200"/>
        </p:xfrm>
        <a:graphic>
          <a:graphicData uri="http://schemas.openxmlformats.org/drawingml/2006/table">
            <a:tbl>
              <a:tblPr/>
              <a:tblGrid>
                <a:gridCol w="1541520"/>
                <a:gridCol w="1541160"/>
                <a:gridCol w="1540080"/>
                <a:gridCol w="1541520"/>
                <a:gridCol w="15415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0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M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71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50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50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50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IK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82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88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99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54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Ann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3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3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3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Nybyg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314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578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380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39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AS Byg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76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28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UUS/I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S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07280" cy="792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Georgia"/>
              </a:rPr>
              <a:t>Investeringsbehov</a:t>
            </a:r>
            <a:endParaRPr b="0" lang="en-US" sz="4400" spc="-1" strike="noStrike">
              <a:solidFill>
                <a:srgbClr val="ff9933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07280" cy="792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Georgia"/>
              </a:rPr>
              <a:t>Kapitalkostnader og renter</a:t>
            </a:r>
            <a:endParaRPr b="0" lang="en-US" sz="4400" spc="-1" strike="noStrike">
              <a:solidFill>
                <a:srgbClr val="ff9933"/>
              </a:solidFill>
              <a:latin typeface="Georgi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68360" y="1413000"/>
          <a:ext cx="8280360" cy="4224240"/>
        </p:xfrm>
        <a:graphic>
          <a:graphicData uri="http://schemas.openxmlformats.org/drawingml/2006/table">
            <a:tbl>
              <a:tblPr/>
              <a:tblGrid>
                <a:gridCol w="2614680"/>
                <a:gridCol w="2106360"/>
                <a:gridCol w="1903680"/>
                <a:gridCol w="1655640"/>
              </a:tblGrid>
              <a:tr h="105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0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Kapitalkostnad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5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4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5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Finanskostnad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S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5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5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6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7240" y="404280"/>
            <a:ext cx="7769520" cy="2838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Georgia"/>
              </a:rPr>
              <a:t>Produktivitet for sykehusene</a:t>
            </a:r>
            <a:endParaRPr b="0" lang="en-US" sz="4400" spc="-1" strike="noStrike">
              <a:solidFill>
                <a:srgbClr val="ff9933"/>
              </a:solidFill>
              <a:latin typeface="Georg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286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 algn="ctr">
              <a:lnSpc>
                <a:spcPct val="9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7240" y="1773000"/>
            <a:ext cx="7769520" cy="1469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Georg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286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 algn="ctr">
              <a:lnSpc>
                <a:spcPct val="9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58920" y="900000"/>
            <a:ext cx="842472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7240" y="1773000"/>
            <a:ext cx="7769520" cy="1469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Georg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286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 algn="ctr">
              <a:lnSpc>
                <a:spcPct val="9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24000" y="831960"/>
            <a:ext cx="864072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7240" y="1773000"/>
            <a:ext cx="7769520" cy="1469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Georg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286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 algn="ctr">
              <a:lnSpc>
                <a:spcPct val="9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95280" y="719280"/>
            <a:ext cx="8497800" cy="533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7240" y="1773000"/>
            <a:ext cx="7769520" cy="1469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Georg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286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 algn="ctr">
              <a:lnSpc>
                <a:spcPct val="9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50920" y="681120"/>
            <a:ext cx="8713800" cy="545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7240" y="1773000"/>
            <a:ext cx="7769520" cy="1469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Georg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3286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 algn="ctr">
              <a:lnSpc>
                <a:spcPct val="9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50920" y="1027080"/>
            <a:ext cx="8713800" cy="476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07280" cy="792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Georgia"/>
              </a:rPr>
              <a:t>Er vi effektive?</a:t>
            </a:r>
            <a:endParaRPr b="0" lang="en-US" sz="4400" spc="-1" strike="noStrike">
              <a:solidFill>
                <a:srgbClr val="ff9933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07280" cy="475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700"/>
              </a:spcAft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808080"/>
                </a:solidFill>
                <a:latin typeface="Arial"/>
              </a:rPr>
              <a:t>Kostnader pr kvm, DRG..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Aft>
                <a:spcPts val="700"/>
              </a:spcAft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808080"/>
                </a:solidFill>
                <a:latin typeface="Arial"/>
              </a:rPr>
              <a:t>Samdataanlaysen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Aft>
                <a:spcPts val="700"/>
              </a:spcAft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808080"/>
                </a:solidFill>
                <a:latin typeface="Arial"/>
              </a:rPr>
              <a:t>Produksjon/aktivitetsdata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Aft>
                <a:spcPts val="700"/>
              </a:spcAft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808080"/>
                </a:solidFill>
                <a:latin typeface="Arial"/>
              </a:rPr>
              <a:t>Kvalitets/avviksdata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Aft>
                <a:spcPts val="700"/>
              </a:spcAft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808080"/>
                </a:solidFill>
                <a:latin typeface="Arial"/>
              </a:rPr>
              <a:t>Bench-marking</a:t>
            </a:r>
            <a:r>
              <a:rPr b="0" lang="nb-NO" sz="28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Aft>
                <a:spcPts val="700"/>
              </a:spcAft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808080"/>
                </a:solidFill>
                <a:latin typeface="Arial"/>
              </a:rPr>
              <a:t>Regnskap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07280" cy="792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Georgia"/>
              </a:rPr>
              <a:t>Nettokostnader per nøkkelvariabel</a:t>
            </a:r>
            <a:endParaRPr b="0" lang="en-US" sz="4000" spc="-1" strike="noStrike">
              <a:solidFill>
                <a:srgbClr val="ff9933"/>
              </a:solidFill>
              <a:latin typeface="Georgia"/>
            </a:endParaRPr>
          </a:p>
        </p:txBody>
      </p:sp>
      <p:sp>
        <p:nvSpPr>
          <p:cNvPr id="171" name="Rectangle 20"/>
          <p:cNvSpPr/>
          <p:nvPr/>
        </p:nvSpPr>
        <p:spPr>
          <a:xfrm>
            <a:off x="6947280" y="6326280"/>
            <a:ext cx="1519920" cy="29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46800" bIns="46800" anchor="t">
            <a:spAutoFit/>
          </a:bodyPr>
          <a:p>
            <a:pPr algn="r">
              <a:lnSpc>
                <a:spcPct val="95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Narrow"/>
              </a:rPr>
              <a:t>Klinikk, Lokalisasj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Rectangle 20" descr=""/>
          <p:cNvPicPr/>
          <p:nvPr/>
        </p:nvPicPr>
        <p:blipFill>
          <a:blip r:embed="rId1"/>
          <a:stretch/>
        </p:blipFill>
        <p:spPr>
          <a:xfrm>
            <a:off x="971640" y="2087640"/>
            <a:ext cx="72007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280360" cy="936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Georgia"/>
              </a:rPr>
              <a:t>Hvordan forvalter vi verdiene?</a:t>
            </a:r>
            <a:r>
              <a:rPr b="1" lang="en-US" sz="4400" spc="-1" strike="noStrike">
                <a:solidFill>
                  <a:srgbClr val="ff9933"/>
                </a:solidFill>
                <a:latin typeface="Georgia"/>
              </a:rPr>
              <a:t> </a:t>
            </a:r>
            <a:endParaRPr b="0" lang="en-US" sz="4400" spc="-1" strike="noStrike">
              <a:solidFill>
                <a:srgbClr val="ff9933"/>
              </a:solidFill>
              <a:latin typeface="Georg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58920" y="1413000"/>
            <a:ext cx="6400800" cy="403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>
              <a:lnSpc>
                <a:spcPct val="95000"/>
              </a:lnSpc>
              <a:spcAft>
                <a:spcPts val="601"/>
              </a:spcAft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Hva er en investering?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601"/>
              </a:spcAft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Hva skal en investering brukes til?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601"/>
              </a:spcAft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Hvem skal bestemme investeringsbruken?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601"/>
              </a:spcAft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Hva mener våre foresatte RHF og HOD ?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601"/>
              </a:spcAft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Hvor stor er investeringen, i dag?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601"/>
              </a:spcAft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Er investeringsnivået riktig?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601"/>
              </a:spcAft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I forhold til hva?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601"/>
              </a:spcAft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Investerer vi riktig?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601"/>
              </a:spcAft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Alternative finansieringskilder?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7" name="Rectangle 20"/>
          <p:cNvSpPr/>
          <p:nvPr/>
        </p:nvSpPr>
        <p:spPr>
          <a:xfrm>
            <a:off x="6670440" y="6423120"/>
            <a:ext cx="1934280" cy="29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46800" bIns="46800" anchor="t">
            <a:spAutoFit/>
          </a:bodyPr>
          <a:p>
            <a:pPr algn="r">
              <a:lnSpc>
                <a:spcPct val="95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33"/>
                </a:solidFill>
                <a:latin typeface="Arial Narrow"/>
              </a:rPr>
              <a:t>ISE -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Eiendomsavdelin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280360" cy="936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Georgia"/>
              </a:rPr>
              <a:t>Hvordan forvalter vi verdiene?</a:t>
            </a:r>
            <a:r>
              <a:rPr b="1" lang="en-US" sz="4400" spc="-1" strike="noStrike">
                <a:solidFill>
                  <a:srgbClr val="ff9933"/>
                </a:solidFill>
                <a:latin typeface="Georgia"/>
              </a:rPr>
              <a:t> </a:t>
            </a:r>
            <a:endParaRPr b="0" lang="en-US" sz="4400" spc="-1" strike="noStrike">
              <a:solidFill>
                <a:srgbClr val="ff9933"/>
              </a:solidFill>
              <a:latin typeface="Georg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99640" y="1557360"/>
            <a:ext cx="72723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8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808080"/>
                </a:solidFill>
                <a:latin typeface="Arial"/>
              </a:rPr>
              <a:t>Bakgrunn </a:t>
            </a:r>
            <a:r>
              <a:rPr b="0" lang="nb-NO" sz="2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85000"/>
              </a:lnSpc>
              <a:spcAft>
                <a:spcPts val="601"/>
              </a:spcAft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808080"/>
                </a:solidFill>
                <a:latin typeface="Arial"/>
              </a:rPr>
              <a:t>Reduserte drift og vedlikeholdsutgifter medfører </a:t>
            </a:r>
            <a:r>
              <a:rPr b="0" lang="nb-NO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nb-NO" sz="2400" spc="-1" strike="noStrike">
                <a:solidFill>
                  <a:srgbClr val="808080"/>
                </a:solidFill>
                <a:latin typeface="Arial"/>
              </a:rPr>
              <a:t>over år en tvungen vridning mot økt </a:t>
            </a:r>
            <a:r>
              <a:rPr b="0" lang="nb-NO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nb-NO" sz="2400" spc="-1" strike="noStrike">
                <a:solidFill>
                  <a:srgbClr val="808080"/>
                </a:solidFill>
                <a:latin typeface="Arial"/>
              </a:rPr>
              <a:t>investeringsbehov.  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85000"/>
              </a:lnSpc>
              <a:spcAft>
                <a:spcPts val="601"/>
              </a:spcAft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nb-NO" sz="2400" spc="-1" strike="noStrike">
                <a:solidFill>
                  <a:srgbClr val="808080"/>
                </a:solidFill>
                <a:latin typeface="Arial"/>
              </a:rPr>
              <a:t>Over tid må investeringer tilsvare de årlige </a:t>
            </a:r>
            <a:r>
              <a:rPr b="0" lang="nb-NO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nb-NO" sz="2400" spc="-1" strike="noStrike">
                <a:solidFill>
                  <a:srgbClr val="808080"/>
                </a:solidFill>
                <a:latin typeface="Arial"/>
              </a:rPr>
              <a:t>avskrivningene =&gt; utarming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85000"/>
              </a:lnSpc>
              <a:spcAft>
                <a:spcPts val="601"/>
              </a:spcAft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nb-NO" sz="2400" spc="-1" strike="noStrike">
                <a:solidFill>
                  <a:srgbClr val="808080"/>
                </a:solidFill>
                <a:latin typeface="Arial"/>
              </a:rPr>
              <a:t>Investering er midler som HFet disponerer i tillegg </a:t>
            </a:r>
            <a:r>
              <a:rPr b="0" lang="nb-NO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nb-NO" sz="2400" spc="-1" strike="noStrike">
                <a:solidFill>
                  <a:srgbClr val="808080"/>
                </a:solidFill>
                <a:latin typeface="Arial"/>
              </a:rPr>
              <a:t>til driftsrammebevilgningen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85000"/>
              </a:lnSpc>
              <a:spcAft>
                <a:spcPts val="601"/>
              </a:spcAft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nb-NO" sz="2400" spc="-1" strike="noStrike">
                <a:solidFill>
                  <a:srgbClr val="808080"/>
                </a:solidFill>
                <a:latin typeface="Arial"/>
              </a:rPr>
              <a:t>Investeringsrammens størrelse fordeles av det </a:t>
            </a:r>
            <a:r>
              <a:rPr b="0" lang="nb-NO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nb-NO" sz="2400" spc="-1" strike="noStrike">
                <a:solidFill>
                  <a:srgbClr val="808080"/>
                </a:solidFill>
                <a:latin typeface="Arial"/>
              </a:rPr>
              <a:t>enkelte RHF på basis av  retningslinjer og </a:t>
            </a:r>
            <a:r>
              <a:rPr b="0" lang="nb-NO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nb-NO" sz="2400" spc="-1" strike="noStrike">
                <a:solidFill>
                  <a:srgbClr val="808080"/>
                </a:solidFill>
                <a:latin typeface="Arial"/>
              </a:rPr>
              <a:t>bevilgninger gitt i Nasjonalbudsjette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85000"/>
              </a:lnSpc>
              <a:spcAft>
                <a:spcPts val="601"/>
              </a:spcAft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nb-NO" sz="2400" spc="-1" strike="noStrike">
                <a:solidFill>
                  <a:srgbClr val="808080"/>
                </a:solidFill>
                <a:latin typeface="Arial"/>
              </a:rPr>
              <a:t>Investeringsrammen varierer fra et år til et annet!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Rectangle 20"/>
          <p:cNvSpPr/>
          <p:nvPr/>
        </p:nvSpPr>
        <p:spPr>
          <a:xfrm>
            <a:off x="6670440" y="6423120"/>
            <a:ext cx="1934280" cy="29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46800" bIns="46800" anchor="t">
            <a:spAutoFit/>
          </a:bodyPr>
          <a:p>
            <a:pPr algn="r">
              <a:lnSpc>
                <a:spcPct val="95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33"/>
                </a:solidFill>
                <a:latin typeface="Arial Narrow"/>
              </a:rPr>
              <a:t>ISE -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Eiendomsavdelin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280360" cy="936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Georgia"/>
              </a:rPr>
              <a:t>Hvordan forvalter vi verdiene?</a:t>
            </a:r>
            <a:r>
              <a:rPr b="1" lang="en-US" sz="4400" spc="-1" strike="noStrike">
                <a:solidFill>
                  <a:srgbClr val="ff9933"/>
                </a:solidFill>
                <a:latin typeface="Georgia"/>
              </a:rPr>
              <a:t> </a:t>
            </a:r>
            <a:endParaRPr b="0" lang="en-US" sz="4400" spc="-1" strike="noStrike">
              <a:solidFill>
                <a:srgbClr val="ff9933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71640" y="1557000"/>
            <a:ext cx="73454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9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Hva skal investeringsrammen brukes til?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1" marL="357120" indent="182520">
              <a:lnSpc>
                <a:spcPct val="95000"/>
              </a:lnSpc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Verdibevarende vedlikehold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712800" indent="366840">
              <a:lnSpc>
                <a:spcPct val="95000"/>
              </a:lnSpc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Eiendommer og bygninger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2" marL="712800" indent="366840">
              <a:lnSpc>
                <a:spcPct val="95000"/>
              </a:lnSpc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Teknisk- og medisintekniskutstyr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357120" indent="182520">
              <a:lnSpc>
                <a:spcPct val="95000"/>
              </a:lnSpc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ilpasse bygningsmassen til kjernevirksomheten ie utvikling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712800" indent="366840">
              <a:lnSpc>
                <a:spcPct val="95000"/>
              </a:lnSpc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Nybygg (noen ganger spesialbevilgning 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2" marL="712800" indent="366840">
              <a:lnSpc>
                <a:spcPct val="95000"/>
              </a:lnSpc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Endringer og tilpassninger på bygg på grunn av nye/endrede oppgaver eller effektivisering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2" marL="712800" indent="366840">
              <a:lnSpc>
                <a:spcPct val="95000"/>
              </a:lnSpc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Utviklingsoppgaver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35712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Rectangle 20"/>
          <p:cNvSpPr/>
          <p:nvPr/>
        </p:nvSpPr>
        <p:spPr>
          <a:xfrm>
            <a:off x="6670440" y="6423120"/>
            <a:ext cx="1934280" cy="29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46800" bIns="46800" anchor="t">
            <a:spAutoFit/>
          </a:bodyPr>
          <a:p>
            <a:pPr algn="r">
              <a:lnSpc>
                <a:spcPct val="95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33"/>
                </a:solidFill>
                <a:latin typeface="Arial Narrow"/>
              </a:rPr>
              <a:t>ISE -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Eiendomsavdelin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156360" y="4292640"/>
            <a:ext cx="181908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280360" cy="936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Georgia"/>
              </a:rPr>
              <a:t>Hvordan forvalter vi verdiene?</a:t>
            </a:r>
            <a:r>
              <a:rPr b="1" lang="en-US" sz="4400" spc="-1" strike="noStrike">
                <a:solidFill>
                  <a:srgbClr val="ff9933"/>
                </a:solidFill>
                <a:latin typeface="Georgia"/>
              </a:rPr>
              <a:t> </a:t>
            </a:r>
            <a:endParaRPr b="0" lang="en-US" sz="4400" spc="-1" strike="noStrike">
              <a:solidFill>
                <a:srgbClr val="ff9933"/>
              </a:solidFill>
              <a:latin typeface="Georg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71280" y="1557000"/>
            <a:ext cx="67690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9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Hvem bestemmer bruken?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1" marL="357120" indent="182520">
              <a:lnSpc>
                <a:spcPct val="95000"/>
              </a:lnSpc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Det enkelte HF sin strategiske ledelse på bakgrunn av: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712800" indent="366840">
              <a:lnSpc>
                <a:spcPct val="95000"/>
              </a:lnSpc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SMBU for foretaket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2" marL="712800" indent="366840">
              <a:lnSpc>
                <a:spcPct val="95000"/>
              </a:lnSpc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Fortvaltningsplaner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2" marL="712800" indent="366840">
              <a:lnSpc>
                <a:spcPct val="95000"/>
              </a:lnSpc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Pålegg fra tilsyn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2" marL="712800" indent="366840">
              <a:lnSpc>
                <a:spcPct val="95000"/>
              </a:lnSpc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Pålagte og/eller nye oppgaver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2" marL="712800" indent="366840">
              <a:lnSpc>
                <a:spcPct val="95000"/>
              </a:lnSpc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Ønsker om effektivisering eller bedrede 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arbeidsforhol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2" marL="7128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35712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71280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Rectangle 20"/>
          <p:cNvSpPr/>
          <p:nvPr/>
        </p:nvSpPr>
        <p:spPr>
          <a:xfrm>
            <a:off x="6670440" y="6423120"/>
            <a:ext cx="1934280" cy="29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46800" bIns="46800" anchor="t">
            <a:spAutoFit/>
          </a:bodyPr>
          <a:p>
            <a:pPr algn="r">
              <a:lnSpc>
                <a:spcPct val="95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33"/>
                </a:solidFill>
                <a:latin typeface="Arial Narrow"/>
              </a:rPr>
              <a:t>ISE -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Eiendomsavdelin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280360" cy="936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Georgia"/>
              </a:rPr>
              <a:t>Hvordan forvalter vi verdiene?</a:t>
            </a:r>
            <a:r>
              <a:rPr b="1" lang="en-US" sz="4400" spc="-1" strike="noStrike">
                <a:solidFill>
                  <a:srgbClr val="ff9933"/>
                </a:solidFill>
                <a:latin typeface="Georgia"/>
              </a:rPr>
              <a:t> </a:t>
            </a:r>
            <a:endParaRPr b="0" lang="en-US" sz="4400" spc="-1" strike="noStrike">
              <a:solidFill>
                <a:srgbClr val="ff9933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971280" y="1557000"/>
            <a:ext cx="7272360" cy="3600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9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Hva mener våre eiere RHF og HOD?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1" marL="357120" indent="182520">
              <a:lnSpc>
                <a:spcPct val="95000"/>
              </a:lnSpc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De gir føringer med økonomiske rammer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712800" indent="366840">
              <a:lnSpc>
                <a:spcPct val="95000"/>
              </a:lnSpc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Lover forskrifter og politiske vedtak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357120" indent="182520">
              <a:lnSpc>
                <a:spcPct val="95000"/>
              </a:lnSpc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ørger for overordnet regional hhv nasjonal 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unksjonsfordeling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357120" indent="182520">
              <a:lnSpc>
                <a:spcPct val="95000"/>
              </a:lnSpc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Godkjenner investeringssøknader over en 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viss størrelse 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(ref konsernbestemmelsen § 15)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0" name="Rectangle 20"/>
          <p:cNvSpPr/>
          <p:nvPr/>
        </p:nvSpPr>
        <p:spPr>
          <a:xfrm>
            <a:off x="6670440" y="6423120"/>
            <a:ext cx="1934280" cy="29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46800" bIns="46800" anchor="t">
            <a:spAutoFit/>
          </a:bodyPr>
          <a:p>
            <a:pPr algn="r">
              <a:lnSpc>
                <a:spcPct val="95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33"/>
                </a:solidFill>
                <a:latin typeface="Arial Narrow"/>
              </a:rPr>
              <a:t>ISE -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Eiendomsavdelin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280360" cy="936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Georgia"/>
              </a:rPr>
              <a:t>Hvordan forvalter vi verdiene?</a:t>
            </a:r>
            <a:r>
              <a:rPr b="1" lang="en-US" sz="4400" spc="-1" strike="noStrike">
                <a:solidFill>
                  <a:srgbClr val="ff9933"/>
                </a:solidFill>
                <a:latin typeface="Georgia"/>
              </a:rPr>
              <a:t> </a:t>
            </a:r>
            <a:endParaRPr b="0" lang="en-US" sz="4400" spc="-1" strike="noStrike">
              <a:solidFill>
                <a:srgbClr val="ff9933"/>
              </a:solidFill>
              <a:latin typeface="Georg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71280" y="1557000"/>
            <a:ext cx="6985080" cy="4032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9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Hvor stor er investeringsrammen?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1" marL="357120" indent="182520">
              <a:lnSpc>
                <a:spcPct val="95000"/>
              </a:lnSpc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Varierer….  de siste årene ca 170 MNOK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35712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or Rikshospitalet, Raduimhospitalet og 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pesialsykehusene SSE og SSR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357120" indent="182520">
              <a:lnSpc>
                <a:spcPct val="95000"/>
              </a:lnSpc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kal dekke 400 000 m</a:t>
            </a:r>
            <a:r>
              <a:rPr b="0" lang="en-US" sz="2400" spc="-1" strike="noStrike" baseline="30000">
                <a:solidFill>
                  <a:srgbClr val="80808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av varierende 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kvalitet og alder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357120" indent="182520">
              <a:lnSpc>
                <a:spcPct val="95000"/>
              </a:lnSpc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kal hindre verdiforringelse av 6MRD NOK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357120" indent="182520">
              <a:lnSpc>
                <a:spcPct val="95000"/>
              </a:lnSpc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Avskrivning av bygningsmassen er på ca 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270 MNOK pr år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35712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35712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3" name="Rectangle 20"/>
          <p:cNvSpPr/>
          <p:nvPr/>
        </p:nvSpPr>
        <p:spPr>
          <a:xfrm>
            <a:off x="6670440" y="6423120"/>
            <a:ext cx="1934280" cy="29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46800" bIns="46800" anchor="t">
            <a:spAutoFit/>
          </a:bodyPr>
          <a:p>
            <a:pPr algn="r">
              <a:lnSpc>
                <a:spcPct val="95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33"/>
                </a:solidFill>
                <a:latin typeface="Arial Narrow"/>
              </a:rPr>
              <a:t>ISE -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Eiendomsavdelin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659640" y="4508640"/>
            <a:ext cx="178416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280360" cy="936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Georgia"/>
              </a:rPr>
              <a:t>Hvordan forvalter vi verdiene?</a:t>
            </a:r>
            <a:r>
              <a:rPr b="1" lang="en-US" sz="4400" spc="-1" strike="noStrike">
                <a:solidFill>
                  <a:srgbClr val="ff9933"/>
                </a:solidFill>
                <a:latin typeface="Georgia"/>
              </a:rPr>
              <a:t> </a:t>
            </a:r>
            <a:endParaRPr b="0" lang="en-US" sz="4400" spc="-1" strike="noStrike">
              <a:solidFill>
                <a:srgbClr val="ff9933"/>
              </a:solidFill>
              <a:latin typeface="Georg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971280" y="1557000"/>
            <a:ext cx="6985080" cy="4032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9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Fordeling av investeringsrammen ved Rikshospitalet HF?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1" marL="35712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I fbm. budsjettprosessen (høsten)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357120" indent="182520">
              <a:lnSpc>
                <a:spcPct val="95000"/>
              </a:lnSpc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øknader, begrunnet med kostnadsestima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357120" indent="182520">
              <a:lnSpc>
                <a:spcPct val="95000"/>
              </a:lnSpc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Prioriteringsutvalg  innstiller (januar)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35712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35712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Godkjent statsbudsjet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357120" indent="182520">
              <a:lnSpc>
                <a:spcPct val="95000"/>
              </a:lnSpc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Vedtak i klinikksjefmøtet (mars?)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357120" indent="182520">
              <a:lnSpc>
                <a:spcPct val="95000"/>
              </a:lnSpc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il utførelse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35712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35712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7" name="Rectangle 20"/>
          <p:cNvSpPr/>
          <p:nvPr/>
        </p:nvSpPr>
        <p:spPr>
          <a:xfrm>
            <a:off x="6670440" y="6423120"/>
            <a:ext cx="1934280" cy="29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46800" bIns="46800" anchor="t">
            <a:spAutoFit/>
          </a:bodyPr>
          <a:p>
            <a:pPr algn="r">
              <a:lnSpc>
                <a:spcPct val="95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33"/>
                </a:solidFill>
                <a:latin typeface="Arial Narrow"/>
              </a:rPr>
              <a:t>ISE -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Eiendomsavdelin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10:16:39Z</dcterms:created>
  <dc:creator>THALL</dc:creator>
  <dc:description/>
  <dc:language>en-US</dc:language>
  <cp:lastModifiedBy>IT-Bruker</cp:lastModifiedBy>
  <dcterms:modified xsi:type="dcterms:W3CDTF">2007-10-18T13:21:16Z</dcterms:modified>
  <cp:revision>85</cp:revision>
  <dc:subject/>
  <dc:title>Lysbil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49078343</vt:r8>
  </property>
  <property fmtid="{D5CDD505-2E9C-101B-9397-08002B2CF9AE}" pid="3" name="_AuthorEmail">
    <vt:lpwstr>Tore.Damlie@stolav.no</vt:lpwstr>
  </property>
  <property fmtid="{D5CDD505-2E9C-101B-9397-08002B2CF9AE}" pid="4" name="_AuthorEmailDisplayName">
    <vt:lpwstr>Damlie, Tore</vt:lpwstr>
  </property>
  <property fmtid="{D5CDD505-2E9C-101B-9397-08002B2CF9AE}" pid="5" name="_EmailSubject">
    <vt:lpwstr>Foredrag FSTL</vt:lpwstr>
  </property>
  <property fmtid="{D5CDD505-2E9C-101B-9397-08002B2CF9AE}" pid="6" name="_NewReviewCycle">
    <vt:lpwstr/>
  </property>
</Properties>
</file>