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E7C5-D8A1-46E5-BD6B-1CCA803B5668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må være aksept på direktørniv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kale betingel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ilrettelegging for optimal ”produksj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Betyr like mye tilrettelegging for ansatte for at de skal yte best mul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Det ligger mye sykefraværs-reduksjon i det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kale betingel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A44-54A7-465B-A39C-F617685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F70-23F7-422D-BFAF-73C46C8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7C8-C9D0-40BF-9549-503EEB0F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2F8-0B81-44C3-B3CC-33EB2FA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B47-EBF6-4681-917D-EDBF4D07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01E-487A-488D-9D22-7DD6EC0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A41-32F3-4677-A4C0-A6151AEF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B10-08E2-4B99-A7FB-48D51FB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9B0-3143-4227-9B90-135B7C8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7C8-3602-48B3-B25F-0865E7F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232-7DF7-4700-8FE2-05CF2E6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FA3-7950-42B3-A62D-976242F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D6D7-969F-4254-BA28-A8202E4032E7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150920" cy="853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5400000">
            <a:off x="-1497600" y="287244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gforbund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STL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ondheim 18 oktob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BB6-BEA9-40D3-88B4-9C3C1C691F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ittel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va skjer når det blir ubalanse mellom forventninger, krav og realiteter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834-D4E3-467D-8634-A9A438115A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000000"/>
                </a:solidFill>
                <a:latin typeface="Comic Sans MS"/>
              </a:rPr>
              <a:t>Kæm e æ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Sigmund Eid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Konserntillitsvalgt H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Foretakstillitsvalgt St Olavs Hospi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Styrerepr. ved St Olavs Hospi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B4B-8F0F-499A-8190-3B04A9C541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formen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kstrem snuoperasj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 bygg – bruk -  riv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l bygg – bruk - vedlikehol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rever mer av vedlikeho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erkjenne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 må være aksept på direktørniv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 4 år gitt oss d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89C-942B-4391-9D72-7DF6E971A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Utfordring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valte investert kapi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gg og utsty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lrettelegging for optimal ”produksjon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D2A-25BA-49C4-87C2-50B593ED86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ammebetingelser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nkurranse med pasientbehand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nstant effektiviseringskrav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ånefinansiering ved fornyel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C87-AD50-4DB5-BD4C-B148642AC9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vor starter rasjonalisering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i="1" lang="nb-NO" sz="3200" spc="-1" strike="noStrike">
                <a:solidFill>
                  <a:srgbClr val="000000"/>
                </a:solidFill>
                <a:latin typeface="Comic Sans MS"/>
              </a:rPr>
              <a:t>Vi må spare uten at det rammer pasienten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Service-avdeli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Renhol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Kjøk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Teknis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Dette må end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Vi må få aksept for å tenke helh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C69-60C5-4495-8040-8D0B5218BA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atte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 må ha egne medarbeid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ønn som rekrutteringsmidd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ønningssystemer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799-3339-459C-ACC6-18F45AB551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ramtida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Enorme økonomiske utfordri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mic Sans MS"/>
              </a:rPr>
              <a:t>Kapitalutgif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Gryende lydhørhet i regjeri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omic Sans MS"/>
              </a:rPr>
              <a:t>Sinsenkryss-effek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mund Eidem Fagforbund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DB-0775-49EE-8A91-0A9DF24D20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 10.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2:27Z</dcterms:created>
  <dc:creator>Sigmund</dc:creator>
  <dc:description/>
  <dc:language>en-US</dc:language>
  <cp:lastModifiedBy>Sigmund</cp:lastModifiedBy>
  <dcterms:modified xsi:type="dcterms:W3CDTF">2007-10-18T08:43:14Z</dcterms:modified>
  <cp:revision>13</cp:revision>
  <dc:subject/>
  <dc:title>FST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3221313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