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99640" y="1341360"/>
            <a:ext cx="77979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2852640"/>
            <a:ext cx="778680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00000" y="4357800"/>
            <a:ext cx="778680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99640" y="1341360"/>
            <a:ext cx="77979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2852640"/>
            <a:ext cx="379980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0240" y="2852640"/>
            <a:ext cx="379980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4357800"/>
            <a:ext cx="379980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0240" y="4357800"/>
            <a:ext cx="379980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99640" y="1341360"/>
            <a:ext cx="77979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2852640"/>
            <a:ext cx="250704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2680" y="2852640"/>
            <a:ext cx="250704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2852640"/>
            <a:ext cx="250704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00000" y="4357800"/>
            <a:ext cx="250704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2680" y="4357800"/>
            <a:ext cx="250704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357800"/>
            <a:ext cx="250704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99640" y="1341360"/>
            <a:ext cx="77979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00000" y="2852640"/>
            <a:ext cx="778680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99640" y="1341360"/>
            <a:ext cx="77979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00000" y="2852640"/>
            <a:ext cx="7786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99640" y="1341360"/>
            <a:ext cx="77979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2852640"/>
            <a:ext cx="3799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0240" y="2852640"/>
            <a:ext cx="3799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99640" y="1341360"/>
            <a:ext cx="77979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99640" y="1341360"/>
            <a:ext cx="779796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9640" y="1341360"/>
            <a:ext cx="77979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2852640"/>
            <a:ext cx="379980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0240" y="2852640"/>
            <a:ext cx="3799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00000" y="4357800"/>
            <a:ext cx="379980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99640" y="1341360"/>
            <a:ext cx="77979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2852640"/>
            <a:ext cx="3799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0240" y="2852640"/>
            <a:ext cx="379980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0240" y="4357800"/>
            <a:ext cx="379980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99640" y="1341360"/>
            <a:ext cx="77979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2852640"/>
            <a:ext cx="379980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0240" y="2852640"/>
            <a:ext cx="379980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00000" y="4357800"/>
            <a:ext cx="778680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9640" y="1341360"/>
            <a:ext cx="77979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2d8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852640"/>
            <a:ext cx="7786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ctr">
              <a:spcBef>
                <a:spcPts val="799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2d8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  <a:p>
            <a:pPr lvl="1" marL="512640" indent="-1969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2d8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  <a:p>
            <a:pPr lvl="2" marL="788400" indent="-1576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2d8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  <a:p>
            <a:pPr lvl="3" marL="1104120" indent="-157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2d8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  <a:p>
            <a:pPr lvl="4" marL="1419480" indent="-1576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2d8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  <a:p>
            <a:pPr lvl="5" marL="1419480" indent="-1576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2d8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  <a:p>
            <a:pPr lvl="6" marL="1419480" indent="-1576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2d8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Helse Nord R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87156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71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98560" y="304920"/>
            <a:ext cx="2471760" cy="57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c2d84"/>
                </a:solidFill>
                <a:latin typeface="Arial"/>
              </a:rPr>
              <a:t>FSTLs Høstmøte. ”Trondheimskonferansen”  2007.</a:t>
            </a:r>
            <a:endParaRPr b="0" lang="en-US" sz="40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3645000"/>
            <a:ext cx="6400800" cy="192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2d84"/>
                </a:solidFill>
                <a:latin typeface="Arial"/>
              </a:rPr>
              <a:t>Hvordan forvalter vi</a:t>
            </a:r>
            <a:endParaRPr b="0" lang="en-US" sz="2800" spc="-1" strike="noStrike">
              <a:solidFill>
                <a:srgbClr val="0c2d84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2d84"/>
                </a:solidFill>
                <a:latin typeface="Arial"/>
              </a:rPr>
              <a:t>verdiene som investeres i bygninger og utstyr?</a:t>
            </a:r>
            <a:endParaRPr b="0" lang="en-US" sz="2800" spc="-1" strike="noStrike">
              <a:solidFill>
                <a:srgbClr val="0c2d84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2d84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c2d84"/>
                </a:solidFill>
                <a:latin typeface="Arial"/>
              </a:rPr>
              <a:t>Helse Nord</a:t>
            </a:r>
            <a:endParaRPr b="0" lang="en-US" sz="2800" spc="-1" strike="noStrike">
              <a:solidFill>
                <a:srgbClr val="0c2d84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2d8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41040" y="1382760"/>
            <a:ext cx="771516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2d84"/>
                </a:solidFill>
                <a:latin typeface="Arial"/>
              </a:rPr>
              <a:t>Kan vi se Helsebygg Norge  etablert innen 1 jan 2009?</a:t>
            </a:r>
            <a:endParaRPr b="0" lang="en-US" sz="40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00000" y="2852640"/>
            <a:ext cx="7786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l etablering av et ”Helsebygg Norge” gi</a:t>
            </a: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d84"/>
                </a:solidFill>
                <a:latin typeface="Arial"/>
              </a:rPr>
              <a:t>Mer midler til vedlikehold?</a:t>
            </a: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d84"/>
                </a:solidFill>
                <a:latin typeface="Arial"/>
              </a:rPr>
              <a:t>Bedre forvaltning av bygg og eiendom?</a:t>
            </a: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d84"/>
                </a:solidFill>
                <a:latin typeface="Arial"/>
              </a:rPr>
              <a:t>Bedre drift og vedlikehold av bygninger?</a:t>
            </a: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d84"/>
                </a:solidFill>
                <a:latin typeface="Arial"/>
              </a:rPr>
              <a:t>Bedre styring av investeringer relatert til vedlikehold av bestående anlegg?</a:t>
            </a: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d84"/>
                </a:solidFill>
                <a:latin typeface="Arial"/>
              </a:rPr>
              <a:t>Bedre service til kjernevirksomheten?</a:t>
            </a: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41040" y="1382760"/>
            <a:ext cx="771516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2d84"/>
                </a:solidFill>
                <a:latin typeface="Arial"/>
              </a:rPr>
              <a:t>Vedlikehold og investering</a:t>
            </a:r>
            <a:endParaRPr b="0" lang="en-US" sz="44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00000" y="2852640"/>
            <a:ext cx="7786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d84"/>
                </a:solidFill>
                <a:latin typeface="Arial"/>
              </a:rPr>
              <a:t>Vedlikeholdet av sykehusbygg i Helse Nord er bare ”stussen” relatert til utfordringene (40 år gamle bygg)</a:t>
            </a: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d84"/>
                </a:solidFill>
                <a:latin typeface="Arial"/>
              </a:rPr>
              <a:t>Ambisjonene om modernisering og nybygg de nærmeste 10 år er høye</a:t>
            </a: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dlandssykehuset 3 250 mill NOK (modernis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sterålen 750 mill NOK (nybyg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vik 750 mill NOK (nybygg modell Vesterå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rkenes og Hammerfest ca. 1 500 mill N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N ca. 1 000 mill N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41040" y="1382760"/>
            <a:ext cx="771516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2d84"/>
                </a:solidFill>
                <a:latin typeface="Arial"/>
              </a:rPr>
              <a:t>Vedlikehold og investering</a:t>
            </a:r>
            <a:endParaRPr b="0" lang="en-US" sz="44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00000" y="2852280"/>
            <a:ext cx="77868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d84"/>
                </a:solidFill>
                <a:latin typeface="Arial"/>
              </a:rPr>
              <a:t>Vedlikeholdet av sykehusbygg i Helse Nord er bare ”stussen” relatert til utfordringene (40 år gamle bygg)</a:t>
            </a: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d84"/>
                </a:solidFill>
                <a:latin typeface="Arial"/>
              </a:rPr>
              <a:t>Ambisjonene om modernisering og nybygg de nærmeste 10 år er høye</a:t>
            </a: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dlandssykehuset 3 250 mill NOK (modernis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kmarknes 750 mill NOK (nybyg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vik 750 mill NOK (nyby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rkenes og Hammerfest ca. 1 500 mill N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N ca. 1 000 mill N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98560" y="125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2d84"/>
                </a:solidFill>
                <a:latin typeface="Arial"/>
              </a:rPr>
              <a:t>Klarer vi å bære de framtidige kostnader ved vedlikehold, modernisering og nybygg ?</a:t>
            </a:r>
            <a:endParaRPr b="0" lang="en-US" sz="40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98560" y="3141360"/>
            <a:ext cx="640080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8560" y="125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2d84"/>
                </a:solidFill>
                <a:latin typeface="Arial"/>
              </a:rPr>
              <a:t>Dette var siste slide</a:t>
            </a:r>
            <a:endParaRPr b="0" lang="en-US" sz="44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985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2d84"/>
                </a:solidFill>
                <a:latin typeface="Arial"/>
              </a:rPr>
              <a:t>Takk for oppmerksomheten</a:t>
            </a: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41040" y="1382760"/>
            <a:ext cx="771516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2d84"/>
                </a:solidFill>
                <a:latin typeface="Arial"/>
              </a:rPr>
              <a:t>Helse Nord består av følgende foretak</a:t>
            </a:r>
            <a:endParaRPr b="0" lang="en-US" sz="40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71280" y="2492280"/>
            <a:ext cx="77864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c2d84"/>
                </a:solidFill>
                <a:latin typeface="Arial"/>
              </a:rPr>
              <a:t>Helgelandssykehuset (Sandnessjøen, Mosjøen/Vefsn, Mo i Rana)</a:t>
            </a: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c2d84"/>
                </a:solidFill>
                <a:latin typeface="Arial"/>
              </a:rPr>
              <a:t>Nordlandssykehuset (Bodø sentrum og Rønvik, Lofoten, Vesterålen)</a:t>
            </a: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c2d84"/>
                </a:solidFill>
                <a:latin typeface="Arial"/>
              </a:rPr>
              <a:t>Universitetssykehuset i Nord-Norge  (UNN Breivika og Åsgård, Harstad, Narvik, Longyearbyen)</a:t>
            </a: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c2d84"/>
                </a:solidFill>
                <a:latin typeface="Arial"/>
              </a:rPr>
              <a:t>Helse Finnmark (Kirkenes og Hammerfest).</a:t>
            </a: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c2d84"/>
                </a:solidFill>
                <a:latin typeface="Arial"/>
              </a:rPr>
              <a:t>Sykehusapoteket Nord (Tromsø, Bodø)</a:t>
            </a: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41040" y="1382760"/>
            <a:ext cx="771516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2d84"/>
                </a:solidFill>
                <a:latin typeface="Arial"/>
              </a:rPr>
              <a:t>Størrelse og verdier</a:t>
            </a:r>
            <a:endParaRPr b="0" lang="en-US" sz="44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00000" y="2852640"/>
            <a:ext cx="7786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2d84"/>
                </a:solidFill>
                <a:latin typeface="Arial"/>
              </a:rPr>
              <a:t>Institusjonsbygg</a:t>
            </a:r>
            <a:r>
              <a:rPr b="0" lang="en-US" sz="3200" spc="-1" strike="noStrike">
                <a:solidFill>
                  <a:srgbClr val="0c2d8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c2d8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c2d84"/>
                </a:solidFill>
                <a:latin typeface="Arial"/>
              </a:rPr>
              <a:t>410 000 kvm</a:t>
            </a: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2d84"/>
                </a:solidFill>
                <a:latin typeface="Arial"/>
              </a:rPr>
              <a:t>Øvrige bygg</a:t>
            </a:r>
            <a:r>
              <a:rPr b="0" lang="en-US" sz="3200" spc="-1" strike="noStrike">
                <a:solidFill>
                  <a:srgbClr val="0c2d8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c2d8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c2d8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c2d84"/>
                </a:solidFill>
                <a:latin typeface="Arial"/>
              </a:rPr>
              <a:t>150 000 kvm</a:t>
            </a: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2d84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c2d84"/>
                </a:solidFill>
                <a:latin typeface="Arial"/>
              </a:rPr>
              <a:t>(Boliger, garasjer, hytter mv)</a:t>
            </a: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2d84"/>
                </a:solidFill>
                <a:latin typeface="Arial"/>
              </a:rPr>
              <a:t>Verdisetting : ca 10 mrd NOK</a:t>
            </a: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41040" y="1382760"/>
            <a:ext cx="771516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2d84"/>
                </a:solidFill>
                <a:latin typeface="Arial"/>
              </a:rPr>
              <a:t>Vedlikeholdskostnader </a:t>
            </a:r>
            <a:endParaRPr b="0" lang="en-US" sz="44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00000" y="2852640"/>
            <a:ext cx="7786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2d84"/>
                </a:solidFill>
                <a:latin typeface="Arial"/>
              </a:rPr>
              <a:t>Vedlikeholdskostnad 2006 var 85 mill NOK</a:t>
            </a:r>
            <a:endParaRPr b="0" lang="en-US" sz="2800" spc="-1" strike="noStrike">
              <a:solidFill>
                <a:srgbClr val="0c2d84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2d84"/>
                </a:solidFill>
                <a:latin typeface="Arial"/>
              </a:rPr>
              <a:t>(art 6600,6601,6602,6609,6610 og 6619)</a:t>
            </a:r>
            <a:endParaRPr b="0" lang="en-US" sz="2800" spc="-1" strike="noStrike">
              <a:solidFill>
                <a:srgbClr val="0c2d8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2d84"/>
                </a:solidFill>
                <a:latin typeface="Arial"/>
              </a:rPr>
              <a:t>Tilsvarer ca. kr. 155,- per kvm og år.</a:t>
            </a:r>
            <a:endParaRPr b="0" lang="en-US" sz="2800" spc="-1" strike="noStrike">
              <a:solidFill>
                <a:srgbClr val="0c2d8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2d84"/>
                </a:solidFill>
                <a:latin typeface="Arial"/>
              </a:rPr>
              <a:t>Holte prosjekt ca. kr. 60,- per kvm. og år til vedlikehold (art 6600).</a:t>
            </a:r>
            <a:endParaRPr b="0" lang="en-US" sz="2800" spc="-1" strike="noStrike">
              <a:solidFill>
                <a:srgbClr val="0c2d8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2d84"/>
                </a:solidFill>
                <a:latin typeface="Arial"/>
              </a:rPr>
              <a:t>Dekker ikke opp etterslepet på vedlikehold.</a:t>
            </a:r>
            <a:endParaRPr b="0" lang="en-US" sz="2800" spc="-1" strike="noStrike">
              <a:solidFill>
                <a:srgbClr val="0c2d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41040" y="1382760"/>
            <a:ext cx="771516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2d84"/>
                </a:solidFill>
                <a:latin typeface="Arial"/>
              </a:rPr>
              <a:t>Avskrivning</a:t>
            </a:r>
            <a:endParaRPr b="0" lang="en-US" sz="44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00000" y="2636640"/>
            <a:ext cx="77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2d84"/>
                </a:solidFill>
                <a:latin typeface="Arial"/>
              </a:rPr>
              <a:t>Basisinntekt til dekning av avskrivning og renter er på ca. 400 mill NOK.</a:t>
            </a:r>
            <a:endParaRPr b="0" lang="en-US" sz="2800" spc="-1" strike="noStrike">
              <a:solidFill>
                <a:srgbClr val="0c2d84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2d84"/>
                </a:solidFill>
                <a:latin typeface="Arial"/>
              </a:rPr>
              <a:t>Regnskap viser ca. 600 mill. NOK til </a:t>
            </a:r>
            <a:endParaRPr b="0" lang="en-US" sz="2800" spc="-1" strike="noStrike">
              <a:solidFill>
                <a:srgbClr val="0c2d84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2d84"/>
                </a:solidFill>
                <a:latin typeface="Arial"/>
              </a:rPr>
              <a:t>avskrivning og renter</a:t>
            </a:r>
            <a:endParaRPr b="0" lang="en-US" sz="2800" spc="-1" strike="noStrike">
              <a:solidFill>
                <a:srgbClr val="0c2d84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2d84"/>
                </a:solidFill>
                <a:latin typeface="Arial"/>
              </a:rPr>
              <a:t>Det mangler følgelig 200 mill NOK. </a:t>
            </a:r>
            <a:endParaRPr b="0" lang="en-US" sz="2800" spc="-1" strike="noStrike">
              <a:solidFill>
                <a:srgbClr val="0c2d84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2d84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2d84"/>
                </a:solidFill>
                <a:latin typeface="Arial"/>
              </a:rPr>
              <a:t>Budsjett 2008 øker basisrammen med 189 mill. NOK til dekning av avskrivning og renter.</a:t>
            </a:r>
            <a:endParaRPr b="0" lang="en-US" sz="2800" spc="-1" strike="noStrike">
              <a:solidFill>
                <a:srgbClr val="0c2d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41040" y="1382760"/>
            <a:ext cx="771516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2d84"/>
                </a:solidFill>
                <a:latin typeface="Arial"/>
              </a:rPr>
              <a:t>Vedlikeholdsetterslep</a:t>
            </a:r>
            <a:endParaRPr b="0" lang="en-US" sz="44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00000" y="2852640"/>
            <a:ext cx="7786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c2d84"/>
                </a:solidFill>
                <a:latin typeface="Arial"/>
              </a:rPr>
              <a:t>Det totale vedlikeholdsetterslepet i Helse Nord er anslått av HFene til  2.5-3,5 mrd NOK</a:t>
            </a:r>
            <a:endParaRPr b="0" lang="en-US" sz="2800" spc="-1" strike="noStrike">
              <a:solidFill>
                <a:srgbClr val="0c2d84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c2d84"/>
                </a:solidFill>
                <a:latin typeface="Arial"/>
              </a:rPr>
              <a:t>NLSH</a:t>
            </a:r>
            <a:r>
              <a:rPr b="0" lang="nb-NO" sz="2800" spc="-1" strike="noStrike">
                <a:solidFill>
                  <a:srgbClr val="0c2d84"/>
                </a:solidFill>
                <a:latin typeface="Arial"/>
              </a:rPr>
              <a:t>	</a:t>
            </a:r>
            <a:r>
              <a:rPr b="0" lang="nb-NO" sz="2800" spc="-1" strike="noStrike">
                <a:solidFill>
                  <a:srgbClr val="0c2d84"/>
                </a:solidFill>
                <a:latin typeface="Arial"/>
              </a:rPr>
              <a:t>	</a:t>
            </a:r>
            <a:r>
              <a:rPr b="0" lang="nb-NO" sz="2800" spc="-1" strike="noStrike">
                <a:solidFill>
                  <a:srgbClr val="0c2d84"/>
                </a:solidFill>
                <a:latin typeface="Arial"/>
              </a:rPr>
              <a:t>	</a:t>
            </a:r>
            <a:r>
              <a:rPr b="0" lang="nb-NO" sz="2800" spc="-1" strike="noStrike">
                <a:solidFill>
                  <a:srgbClr val="0c2d84"/>
                </a:solidFill>
                <a:latin typeface="Arial"/>
              </a:rPr>
              <a:t>	</a:t>
            </a:r>
            <a:r>
              <a:rPr b="0" lang="nb-NO" sz="2800" spc="-1" strike="noStrike">
                <a:solidFill>
                  <a:srgbClr val="0c2d84"/>
                </a:solidFill>
                <a:latin typeface="Arial"/>
              </a:rPr>
              <a:t>2 mrd</a:t>
            </a:r>
            <a:endParaRPr b="0" lang="en-US" sz="2800" spc="-1" strike="noStrike">
              <a:solidFill>
                <a:srgbClr val="0c2d84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c2d84"/>
                </a:solidFill>
                <a:latin typeface="Arial"/>
              </a:rPr>
              <a:t>UNN</a:t>
            </a:r>
            <a:r>
              <a:rPr b="0" lang="nb-NO" sz="2800" spc="-1" strike="noStrike">
                <a:solidFill>
                  <a:srgbClr val="0c2d84"/>
                </a:solidFill>
                <a:latin typeface="Arial"/>
              </a:rPr>
              <a:t>	</a:t>
            </a:r>
            <a:r>
              <a:rPr b="0" lang="nb-NO" sz="2800" spc="-1" strike="noStrike">
                <a:solidFill>
                  <a:srgbClr val="0c2d84"/>
                </a:solidFill>
                <a:latin typeface="Arial"/>
              </a:rPr>
              <a:t>	</a:t>
            </a:r>
            <a:r>
              <a:rPr b="0" lang="nb-NO" sz="2800" spc="-1" strike="noStrike">
                <a:solidFill>
                  <a:srgbClr val="0c2d84"/>
                </a:solidFill>
                <a:latin typeface="Arial"/>
              </a:rPr>
              <a:t>	</a:t>
            </a:r>
            <a:r>
              <a:rPr b="0" lang="nb-NO" sz="2800" spc="-1" strike="noStrike">
                <a:solidFill>
                  <a:srgbClr val="0c2d84"/>
                </a:solidFill>
                <a:latin typeface="Arial"/>
              </a:rPr>
              <a:t>	</a:t>
            </a:r>
            <a:r>
              <a:rPr b="0" lang="nb-NO" sz="2800" spc="-1" strike="noStrike">
                <a:solidFill>
                  <a:srgbClr val="0c2d84"/>
                </a:solidFill>
                <a:latin typeface="Arial"/>
              </a:rPr>
              <a:t>1 mrd</a:t>
            </a:r>
            <a:endParaRPr b="0" lang="en-US" sz="2800" spc="-1" strike="noStrike">
              <a:solidFill>
                <a:srgbClr val="0c2d84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c2d84"/>
                </a:solidFill>
                <a:latin typeface="Arial"/>
              </a:rPr>
              <a:t>Finnmarkssykehusene</a:t>
            </a:r>
            <a:r>
              <a:rPr b="0" lang="nb-NO" sz="2800" spc="-1" strike="noStrike">
                <a:solidFill>
                  <a:srgbClr val="0c2d84"/>
                </a:solidFill>
                <a:latin typeface="Arial"/>
              </a:rPr>
              <a:t>	</a:t>
            </a:r>
            <a:r>
              <a:rPr b="0" lang="nb-NO" sz="2800" spc="-1" strike="noStrike">
                <a:solidFill>
                  <a:srgbClr val="0c2d84"/>
                </a:solidFill>
                <a:latin typeface="Arial"/>
              </a:rPr>
              <a:t>0.5 mrd </a:t>
            </a:r>
            <a:endParaRPr b="0" lang="en-US" sz="2800" spc="-1" strike="noStrike">
              <a:solidFill>
                <a:srgbClr val="0c2d84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c2d84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c2d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41040" y="1382760"/>
            <a:ext cx="771516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2d84"/>
                </a:solidFill>
                <a:latin typeface="Arial"/>
              </a:rPr>
              <a:t>Investeringer</a:t>
            </a:r>
            <a:endParaRPr b="0" lang="en-US" sz="44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00000" y="2205000"/>
            <a:ext cx="77868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d84"/>
                </a:solidFill>
                <a:latin typeface="Arial"/>
              </a:rPr>
              <a:t>Styret i Helse Nord RHF har bestemt at årlige investeringer skal være på ca. 800 mill NOK per år de nærmeste 10 år.</a:t>
            </a: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d84"/>
                </a:solidFill>
                <a:latin typeface="Arial"/>
              </a:rPr>
              <a:t>For 2008 er investeringen redusert til 600 mill NOK pga. anstrengt driftsøkonomi</a:t>
            </a: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d84"/>
                </a:solidFill>
                <a:latin typeface="Arial"/>
              </a:rPr>
              <a:t>Mulighet for å ta opp lån i 2008 på 50 mill. NOK til Nordlandssykehuset i Bodø. Tidligere år var lånefinansieringen til investeringsformål i Helse Nord 200-300 mill. NOK </a:t>
            </a: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d84"/>
                </a:solidFill>
                <a:latin typeface="Arial"/>
              </a:rPr>
              <a:t>550 mill NOK egenfinansiering i 2008</a:t>
            </a: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d84"/>
                </a:solidFill>
                <a:latin typeface="Arial"/>
              </a:rPr>
              <a:t>Redusert lånefinansiering medfører behov for raskere balanse i driftsøkonomien for å opprettholde investeringsnivået.</a:t>
            </a: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41040" y="1382760"/>
            <a:ext cx="771516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2d84"/>
                </a:solidFill>
                <a:latin typeface="Arial"/>
              </a:rPr>
              <a:t>Statlig eierskap av realkapitalen, er det bra ??</a:t>
            </a:r>
            <a:endParaRPr b="0" lang="en-US" sz="40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26560" y="2852640"/>
            <a:ext cx="78598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c2d84"/>
                </a:solidFill>
                <a:latin typeface="Arial"/>
              </a:rPr>
              <a:t>Vi hører om manglende vedlikehold av veier, helsebygg, skoler, universiteter, kirker andre  kulturbygg.  Dette er svært viktige områder hvor staten og kommuner står som eier av realkapitalen</a:t>
            </a: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c2d84"/>
                </a:solidFill>
                <a:latin typeface="Arial"/>
              </a:rPr>
              <a:t>Staten styrker sitt finansielle eierskap gjennom oljefondet og reduserer sitt direkte funksjonelle eierskap ved nye selskapsformer (Mesta, Jernbaneverket, Avinor, Posten/Ergo, Forsvarsbygg, Statsbygg, Telenor, Statoil, Hydro, osv.)</a:t>
            </a: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c2d84"/>
                </a:solidFill>
                <a:latin typeface="Arial"/>
              </a:rPr>
              <a:t>Hva er den beste form for eierskap til realkapitalen i Helsebygg i Norge?</a:t>
            </a: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2d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41040" y="1382760"/>
            <a:ext cx="771516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2d84"/>
                </a:solidFill>
                <a:latin typeface="Arial"/>
              </a:rPr>
              <a:t>Vedlikeholder de private selskaper</a:t>
            </a:r>
            <a:br>
              <a:rPr sz="4000"/>
            </a:br>
            <a:r>
              <a:rPr b="0" lang="en-US" sz="4000" spc="-1" strike="noStrike">
                <a:solidFill>
                  <a:srgbClr val="0c2d84"/>
                </a:solidFill>
                <a:latin typeface="Arial"/>
              </a:rPr>
              <a:t>kapitalen bedre enn Staten ??</a:t>
            </a:r>
            <a:endParaRPr b="0" lang="en-US" sz="4000" spc="-1" strike="noStrike">
              <a:solidFill>
                <a:srgbClr val="0c2d84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00000" y="3213000"/>
            <a:ext cx="7786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c2d84"/>
                </a:solidFill>
                <a:latin typeface="Arial"/>
              </a:rPr>
              <a:t>Hvordan står det til med vedlikeholdet i Avinor, Forsvarsbygg, Telenor, jernbaneverket.</a:t>
            </a: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c2d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c2d84"/>
                </a:solidFill>
                <a:latin typeface="Arial"/>
              </a:rPr>
              <a:t>Kan vi tro at om vi skiller ut helsebygg som egne resultatenheter vil vi kunne ta vare på realkapitalen bedre enn i dag</a:t>
            </a:r>
            <a:endParaRPr b="0" lang="en-US" sz="3200" spc="-1" strike="noStrike">
              <a:solidFill>
                <a:srgbClr val="0c2d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okmarknes Sykehus</cp:lastModifiedBy>
  <dcterms:modified xsi:type="dcterms:W3CDTF">2007-10-10T18:40:46Z</dcterms:modified>
  <cp:revision>14</cp:revision>
  <dc:subject/>
  <dc:title>FSTLs Høstmøte. ”Trondheimskonferansen”  2007.</dc:title>
</cp:coreProperties>
</file>