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EB2-5E90-44B3-9FC5-E83B98A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924-A32E-47C7-9C1D-6E422D8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98E-361B-4217-9282-61FAB18F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EC9-D7A6-4C4C-853A-D5C11FB7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991-E2DA-480C-9AF9-6F926C5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607-B6E3-4F26-A2BB-5D96D9E1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86C-6A69-4FA2-9233-AF03A4A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0A3-D90F-4A5E-B9C5-93292C82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A1-B425-44F4-BF0F-279C066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4E3-1970-49C9-B7A2-1C55081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C91-B9A5-4516-B707-A69E4BE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82E-A875-418E-A081-CDEA34F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E52-549A-4EF6-9B95-3B5621B66041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TY%20E02%20Retningslinjer%20for%20ferdigstillelse%20og%20overtagelse.doc" TargetMode="External"/><Relationship Id="rId2" Type="http://schemas.openxmlformats.org/officeDocument/2006/relationships/hyperlink" Target="file:///STY%20E02%20Retningslinjer%20for%20ferdigstillelse%20og%20overtagelse.doc" TargetMode="External"/><Relationship Id="rId3" Type="http://schemas.openxmlformats.org/officeDocument/2006/relationships/hyperlink" Target="file:///VEI%20E10%20Kravanalyse.doc" TargetMode="External"/><Relationship Id="rId4" Type="http://schemas.openxmlformats.org/officeDocument/2006/relationships/hyperlink" Target="file:///VEI%20E10%20Kravanalyse.doc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2000" y="549000"/>
            <a:ext cx="8637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vordan sikre at leveransene har den avtalte kvalit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428640"/>
            <a:ext cx="86342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TL-19.10-2007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nd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sebygg Midt No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ut Ragnar Heim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byggingsdirektø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nled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va da ? (Definisjon kvalit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led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Meg se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Nye St.Olav og Helseby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va d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valite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rans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tal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sess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ravanalyse / systematik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ntroll / Verifis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tagelse - Overlev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00360" y="5950080"/>
            <a:ext cx="93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410080"/>
            <a:ext cx="10670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39640" y="188640"/>
            <a:ext cx="0" cy="63356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5734080"/>
            <a:ext cx="187200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prosje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573408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nksjonsprosje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18148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l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73392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2-kontrakt ”GS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314172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beidsunder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256536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ksj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836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 &amp; verifikasj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26028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vertakelse &amp; -le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019920" y="55627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019920" y="41907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5943600"/>
            <a:ext cx="1431720" cy="6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451640" y="1844640"/>
            <a:ext cx="0" cy="41054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12000" y="162828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1628640"/>
            <a:ext cx="1224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343400"/>
            <a:ext cx="8282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8282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880" y="2514600"/>
            <a:ext cx="173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REALISERINGSF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UTBYG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0240" y="4800600"/>
            <a:ext cx="112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INITIALF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160" y="380880"/>
            <a:ext cx="177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AVSLUTTNINGSF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413000"/>
            <a:ext cx="43164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12000" y="227664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12000" y="3573360"/>
            <a:ext cx="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12000" y="2997000"/>
            <a:ext cx="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451640" y="1268280"/>
            <a:ext cx="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1844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riftsett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451640" y="691920"/>
            <a:ext cx="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5400" y="59436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2000" y="2602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OPPNÅ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508720" y="5943600"/>
            <a:ext cx="511200" cy="6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18148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handling ”GS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56383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457200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1-kontr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50292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9625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396216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97480" y="438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48720" y="4648320"/>
          <a:ext cx="1012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64832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7010280" y="5410080"/>
            <a:ext cx="441360" cy="6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kum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88000" y="2708280"/>
            <a:ext cx="40384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Y E02 Retningslinjer for ferdigstillelse og </a:t>
            </a:r>
            <a:r>
              <a:rPr b="0" lang="nb-NO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vertagelse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0920" y="2637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EI E10 </a:t>
            </a:r>
            <a:r>
              <a:rPr b="0" lang="nb-NO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ravanalyse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vali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resultatet av systematisk arbe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ynner og avsluttes med enigh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 bekreftes med avtalt verifis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08:57Z</dcterms:created>
  <dc:creator>Knut Ragnar Heimdal</dc:creator>
  <dc:description/>
  <dc:language>en-US</dc:language>
  <cp:lastModifiedBy>Knut Ragnar Heimdal</cp:lastModifiedBy>
  <dcterms:modified xsi:type="dcterms:W3CDTF">2007-10-19T10:11:49Z</dcterms:modified>
  <cp:revision>5</cp:revision>
  <dc:subject/>
  <dc:title>Hvordan sikre at leveransene har den avtalte kvalitet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81519472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