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EF5-C7D7-458A-AF48-A128EAC8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D53-D45E-4C79-A995-53F7319A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FF8-E662-45E9-A22C-4EDA1259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1FD-ABD2-49D4-98A9-DB760560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688-4580-434D-A5F0-D8ECF174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66B-5511-4602-8FE9-C797B77F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812-E1BF-4DA4-B860-0DD0ABB2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FC2-B847-4D3C-BD0E-1E5C601E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7EA-670E-48B9-A7A2-678284DC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469-A46A-4D17-A709-7541A21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E86-D683-4A5E-8531-10405910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FF7-D764-478C-954F-159017F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C992-BFC5-4A39-9DE6-CF3C4A586226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STL – 2005 Trondhe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2000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sjektutbygnings modell for byggetrinn 2, Nye St.Olavs Hospi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åre korreksjoner i byggefase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260880" y="1684440"/>
          <a:ext cx="2620800" cy="34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0880" y="1684440"/>
                    <a:ext cx="262080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924680" y="152280"/>
          <a:ext cx="10130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152280"/>
                    <a:ext cx="101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520560" y="498600"/>
            <a:ext cx="35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MMET BYGGER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286000" y="990720"/>
          <a:ext cx="3879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3879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924680" y="152280"/>
          <a:ext cx="10130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152280"/>
                    <a:ext cx="101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20560" y="498600"/>
            <a:ext cx="35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MMET BYGGER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238880" y="2133720"/>
            <a:ext cx="152640" cy="41907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2133720"/>
            <a:ext cx="152280" cy="41907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133720"/>
            <a:ext cx="152280" cy="41907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133720"/>
            <a:ext cx="152280" cy="41907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2133720"/>
            <a:ext cx="152280" cy="41907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2133720"/>
            <a:ext cx="152640" cy="41907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2895480"/>
            <a:ext cx="5029200" cy="152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733920"/>
            <a:ext cx="5029200" cy="152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4572000"/>
            <a:ext cx="5029200" cy="152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334120"/>
            <a:ext cx="5029200" cy="152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6019920"/>
            <a:ext cx="5029200" cy="152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419720"/>
            <a:ext cx="304560" cy="380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5257800"/>
            <a:ext cx="304560" cy="380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5181480"/>
            <a:ext cx="304920" cy="381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4495680"/>
            <a:ext cx="304920" cy="381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495680"/>
            <a:ext cx="304920" cy="381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2819520"/>
            <a:ext cx="304920" cy="380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3581280"/>
            <a:ext cx="304920" cy="381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3581280"/>
            <a:ext cx="304920" cy="381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2819520"/>
            <a:ext cx="304560" cy="380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5867280"/>
            <a:ext cx="304920" cy="381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54440" y="1066680"/>
            <a:ext cx="24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JE ANSV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9400" y="4419720"/>
            <a:ext cx="16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S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371600" y="1447920"/>
            <a:ext cx="2971800" cy="2666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924680" y="152280"/>
          <a:ext cx="1013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52280"/>
                    <a:ext cx="101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20560" y="498600"/>
            <a:ext cx="35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MMET BYGGER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47920" y="1981080"/>
            <a:ext cx="646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lpass og bruk riktig verktøyet til oppgaven, og gjør det skikkeli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lsebygg Midt-No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553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nled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sjekt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pg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y 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vr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756400"/>
            <a:ext cx="82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bygningsdirektør Teknikk  Knut Ragnar Heim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3886200"/>
            <a:ext cx="144792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STRUK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3886200"/>
            <a:ext cx="160020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3886200"/>
            <a:ext cx="160020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NI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838080"/>
            <a:ext cx="1295280" cy="60984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HB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Adm. direktø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Vatn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259092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-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1523880"/>
            <a:ext cx="1295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Administrasj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HMS/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Informasj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590920"/>
            <a:ext cx="1295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ntrakt-innkjø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14479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17524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819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657600"/>
            <a:ext cx="670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1523880"/>
            <a:ext cx="1295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sjektsty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Økono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mdr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86200"/>
            <a:ext cx="144792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L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3886200"/>
            <a:ext cx="144756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ST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352680" y="3886200"/>
            <a:ext cx="129564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Rør &amp; L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Prosjekt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Brødresk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886200"/>
            <a:ext cx="129564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SD &amp; logisti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Prosjekt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Nils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86200"/>
            <a:ext cx="129564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sjekt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dha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3886200"/>
            <a:ext cx="129564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Elek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Prosjekt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Hes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886200"/>
            <a:ext cx="129564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Prosjekt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Nils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886200"/>
            <a:ext cx="1295640" cy="60948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riftsett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sjekt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v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838080"/>
            <a:ext cx="1295280" cy="60984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kni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bygningsdirektø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im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1523880"/>
            <a:ext cx="12956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Kontraktsmeda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Bjørlyk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209680"/>
            <a:ext cx="129564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Prosjektsekretæ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Ul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G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523880"/>
            <a:ext cx="12952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legger fremdr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g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20968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Planleg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økonomi/end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Braa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181480"/>
            <a:ext cx="1295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gge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be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4479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1828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25146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3657600"/>
            <a:ext cx="693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724280"/>
            <a:ext cx="1295640" cy="45720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Prosjekterings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Egs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5181480"/>
            <a:ext cx="1295640" cy="91440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Bygge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Gjersv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724280"/>
            <a:ext cx="1295640" cy="45720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Prosjekterings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Askim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5181480"/>
            <a:ext cx="1295640" cy="91440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Bygge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Fugla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Ho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4724280"/>
            <a:ext cx="1295640" cy="45720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gansvarl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k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4724280"/>
            <a:ext cx="1295640" cy="45720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ggele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4724280"/>
            <a:ext cx="1295640" cy="45720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gansvarlig FD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5181480"/>
            <a:ext cx="1295640" cy="457200"/>
          </a:xfrm>
          <a:prstGeom prst="rect">
            <a:avLst/>
          </a:prstGeom>
          <a:solidFill>
            <a:srgbClr val="e8fe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gansvarlig 3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4956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4495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4495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495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4495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4495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840" y="487692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er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924680" y="152280"/>
          <a:ext cx="1013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52280"/>
                    <a:ext cx="101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838080" y="3962520"/>
            <a:ext cx="1143000" cy="12189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l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3962520"/>
            <a:ext cx="1371600" cy="12189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25" y="0"/>
                </a:lnTo>
                <a:lnTo>
                  <a:pt x="21600" y="10800"/>
                </a:lnTo>
                <a:lnTo>
                  <a:pt x="15025" y="21600"/>
                </a:lnTo>
                <a:lnTo>
                  <a:pt x="0" y="21600"/>
                </a:lnTo>
                <a:lnTo>
                  <a:pt x="6575" y="10800"/>
                </a:lnTo>
                <a:close/>
              </a:path>
            </a:pathLst>
          </a:cu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962520"/>
            <a:ext cx="1523880" cy="12189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28" y="0"/>
                </a:lnTo>
                <a:lnTo>
                  <a:pt x="21600" y="10800"/>
                </a:lnTo>
                <a:lnTo>
                  <a:pt x="15728" y="21600"/>
                </a:lnTo>
                <a:lnTo>
                  <a:pt x="0" y="21600"/>
                </a:lnTo>
                <a:lnTo>
                  <a:pt x="5872" y="10800"/>
                </a:lnTo>
                <a:close/>
              </a:path>
            </a:pathLst>
          </a:cu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962520"/>
            <a:ext cx="1981080" cy="121896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87" y="0"/>
                </a:lnTo>
                <a:lnTo>
                  <a:pt x="21600" y="10800"/>
                </a:lnTo>
                <a:lnTo>
                  <a:pt x="17187" y="21600"/>
                </a:lnTo>
                <a:lnTo>
                  <a:pt x="0" y="21600"/>
                </a:lnTo>
                <a:lnTo>
                  <a:pt x="4413" y="10800"/>
                </a:lnTo>
                <a:close/>
              </a:path>
            </a:pathLst>
          </a:cu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byg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3962520"/>
            <a:ext cx="1676160" cy="1218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3962520"/>
            <a:ext cx="1676520" cy="1218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2f2f46"/>
              </a:gs>
              <a:gs pos="100000">
                <a:srgbClr val="66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70866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412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344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360" y="5334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l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4343400"/>
            <a:ext cx="304920" cy="4572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343400"/>
            <a:ext cx="304920" cy="4572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413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SPILL HB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066680"/>
            <a:ext cx="5867640" cy="57913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209680"/>
            <a:ext cx="4572000" cy="46483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KSJ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3962520"/>
            <a:ext cx="3048120" cy="2895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924680" y="152280"/>
          <a:ext cx="1013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52280"/>
                    <a:ext cx="101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33520" y="2133720"/>
          <a:ext cx="8381880" cy="41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133720"/>
                    <a:ext cx="8381880" cy="41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257800" y="1828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SPILL HB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700360" y="5950080"/>
            <a:ext cx="934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410080"/>
            <a:ext cx="10670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39640" y="188640"/>
            <a:ext cx="0" cy="63356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5734080"/>
            <a:ext cx="1872000" cy="43164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prosje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573408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nksjonsprosje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518148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lb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73392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2-kontrakt ”GS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314172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beidsunder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256536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ksj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836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st-verifikasjon ”GS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260280"/>
            <a:ext cx="1871640" cy="43344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verle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19920" y="55627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19920" y="419076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5943600"/>
            <a:ext cx="1431720" cy="6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451640" y="1844640"/>
            <a:ext cx="0" cy="41054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012000" y="1628280"/>
            <a:ext cx="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1628640"/>
            <a:ext cx="1224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343400"/>
            <a:ext cx="8282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421000"/>
            <a:ext cx="82821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880" y="2514600"/>
            <a:ext cx="173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Arial"/>
              </a:rPr>
              <a:t>REALISERINGS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Arial"/>
              </a:rPr>
              <a:t>UTBYG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0240" y="4800600"/>
            <a:ext cx="112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Arial"/>
              </a:rPr>
              <a:t>INITIAL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1160" y="380880"/>
            <a:ext cx="177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Arial"/>
              </a:rPr>
              <a:t>AVSLUTTNINGS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6000" y="1413000"/>
            <a:ext cx="431640" cy="43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012000" y="2276640"/>
            <a:ext cx="0" cy="288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2000" y="3573360"/>
            <a:ext cx="0" cy="14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12000" y="2997000"/>
            <a:ext cx="0" cy="1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451640" y="1268280"/>
            <a:ext cx="0" cy="14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184464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riftsett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451640" y="691920"/>
            <a:ext cx="0" cy="1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5400" y="59436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2000" y="26028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OPPNÅ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08720" y="5943600"/>
            <a:ext cx="511200" cy="6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5181480"/>
            <a:ext cx="1871640" cy="43200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handling ”GS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124080" y="563832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457200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1-kontra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572000" y="50292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962520"/>
            <a:ext cx="533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572000" y="396216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97480" y="438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848720" y="4648320"/>
          <a:ext cx="10126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648320"/>
                    <a:ext cx="1012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010280" y="5410080"/>
            <a:ext cx="441360" cy="6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SPILL HB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2819520"/>
            <a:ext cx="914400" cy="3124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124080"/>
            <a:ext cx="297180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334120"/>
            <a:ext cx="2971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bruttofortjen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505320"/>
            <a:ext cx="304812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rt på omfo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sifikasjon 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p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819520"/>
            <a:ext cx="91440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24080"/>
            <a:ext cx="297180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30960" y="6019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5040" y="6019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560" y="6019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l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236232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236232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236232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14130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SPILL HB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kniske disipl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001000" y="152280"/>
          <a:ext cx="10126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152280"/>
                    <a:ext cx="1012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021000" y="30481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byg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267080" y="3124080"/>
            <a:ext cx="38862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 Akutt Hjerte Lu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4191120"/>
            <a:ext cx="30477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3 G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5181480"/>
            <a:ext cx="22860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 Beveg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124080"/>
            <a:ext cx="106668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ip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124080"/>
            <a:ext cx="228600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4191120"/>
            <a:ext cx="838080" cy="1904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5181480"/>
            <a:ext cx="76212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5410080"/>
            <a:ext cx="304920" cy="4572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4343400"/>
            <a:ext cx="304560" cy="4572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3352680"/>
            <a:ext cx="304920" cy="4572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343400"/>
            <a:ext cx="304560" cy="45720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1413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MSPILL HB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924680" y="152280"/>
          <a:ext cx="1013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52280"/>
                    <a:ext cx="1013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602360" y="61722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6440" y="61722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6400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6400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9:11:32Z</dcterms:created>
  <dc:creator>Knut Ragnar Heimdal</dc:creator>
  <dc:description/>
  <dc:language>en-US</dc:language>
  <cp:lastModifiedBy>Bjørn Inge Brekke</cp:lastModifiedBy>
  <dcterms:modified xsi:type="dcterms:W3CDTF">2005-10-24T11:06:26Z</dcterms:modified>
  <cp:revision>15</cp:revision>
  <dc:subject/>
  <dc:title>PowerPoint-presentasjon</dc:title>
</cp:coreProperties>
</file>