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821880" y="861480"/>
            <a:ext cx="5025960" cy="348012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22240" y="861840"/>
            <a:ext cx="5025960" cy="3480120"/>
          </a:xfrm>
          <a:prstGeom prst="rect">
            <a:avLst/>
          </a:prstGeom>
          <a:ln w="0">
            <a:noFill/>
          </a:ln>
        </p:spPr>
      </p:sp>
      <p:sp>
        <p:nvSpPr>
          <p:cNvPr id="271"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L. Er en Meldingspliktig sykdom (gruppe A): </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meldingen skal sendes samme dag som sykdommen oppdages/mistenkes til MSIS og smittevernlegen </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bør inneholde en vurdering av hvilke eksponeringer pasienten kan ha hatt de ti siste dagene før symp.</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Mistenkt el. påvist tilfelle av legionellose skal i tillegg samme dag varsles pr. telefon til smittevernlegen</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Som går gjennom saken og innhenter nødvendig tilleggsopplysninger.Følger opp ethvert tilfelle hvor smitte mest sannsynlig har skjedd i kommunen</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Beslutter i fellesskap med legionellagruppen hvilke tiltak som skal iverksettes.</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22240" y="861840"/>
            <a:ext cx="5025960" cy="3480120"/>
          </a:xfrm>
          <a:prstGeom prst="rect">
            <a:avLst/>
          </a:prstGeom>
          <a:ln w="0">
            <a:noFill/>
          </a:ln>
        </p:spPr>
      </p:sp>
      <p:sp>
        <p:nvSpPr>
          <p:cNvPr id="273"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Aerosoler fra vannsystemer spiller en viktig rolle i spredning av legionellabakterien</a:t>
            </a:r>
            <a:endParaRPr b="0" lang="en-US" sz="16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ea typeface="Arial"/>
              </a:rPr>
              <a:t>Undersøkelsen må kartlegge slike kilder pasienten har vært eksponert for i inkubasjonstiden (2-10 dager) ved</a:t>
            </a:r>
            <a:r>
              <a:rPr b="0" lang="nb-NO" sz="1600" spc="-1" strike="noStrike">
                <a:solidFill>
                  <a:srgbClr val="000000"/>
                </a:solidFill>
                <a:latin typeface="Times New Roman"/>
              </a:rPr>
              <a:t> å intervjue syke og pårørende. </a:t>
            </a:r>
            <a:r>
              <a:rPr b="0" lang="nb-NO" sz="1600" spc="-1" strike="noStrike">
                <a:solidFill>
                  <a:srgbClr val="000000"/>
                </a:solidFill>
                <a:latin typeface="Times New Roman"/>
                <a:ea typeface="Times New Roman"/>
              </a:rPr>
              <a:t>I hvert enkelt tilfelle vurdert hvilke konkrete vanninstallasjoner som er aktuelle å kartlegge, for eksempel i boliger tar vann- og svaberprøver fra dusjhoder, vannkraner og beredere.Sjekker temperatur på tappepunkt og bereder.I tillegg blir det foretatt en VVS-faglig vurdering av anleggets konstruksjon og beskaffenhet</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22240" y="861840"/>
            <a:ext cx="5025960" cy="3480120"/>
          </a:xfrm>
          <a:prstGeom prst="rect">
            <a:avLst/>
          </a:prstGeom>
          <a:ln w="0">
            <a:noFill/>
          </a:ln>
        </p:spPr>
      </p:sp>
      <p:sp>
        <p:nvSpPr>
          <p:cNvPr id="275"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Artikkel i Tidsskriftet for den norske lægeforening i juli i år om Legionella i Trondheim, og vår jobb med  smitteoppsporing og kartlegging av risikomiljøer.</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Incidens=forekomst/ antall tilfeller i en gitt tidsperiode</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22240" y="861840"/>
            <a:ext cx="5025960" cy="3480120"/>
          </a:xfrm>
          <a:prstGeom prst="rect">
            <a:avLst/>
          </a:prstGeom>
          <a:ln w="0">
            <a:noFill/>
          </a:ln>
        </p:spPr>
      </p:sp>
      <p:sp>
        <p:nvSpPr>
          <p:cNvPr id="277"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ea typeface="Times New Roman"/>
              </a:rPr>
              <a:t>Opplysninger om forekomst og lokalisasjon av aktuelle anlegg ble fremskaffet gjennom kulde- og varmepumpeentreprenører samt rådgivende ingeniører i VVS og klimateknikk i kommunen</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ea typeface="Times New Roman"/>
              </a:rPr>
              <a:t>2003: Ny forskrift om miljørettet helsevern – meldingsplikt for eiere av nye kjøletårn og ved vesentlige utvidelser/endringer av eksisterende anlegg</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22240" y="861840"/>
            <a:ext cx="5025960" cy="3480120"/>
          </a:xfrm>
          <a:prstGeom prst="rect">
            <a:avLst/>
          </a:prstGeom>
          <a:ln w="0">
            <a:noFill/>
          </a:ln>
        </p:spPr>
      </p:sp>
      <p:sp>
        <p:nvSpPr>
          <p:cNvPr id="261"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Etter Stavanger:VI MÅTTE GJØRE NOE</a:t>
            </a:r>
            <a:br>
              <a:rPr sz="1800"/>
            </a:br>
            <a:r>
              <a:rPr b="0" lang="nb-NO" sz="1800" spc="-1" strike="noStrike">
                <a:solidFill>
                  <a:srgbClr val="000000"/>
                </a:solidFill>
                <a:latin typeface="Times New Roman"/>
              </a:rPr>
              <a:t>Si litt om situasjonen i Trondheim</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Forekomsten av legionella i TK siste 4 år</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Miljøkartlegging-hvordan vi har gjort det med kartlegging av risikoinstallasjoner</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22240" y="861840"/>
            <a:ext cx="5025960" cy="3480120"/>
          </a:xfrm>
          <a:prstGeom prst="rect">
            <a:avLst/>
          </a:prstGeom>
          <a:ln w="0">
            <a:noFill/>
          </a:ln>
        </p:spPr>
      </p:sp>
      <p:sp>
        <p:nvSpPr>
          <p:cNvPr id="279"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Dete gjelder bl.a kjøletårn.</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Dersom meldingen avdekker forhold som gjør at forskriftens krav om helsemessig orsvarlig drift ikke etterleves, kan TK kreve retting eller KHT-loven §4a-8 </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22240" y="861840"/>
            <a:ext cx="5025960" cy="3480120"/>
          </a:xfrm>
          <a:prstGeom prst="rect">
            <a:avLst/>
          </a:prstGeom>
          <a:ln w="0">
            <a:noFill/>
          </a:ln>
        </p:spPr>
      </p:sp>
      <p:sp>
        <p:nvSpPr>
          <p:cNvPr id="281"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Melding skal inneholde en kortfattet oversikt over os. Og neg. Miljøforhold ved virksomheten som direkte el.indirekte kan ha innvirkning på helsen, og skal omfatte:</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22240" y="861840"/>
            <a:ext cx="5025960" cy="3480120"/>
          </a:xfrm>
          <a:prstGeom prst="rect">
            <a:avLst/>
          </a:prstGeom>
          <a:ln w="0">
            <a:noFill/>
          </a:ln>
        </p:spPr>
      </p:sp>
      <p:sp>
        <p:nvSpPr>
          <p:cNvPr id="263"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L. Livnærer seg av andre mikroorganismer</a:t>
            </a:r>
            <a:endParaRPr b="0" lang="en-US" sz="2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22240" y="861840"/>
            <a:ext cx="5025960" cy="3480120"/>
          </a:xfrm>
          <a:prstGeom prst="rect">
            <a:avLst/>
          </a:prstGeom>
          <a:ln w="0">
            <a:noFill/>
          </a:ln>
        </p:spPr>
      </p:sp>
      <p:sp>
        <p:nvSpPr>
          <p:cNvPr id="283"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ea typeface="Times New Roman"/>
              </a:rPr>
              <a:t>”</a:t>
            </a:r>
            <a:r>
              <a:rPr b="0" lang="nb-NO" sz="1600" spc="-1" strike="noStrike">
                <a:solidFill>
                  <a:srgbClr val="000000"/>
                </a:solidFill>
                <a:latin typeface="Times New Roman"/>
                <a:ea typeface="Times New Roman"/>
              </a:rPr>
              <a:t>Midlertidig forskrift om tiltak for å hindre overføring av smittestoffer fra kjøleanlegg med kjøletårn eller lignende innretning” </a:t>
            </a:r>
            <a:r>
              <a:rPr b="0" lang="nb-NO" sz="1600" spc="-1" strike="noStrike">
                <a:solidFill>
                  <a:srgbClr val="000000"/>
                </a:solidFill>
                <a:latin typeface="Times New Roman"/>
                <a:ea typeface="Times New Roman"/>
              </a:rPr>
              <a:t>fastsatt av SH-dir. 27.05.05</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ea typeface="Times New Roman"/>
              </a:rPr>
              <a:t>Forskriften fastsetter plikt til strakstiltak og andre nødvendige tiltak for de som er ansvarlige for kjøleanlegg med kjøletårn</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ea typeface="Times New Roman"/>
              </a:rPr>
              <a:t>Virksomhetsansvarlig for drift av kjøletårn skal umiddelbart kontrollere at driften av anlegget er tilfredsstillende og i tråd med gjeldende regelverk</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22240" y="861840"/>
            <a:ext cx="5025960" cy="3480120"/>
          </a:xfrm>
          <a:prstGeom prst="rect">
            <a:avLst/>
          </a:prstGeom>
          <a:ln w="0">
            <a:noFill/>
          </a:ln>
        </p:spPr>
      </p:sp>
      <p:sp>
        <p:nvSpPr>
          <p:cNvPr id="285"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virksomheter som har kjøletårn el.l.innretninger har plikt til sørger for at kjøletårn drives, vedlikeholdes på en slik måte at de ikke medfører fare for helseskade, og slik at smits. Sykd. Forebygges.- helsemessig forsvarlig drift.</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Plikt til å føre internkontroll for å påse at kravene etterleves</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Plikt til å melde fra til TK ved oppstart el.vesentlige endringer/utvidelse med vurdering av risiko, opplegg for rengjøring, vedlikehold m.v.( ny fra 010703, med frist for å melde inn 010105.)</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Plikt etter plan-og bygningsloven og byggeforskriften: plikt til å sørge for vedlikehold og renhold av byggverk og tekniske installasjoner</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22240" y="861840"/>
            <a:ext cx="5025960" cy="3480120"/>
          </a:xfrm>
          <a:prstGeom prst="rect">
            <a:avLst/>
          </a:prstGeom>
          <a:ln w="0">
            <a:noFill/>
          </a:ln>
        </p:spPr>
      </p:sp>
      <p:sp>
        <p:nvSpPr>
          <p:cNvPr id="287"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ea typeface="Times New Roman"/>
              </a:rPr>
              <a:t>Sosial- og helsedirektoratet fastsatte 12.07.05 Ny midlertidig forskrift om tiltak for å hindre overføring av Legionella via aerosol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ea typeface="Times New Roman"/>
              </a:rPr>
              <a:t>Forskriften fastsetter plikt til strakstiltak og andre nødvendige tiltak for de som er ansvarlig for virksomheter og eiendommer som har innretninger som direkte eller indirekte kan spre legionallainfisert aerosol til omgivelsene, utendørs eller innendørs </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22240" y="861840"/>
            <a:ext cx="5025960" cy="3480120"/>
          </a:xfrm>
          <a:prstGeom prst="rect">
            <a:avLst/>
          </a:prstGeom>
          <a:ln w="0">
            <a:noFill/>
          </a:ln>
        </p:spPr>
      </p:sp>
      <p:sp>
        <p:nvSpPr>
          <p:cNvPr id="289"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Industrianlegg som indirekte kan spre legionella, eksempelvis ved at resepientvann blir tilført legionellaholdig avløpsvann, skal sende forenklet melding som omfatter opplysninger om virksomhetens art, beliggenhet og beskrivelse av utslippsforholdenes karakter</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Virksomhetsansvarlige for kjøletårn som har gjort de nødvendige strakstiltak i henhold til den midlertidige forskriften av 27.05.2005, skal </a:t>
            </a:r>
            <a:r>
              <a:rPr b="1" lang="nb-NO" sz="1600" spc="-1" strike="noStrike">
                <a:solidFill>
                  <a:srgbClr val="000000"/>
                </a:solidFill>
                <a:latin typeface="Times New Roman"/>
              </a:rPr>
              <a:t>ikke</a:t>
            </a:r>
            <a:r>
              <a:rPr b="0" lang="nb-NO" sz="1600" spc="-1" strike="noStrike">
                <a:solidFill>
                  <a:srgbClr val="000000"/>
                </a:solidFill>
                <a:latin typeface="Times New Roman"/>
              </a:rPr>
              <a:t> sende ny melding</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22240" y="861840"/>
            <a:ext cx="5025960" cy="3480120"/>
          </a:xfrm>
          <a:prstGeom prst="rect">
            <a:avLst/>
          </a:prstGeom>
          <a:ln w="0">
            <a:noFill/>
          </a:ln>
        </p:spPr>
      </p:sp>
      <p:sp>
        <p:nvSpPr>
          <p:cNvPr id="291"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Ansvaret,§3: Virksomhetsansvarlig ( EIER EL.DEN SOM HAR ANSVAR FOR DRIFTEN AV INNRETNINGEN- AVH.OM DET ER GJORT EN SLIK AVTALE) for innretninger som nevnt i §1-&gt;ANSVAR OR Å IVERKSETTE NØDVENDIGEN TILTAK FOR Å OPPFYLLE KRAVENE I FORSKRIFTEN </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22240" y="861840"/>
            <a:ext cx="5025960" cy="3480120"/>
          </a:xfrm>
          <a:prstGeom prst="rect">
            <a:avLst/>
          </a:prstGeom>
          <a:ln w="0">
            <a:noFill/>
          </a:ln>
        </p:spPr>
      </p:sp>
      <p:sp>
        <p:nvSpPr>
          <p:cNvPr id="293"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Shdir opprettholder kravet om meldeplikt dersom den virksomhetsansvarlige oppdager el. Blir kjent med forhold som innebærer risiko for oevrføring av legionela. Kravet om forsvarlig drift og vedlikehold opprettholdes selvsagt også.</a:t>
            </a:r>
            <a:endParaRPr b="0" lang="en-US" sz="16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Dir.mener at krav om meldeplikt for dusjanlegg og meldeplikt ved oppstart av nye anlegg, ville bli urimelig ressurskrevende i forh.til gevinsten. Det samme gjelder kravet om stansing av dusjanlegg som ikke hadde alle formelle krav til driften i orden.</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22240" y="861840"/>
            <a:ext cx="5025960" cy="3480120"/>
          </a:xfrm>
          <a:prstGeom prst="rect">
            <a:avLst/>
          </a:prstGeom>
          <a:ln w="0">
            <a:noFill/>
          </a:ln>
        </p:spPr>
      </p:sp>
      <p:sp>
        <p:nvSpPr>
          <p:cNvPr id="295"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600" spc="-1" strike="noStrike">
                <a:solidFill>
                  <a:srgbClr val="000000"/>
                </a:solidFill>
                <a:latin typeface="Times New Roman"/>
              </a:rPr>
              <a:t>Retningslinjene fra SH-dir.om rengjøring og desinf.vil gjelde så langt de passer. Bakgrunnen for unntaket er en vurd.av forholdsmessighet, altså en avveining av fordeler og ulemper (inkl.en vurd.av risiko for overføring av legionellasmitte.) Det kan også bli aktuelt å iverksette nærmere u.s. Av smitterisikoen ved ett el.flere tilfeldig utvalgt gartnerier</a:t>
            </a:r>
            <a:endParaRPr b="0" lang="en-US" sz="16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22240" y="861840"/>
            <a:ext cx="5025960" cy="3480120"/>
          </a:xfrm>
          <a:prstGeom prst="rect">
            <a:avLst/>
          </a:prstGeom>
          <a:ln w="0">
            <a:noFill/>
          </a:ln>
        </p:spPr>
      </p:sp>
      <p:sp>
        <p:nvSpPr>
          <p:cNvPr id="297"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Veilederen er rettet mot VVSbransjen, kommunehelsetjenesten og andre som er engasjert i arbeidet med å forebygge spredning av legionellabakterier fra VVS-anlegg til mennesker. Hele veilederen kan lastes ned som pdf-fil fra linken under aktuelle filer nedenfor.</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22240" y="861840"/>
            <a:ext cx="5025960" cy="3480120"/>
          </a:xfrm>
          <a:prstGeom prst="rect">
            <a:avLst/>
          </a:prstGeom>
          <a:ln w="0">
            <a:noFill/>
          </a:ln>
        </p:spPr>
      </p:sp>
      <p:sp>
        <p:nvSpPr>
          <p:cNvPr id="265"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Vanndråper &lt; 5 mikrom.</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Smittespredning opp til 3 km</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Varmtvannssystemer: dusjhoder og blandebatterier, indre falter av varmtvannsberedere</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Smitter ikke fra person til person</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22240" y="861840"/>
            <a:ext cx="5025960" cy="3480120"/>
          </a:xfrm>
          <a:prstGeom prst="rect">
            <a:avLst/>
          </a:prstGeom>
          <a:ln w="0">
            <a:noFill/>
          </a:ln>
        </p:spPr>
      </p:sp>
      <p:sp>
        <p:nvSpPr>
          <p:cNvPr id="267"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Ex: boblebad, Asker: utdrikkningslag</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22240" y="861840"/>
            <a:ext cx="5025960" cy="3480120"/>
          </a:xfrm>
          <a:prstGeom prst="rect">
            <a:avLst/>
          </a:prstGeom>
          <a:ln w="0">
            <a:noFill/>
          </a:ln>
        </p:spPr>
      </p:sp>
      <p:sp>
        <p:nvSpPr>
          <p:cNvPr id="269" name="PlaceHolder 2"/>
          <p:cNvSpPr>
            <a:spLocks noGrp="1"/>
          </p:cNvSpPr>
          <p:nvPr>
            <p:ph type="body"/>
          </p:nvPr>
        </p:nvSpPr>
        <p:spPr>
          <a:xfrm>
            <a:off x="890280" y="4730760"/>
            <a:ext cx="4887720" cy="4487760"/>
          </a:xfrm>
          <a:prstGeom prst="rect">
            <a:avLst/>
          </a:prstGeom>
          <a:noFill/>
          <a:ln w="0">
            <a:noFill/>
          </a:ln>
        </p:spPr>
        <p:txBody>
          <a:bodyPr tIns="45000" bIns="45000" anchor="t">
            <a:noAutofit/>
          </a:bodyPr>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ea typeface="Arial"/>
              </a:rPr>
              <a:t>MSIS=Meldingssystem for smittsomme sykdommer, Folkehelseinstituttet</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ea typeface="Arial"/>
              </a:rPr>
              <a:t>Fra 1991 egen meldingspliktig sykdom</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1991-2000: 20%</a:t>
            </a:r>
            <a:endParaRPr b="0" lang="en-US" sz="1800" spc="-1" strike="noStrike">
              <a:solidFill>
                <a:srgbClr val="000000"/>
              </a:solidFill>
              <a:latin typeface="Times New Roman"/>
            </a:endParaRPr>
          </a:p>
          <a:p>
            <a:pPr indent="0">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2001-04: 55%</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06668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106668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66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4936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106668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9468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32232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106668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9468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32232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0666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4936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4936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10666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0666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4936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68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 descr=""/>
          <p:cNvPicPr/>
          <p:nvPr/>
        </p:nvPicPr>
        <p:blipFill>
          <a:blip r:embed="rId2"/>
          <a:stretch/>
        </p:blipFill>
        <p:spPr>
          <a:xfrm>
            <a:off x="9360" y="0"/>
            <a:ext cx="9668160" cy="683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tidsskriftet.no/pls/lts/PA_LT.VisSeksjon?vp_SEKS_ID=1215896" TargetMode="External"/><Relationship Id="rId2" Type="http://schemas.openxmlformats.org/officeDocument/2006/relationships/hyperlink" Target="http://www.tidsskriftet.no/pls/lts/PA_LT.VisSeksjon?vp_SEKS_ID=1215896"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1828440"/>
            <a:ext cx="838188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5400" spc="-1" strike="noStrike">
                <a:solidFill>
                  <a:srgbClr val="000000"/>
                </a:solidFill>
                <a:latin typeface="Times New Roman"/>
              </a:rPr>
              <a:t>Legionella</a:t>
            </a:r>
            <a:br>
              <a:rPr sz="4800"/>
            </a:br>
            <a:r>
              <a:rPr b="0" lang="nb-NO" sz="4000" spc="-1" strike="noStrike">
                <a:solidFill>
                  <a:srgbClr val="000000"/>
                </a:solidFill>
                <a:latin typeface="Times New Roman"/>
              </a:rPr>
              <a:t>Hva er institusjonens ansvar?</a:t>
            </a:r>
            <a:endParaRPr b="0" lang="en-US" sz="4000" spc="-1" strike="noStrike">
              <a:solidFill>
                <a:srgbClr val="000000"/>
              </a:solidFill>
              <a:latin typeface="Times New Roman"/>
            </a:endParaRPr>
          </a:p>
        </p:txBody>
      </p:sp>
      <p:sp>
        <p:nvSpPr>
          <p:cNvPr id="43" name="PlaceHolder 2"/>
          <p:cNvSpPr>
            <a:spLocks noGrp="1"/>
          </p:cNvSpPr>
          <p:nvPr>
            <p:ph type="subTitle"/>
          </p:nvPr>
        </p:nvSpPr>
        <p:spPr>
          <a:xfrm>
            <a:off x="1447560" y="3886200"/>
            <a:ext cx="7010280" cy="1752480"/>
          </a:xfrm>
          <a:prstGeom prst="rect">
            <a:avLst/>
          </a:prstGeom>
          <a:noFill/>
          <a:ln w="0">
            <a:noFill/>
          </a:ln>
        </p:spPr>
        <p:txBody>
          <a:bodyPr lIns="90360" rIns="90360" tIns="44280" bIns="44280" anchor="t">
            <a:noAutofit/>
          </a:bodyPr>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Trondheim 20.10.2005</a:t>
            </a:r>
            <a:endParaRPr b="0" lang="en-US" sz="2800" spc="-1" strike="noStrike">
              <a:solidFill>
                <a:srgbClr val="000000"/>
              </a:solidFill>
              <a:latin typeface="Times New Roman"/>
            </a:endParaRPr>
          </a:p>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Eli Sagvik</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smittevernoverlege</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Trondheim kommun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Tverrfaglig smitteverngruppe -legionellagruppen</a:t>
            </a:r>
            <a:endParaRPr b="0" lang="en-US" sz="4400" spc="-1" strike="noStrike">
              <a:solidFill>
                <a:srgbClr val="000000"/>
              </a:solidFill>
              <a:latin typeface="Times New Roman"/>
            </a:endParaRPr>
          </a:p>
        </p:txBody>
      </p:sp>
      <p:sp>
        <p:nvSpPr>
          <p:cNvPr id="63"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Smittevernle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Fagansvarlig ingeniør ved Miljøenhet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Avdelingsingeniør ved Næringsmiddelkontroll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Overlege ved Avdeling for medisinsk mikrobiologi ved St. Olavs Hospi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Ved behov: veterinær ved Mattilsynet og  infeksjonsmedisiner ved Seksjon for infeksjonssykdommer ved St. Olavs Hospital</a:t>
            </a:r>
            <a:endParaRPr b="0" lang="en-US" sz="2800" spc="-1" strike="noStrike">
              <a:solidFill>
                <a:srgbClr val="000000"/>
              </a:solidFill>
              <a:latin typeface="Times New Roman"/>
            </a:endParaRPr>
          </a:p>
          <a:p>
            <a:pPr marL="34308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1056636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Tverrfaglig smitteverngruppe -legionellagruppen</a:t>
            </a: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6094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Gruppen har to hovedoppgaver: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b-NO" sz="3200" spc="-1" strike="noStrike">
                <a:solidFill>
                  <a:srgbClr val="000000"/>
                </a:solidFill>
                <a:latin typeface="Times New Roman"/>
                <a:ea typeface="Times New Roman"/>
              </a:rPr>
              <a:t>Smitteoppsporing</a:t>
            </a:r>
            <a:r>
              <a:rPr b="0" lang="nb-NO" sz="3200" spc="-1" strike="noStrike">
                <a:solidFill>
                  <a:srgbClr val="000000"/>
                </a:solidFill>
                <a:latin typeface="Times New Roman"/>
                <a:ea typeface="Times New Roman"/>
              </a:rPr>
              <a:t> ved påvist legionellose med gjennomgang av mulige smittekilder</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nb-NO" sz="3200" spc="-1" strike="noStrike">
                <a:solidFill>
                  <a:srgbClr val="000000"/>
                </a:solidFill>
                <a:latin typeface="Times New Roman"/>
                <a:ea typeface="Times New Roman"/>
              </a:rPr>
              <a:t>Kartlegging </a:t>
            </a:r>
            <a:r>
              <a:rPr b="0" lang="nb-NO" sz="3200" spc="-1" strike="noStrike">
                <a:solidFill>
                  <a:srgbClr val="000000"/>
                </a:solidFill>
                <a:latin typeface="Times New Roman"/>
                <a:ea typeface="Times New Roman"/>
              </a:rPr>
              <a:t>av potensielle smittekilder i miljøet</a:t>
            </a:r>
            <a:endParaRPr b="0" lang="en-US" sz="3200" spc="-1" strike="noStrike">
              <a:solidFill>
                <a:srgbClr val="000000"/>
              </a:solidFill>
              <a:latin typeface="Times New Roman"/>
            </a:endParaRPr>
          </a:p>
          <a:p>
            <a:pPr marL="6094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Smitteoppsporing</a:t>
            </a:r>
            <a:endParaRPr b="0" lang="en-US" sz="4400" spc="-1" strike="noStrike">
              <a:solidFill>
                <a:srgbClr val="000000"/>
              </a:solidFill>
              <a:latin typeface="Times New Roman"/>
            </a:endParaRPr>
          </a:p>
        </p:txBody>
      </p:sp>
      <p:sp>
        <p:nvSpPr>
          <p:cNvPr id="6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pidemiologiske undersøkelser</a:t>
            </a:r>
            <a:endParaRPr b="0" lang="en-US" sz="3200" spc="-1" strike="noStrike">
              <a:solidFill>
                <a:srgbClr val="000000"/>
              </a:solidFill>
              <a:latin typeface="Times New Roman"/>
            </a:endParaRPr>
          </a:p>
          <a:p>
            <a:pPr marL="3358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2800" spc="-1" strike="noStrike">
                <a:solidFill>
                  <a:srgbClr val="000000"/>
                </a:solidFill>
                <a:latin typeface="Times New Roman"/>
              </a:rPr>
              <a:t>- Pasientens bosted og bevegelser kartlegg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Miljøundersøkelser                                                      </a:t>
            </a:r>
            <a:r>
              <a:rPr b="0" lang="en-US" sz="2800" spc="-1" strike="noStrike">
                <a:solidFill>
                  <a:srgbClr val="000000"/>
                </a:solidFill>
                <a:latin typeface="Times New Roman"/>
              </a:rPr>
              <a:t>- Kartlegging av smittekilder                                              - Prøveuttak</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Mikrobiologiske undersøkelser                                  </a:t>
            </a:r>
            <a:r>
              <a:rPr b="0" lang="en-US" sz="2800" spc="-1" strike="noStrike">
                <a:solidFill>
                  <a:srgbClr val="000000"/>
                </a:solidFill>
                <a:latin typeface="Times New Roman"/>
              </a:rPr>
              <a:t>- Prøver fra pasienter                                                        - Sammenlikne miljø- og pasientprøver                      - Kan si om bakteriene er genetisk like</a:t>
            </a:r>
            <a:endParaRPr b="0" lang="en-US" sz="2800" spc="-1" strike="noStrike">
              <a:solidFill>
                <a:srgbClr val="000000"/>
              </a:solidFill>
              <a:latin typeface="Times New Roman"/>
            </a:endParaRPr>
          </a:p>
          <a:p>
            <a:pPr marL="3358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artlegging av smittekilder</a:t>
            </a: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opphold på hoteller, campingplasser o.l. (dusj, varmtvann,  boblebad og kjøletårn til  luftkondisjoneringsanlegg) </a:t>
            </a:r>
            <a:endParaRPr b="0" lang="en-US" sz="24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bruk av offentlige bad (badeland, boblebad, dusjer o.l.) </a:t>
            </a:r>
            <a:endParaRPr b="0" lang="en-US" sz="24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opphold i lokaler som har luftkondisjoneringsanlegg med kjøletårn (kontorer, butikker, restauranter o.l.) </a:t>
            </a:r>
            <a:endParaRPr b="0" lang="en-US" sz="24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opphold på helseinstitusjon </a:t>
            </a:r>
            <a:endParaRPr b="0" lang="en-US" sz="24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kontakt med andre vannsystemer som avgir aerosoler (f.eks. luftfuktere, innendørs fontener og befuktningsanlegg for frukt og grønnsaker)</a:t>
            </a:r>
            <a:endParaRPr b="0" lang="en-US" sz="24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varmtvannssystem i pasientens egen bolig</a:t>
            </a:r>
            <a:endParaRPr b="0" lang="en-US" sz="2400" spc="-1" strike="noStrike">
              <a:solidFill>
                <a:srgbClr val="000000"/>
              </a:solidFill>
              <a:latin typeface="Times New Roman"/>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Legionella i Trondheim</a:t>
            </a:r>
            <a:endParaRPr b="0" lang="en-US" sz="4400" spc="-1" strike="noStrike">
              <a:solidFill>
                <a:srgbClr val="000000"/>
              </a:solidFill>
              <a:latin typeface="Times New Roman"/>
            </a:endParaRPr>
          </a:p>
        </p:txBody>
      </p:sp>
      <p:sp>
        <p:nvSpPr>
          <p:cNvPr id="72"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Før 2001: Legionella finnes ”nesten ikke” i Norg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2001:Hypotese: Legionella finnes i alle våre vannkilder</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2001-2005: 22 personer i Trondheim fått diagnostisert legionellos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2003: Trondheimsmiljøet har påvist Legionella en rekke ulike steder i byen, og det er allment akseptert at Legionella er en naturlig del av vår fau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Forekomst: 0,3 per 10.000 i Trondheim</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Forekomst: 0,06 per 10.000 nasjonalt</a:t>
            </a:r>
            <a:endParaRPr b="0" lang="en-US" sz="2400" spc="-1" strike="noStrike">
              <a:solidFill>
                <a:srgbClr val="000000"/>
              </a:solidFill>
              <a:latin typeface="Times New Roman"/>
            </a:endParaRPr>
          </a:p>
          <a:p>
            <a:pPr marL="30852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085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800" spc="-1" strike="noStrike">
                <a:solidFill>
                  <a:srgbClr val="000000"/>
                </a:solidFill>
                <a:latin typeface="Times New Roman"/>
              </a:rPr>
              <a:t>      </a:t>
            </a:r>
            <a:r>
              <a:rPr b="0" lang="nb-NO" sz="1800" spc="-1" strike="noStrike">
                <a:solidFill>
                  <a:srgbClr val="000000"/>
                </a:solidFill>
                <a:latin typeface="Times New Roman"/>
              </a:rPr>
              <a:t>Ref.: </a:t>
            </a:r>
            <a:r>
              <a:rPr b="0" lang="nb-NO" sz="1800" spc="-1" strike="noStrike">
                <a:solidFill>
                  <a:srgbClr val="000000"/>
                </a:solidFill>
                <a:latin typeface="Times New Roman"/>
              </a:rPr>
              <a:t>Garåsen H, Sagvik E, Kvendbø JF et al. </a:t>
            </a:r>
            <a:r>
              <a:rPr b="0" lang="nb-NO" sz="1800" spc="-1" strike="noStrike" u="sng">
                <a:solidFill>
                  <a:srgbClr val="fc0128"/>
                </a:solidFill>
                <a:uFillTx/>
                <a:latin typeface="Times New Roman"/>
                <a:hlinkClick r:id="rId1"/>
              </a:rPr>
              <a:t>Legionella</a:t>
            </a:r>
            <a:r>
              <a:rPr b="0" lang="nb-NO" sz="1800" spc="-1" strike="noStrike" u="sng">
                <a:solidFill>
                  <a:srgbClr val="fc0128"/>
                </a:solidFill>
                <a:uFillTx/>
                <a:latin typeface="Times New Roman"/>
                <a:hlinkClick r:id="rId2"/>
              </a:rPr>
              <a:t> i Trondheim - smitteoppsporing og kartlegging av risikomiljøer</a:t>
            </a:r>
            <a:r>
              <a:rPr b="0" lang="nb-NO" sz="1800" spc="-1" strike="noStrike">
                <a:solidFill>
                  <a:srgbClr val="000000"/>
                </a:solidFill>
                <a:latin typeface="Times New Roman"/>
              </a:rPr>
              <a:t> Tidsskr Nor Lægeforen 2005; 125: 1791 - 3.</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8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08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Smitteoppsporing – resultater (1)</a:t>
            </a:r>
            <a:endParaRPr b="0" lang="en-US" sz="4400" spc="-1" strike="noStrike">
              <a:solidFill>
                <a:srgbClr val="000000"/>
              </a:solidFill>
              <a:latin typeface="Times New Roman"/>
            </a:endParaRPr>
          </a:p>
        </p:txBody>
      </p:sp>
      <p:sp>
        <p:nvSpPr>
          <p:cNvPr id="74"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2001-2004: 15 av de 17 innenlandssmittede pasientene ble diagnostisert i perioden april - oktobe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Åtte pasienter symptomer på alvorlig lungebetennelse, hvorav fem med multiorgansvik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Ett dødsfall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12 innlagt i sykehus</a:t>
            </a:r>
            <a:r>
              <a:rPr b="0" lang="nb-NO"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De øvrige ni pasientene hadde en mildere form for lungebetennels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Det ble ikke påvist felles smittekilde</a:t>
            </a:r>
            <a:endParaRPr b="0" lang="en-US" sz="2800" spc="-1" strike="noStrike">
              <a:solidFill>
                <a:srgbClr val="000000"/>
              </a:solidFill>
              <a:latin typeface="Times New Roman"/>
            </a:endParaRPr>
          </a:p>
          <a:p>
            <a:pPr marL="32904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Smitteoppsporing – resultater (2)</a:t>
            </a:r>
            <a:endParaRPr b="0" lang="en-US" sz="4400" spc="-1" strike="noStrike">
              <a:solidFill>
                <a:srgbClr val="000000"/>
              </a:solidFill>
              <a:latin typeface="Times New Roman"/>
            </a:endParaRPr>
          </a:p>
        </p:txBody>
      </p:sp>
      <p:sp>
        <p:nvSpPr>
          <p:cNvPr id="76"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For to av pasientene ble det påvist genotypisk identisk mikrobe hos pasient og i prøve tatt fra varmtvannsanlegg  i miljø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For fire av pasientene ble det påvist Legionella pneumophila i miljøprøver, men pasientens diagnose var stilt på annet grunnlag enn ved dyrkning av bakterien i luftveissekret -  sammenligning av bakterieisolatene ikke muli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For 11 pasienter ikke sikker smittekilde påvist</a:t>
            </a:r>
            <a:endParaRPr b="0" lang="en-US" sz="2800" spc="-1" strike="noStrike">
              <a:solidFill>
                <a:srgbClr val="000000"/>
              </a:solidFill>
              <a:latin typeface="Times New Roman"/>
            </a:endParaRPr>
          </a:p>
          <a:p>
            <a:pPr marL="34308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Miljøkartlegging</a:t>
            </a: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Legionellabakterien trives i vann med temperaturer i området 20-50º 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Det er særlig i lag med organisk materiale (biofilm) som dannes på veggene i kjøletårn og andre VVS-anlegg, at bakterien lever og formere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Problemer knyttet til legionella i VVS-anlegg vil derfor særlig gjelde der man får:                                        - lav temperatur i varmtvannssystemer                              - høy temperatur i kaldtvannssystemer                                 - dannet biofilm med nok næringsstoffer tilste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Miljøkartlegging-strategi</a:t>
            </a:r>
            <a:endParaRPr b="0" lang="en-US" sz="4400" spc="-1" strike="noStrike">
              <a:solidFill>
                <a:srgbClr val="000000"/>
              </a:solidFill>
              <a:latin typeface="Times New Roman"/>
            </a:endParaRPr>
          </a:p>
        </p:txBody>
      </p:sp>
      <p:sp>
        <p:nvSpPr>
          <p:cNvPr id="8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Alle kjøletå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Alle badeanleg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Alle bobleb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Befuktningsanlegg for frukt og grønnsa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Stikkprøver på noen hot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På mistanke (hjem, skole, sykehu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rPr>
              <a:t>På spesiell anmodning</a:t>
            </a:r>
            <a:endParaRPr b="0" lang="en-US" sz="32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Bakgrunn</a:t>
            </a:r>
            <a:endParaRPr b="0" lang="en-US" sz="4400" spc="-1" strike="noStrike">
              <a:solidFill>
                <a:srgbClr val="000000"/>
              </a:solidFill>
              <a:latin typeface="Times New Roman"/>
            </a:endParaRPr>
          </a:p>
        </p:txBody>
      </p:sp>
      <p:sp>
        <p:nvSpPr>
          <p:cNvPr id="45"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Legionellose er en sjelden, men alvorlig sykdo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Økende hyppighet i Norg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Januar 2001: påvist smittekilde i et varmtvannsanlegg på et sykehus i Trondhei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Sommeren 2001: utbrudd av legionellose i Stavang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Våren 2005: utbrudd Østfol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Diagnosen er vanskelig å stille både klinisk og mikrobiologisk</a:t>
            </a:r>
            <a:endParaRPr b="0" lang="en-US" sz="2800" spc="-1" strike="noStrike">
              <a:solidFill>
                <a:srgbClr val="000000"/>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219320"/>
            <a:ext cx="9906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 14.</a:t>
            </a:r>
            <a:r>
              <a:rPr b="0" lang="en-US" sz="2400" spc="-1" strike="noStrike">
                <a:solidFill>
                  <a:srgbClr val="000000"/>
                </a:solidFill>
                <a:latin typeface="Times New Roman"/>
              </a:rPr>
              <a:t> </a:t>
            </a:r>
            <a:r>
              <a:rPr b="0" i="1" lang="en-US" sz="2400" spc="-1" strike="noStrike">
                <a:solidFill>
                  <a:srgbClr val="000000"/>
                </a:solidFill>
                <a:latin typeface="Times New Roman"/>
              </a:rPr>
              <a:t>Meldepliktige virksomhe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ølgende virksomheter, eiendommer og tiltak skal melde til kommunen      </a:t>
            </a:r>
            <a:r>
              <a:rPr b="0" lang="en-US" sz="2400" spc="-1" strike="noStrike">
                <a:solidFill>
                  <a:srgbClr val="000000"/>
                </a:solidFill>
                <a:latin typeface="Times New Roman"/>
              </a:rPr>
              <a:t>	</a:t>
            </a:r>
            <a:r>
              <a:rPr b="1" lang="en-US" sz="2400" spc="-1" strike="noStrike">
                <a:solidFill>
                  <a:srgbClr val="000000"/>
                </a:solidFill>
                <a:latin typeface="Times New Roman"/>
              </a:rPr>
              <a:t>før oppstart og ved vesentlige utvidelser eller endring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82" name=""/>
          <p:cNvGrpSpPr/>
          <p:nvPr/>
        </p:nvGrpSpPr>
        <p:grpSpPr>
          <a:xfrm>
            <a:off x="-533520" y="2514600"/>
            <a:ext cx="9904320" cy="457200"/>
            <a:chOff x="-533520" y="2514600"/>
            <a:chExt cx="9904320" cy="457200"/>
          </a:xfrm>
        </p:grpSpPr>
        <p:sp>
          <p:nvSpPr>
            <p:cNvPr id="83" name=""/>
            <p:cNvSpPr/>
            <p:nvPr/>
          </p:nvSpPr>
          <p:spPr>
            <a:xfrm>
              <a:off x="-533520" y="2514600"/>
              <a:ext cx="1438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4" name=""/>
            <p:cNvSpPr/>
            <p:nvPr/>
          </p:nvSpPr>
          <p:spPr>
            <a:xfrm>
              <a:off x="904680" y="2514600"/>
              <a:ext cx="8466120" cy="45720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Asylmottak</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Hospitser</a:t>
              </a:r>
              <a:endParaRPr b="0" lang="en-US" sz="2400" spc="-1" strike="noStrike">
                <a:solidFill>
                  <a:srgbClr val="000000"/>
                </a:solidFill>
                <a:latin typeface="Times New Roman"/>
              </a:endParaRPr>
            </a:p>
          </p:txBody>
        </p:sp>
      </p:grpSp>
      <p:grpSp>
        <p:nvGrpSpPr>
          <p:cNvPr id="85" name=""/>
          <p:cNvGrpSpPr/>
          <p:nvPr/>
        </p:nvGrpSpPr>
        <p:grpSpPr>
          <a:xfrm>
            <a:off x="0" y="2057400"/>
            <a:ext cx="9906120" cy="457200"/>
            <a:chOff x="0" y="2057400"/>
            <a:chExt cx="9906120" cy="457200"/>
          </a:xfrm>
        </p:grpSpPr>
        <p:sp>
          <p:nvSpPr>
            <p:cNvPr id="86" name=""/>
            <p:cNvSpPr/>
            <p:nvPr/>
          </p:nvSpPr>
          <p:spPr>
            <a:xfrm>
              <a:off x="0" y="2057400"/>
              <a:ext cx="1650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
            <p:cNvSpPr/>
            <p:nvPr/>
          </p:nvSpPr>
          <p:spPr>
            <a:xfrm>
              <a:off x="1650960" y="2057400"/>
              <a:ext cx="82551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88" name=""/>
          <p:cNvGrpSpPr/>
          <p:nvPr/>
        </p:nvGrpSpPr>
        <p:grpSpPr>
          <a:xfrm>
            <a:off x="-58680" y="3382920"/>
            <a:ext cx="10023480" cy="822240"/>
            <a:chOff x="-58680" y="3382920"/>
            <a:chExt cx="10023480" cy="822240"/>
          </a:xfrm>
        </p:grpSpPr>
        <p:sp>
          <p:nvSpPr>
            <p:cNvPr id="89" name=""/>
            <p:cNvSpPr/>
            <p:nvPr/>
          </p:nvSpPr>
          <p:spPr>
            <a:xfrm>
              <a:off x="-58680" y="3382920"/>
              <a:ext cx="395280" cy="822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0" name=""/>
            <p:cNvSpPr/>
            <p:nvPr/>
          </p:nvSpPr>
          <p:spPr>
            <a:xfrm>
              <a:off x="336600" y="3382920"/>
              <a:ext cx="9628200" cy="822240"/>
            </a:xfrm>
            <a:prstGeom prst="rect">
              <a:avLst/>
            </a:prstGeom>
            <a:noFill/>
            <a:ln w="0">
              <a:noFill/>
            </a:ln>
          </p:spPr>
          <p:style>
            <a:lnRef idx="0"/>
            <a:fillRef idx="0"/>
            <a:effectRef idx="0"/>
            <a:fontRef idx="minor"/>
          </p:style>
          <p:txBody>
            <a:bodyPr lIns="90000" rIns="90000" tIns="46800" bIns="46800" anchor="t">
              <a:noAutofit/>
            </a:bodyPr>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Campingplasser og andre lignende virksomheter hvor allmennheten </a:t>
              </a:r>
              <a:r>
                <a:rPr b="0" lang="en-US" sz="2400" spc="-1" strike="noStrike">
                  <a:solidFill>
                    <a:srgbClr val="000000"/>
                  </a:solidFill>
                  <a:latin typeface="Times New Roman"/>
                </a:rPr>
                <a:t>	</a:t>
              </a:r>
              <a:r>
                <a:rPr b="0" lang="en-US" sz="2400" spc="-1" strike="noStrike">
                  <a:solidFill>
                    <a:srgbClr val="000000"/>
                  </a:solidFill>
                  <a:latin typeface="Times New Roman"/>
                </a:rPr>
                <a:t>har adgang eller som benyttes av mange mennesker </a:t>
              </a:r>
              <a:endParaRPr b="0" lang="en-US" sz="2400" spc="-1" strike="noStrike">
                <a:solidFill>
                  <a:srgbClr val="000000"/>
                </a:solidFill>
                <a:latin typeface="Times New Roman"/>
              </a:endParaRPr>
            </a:p>
          </p:txBody>
        </p:sp>
      </p:grpSp>
      <p:grpSp>
        <p:nvGrpSpPr>
          <p:cNvPr id="91" name=""/>
          <p:cNvGrpSpPr/>
          <p:nvPr/>
        </p:nvGrpSpPr>
        <p:grpSpPr>
          <a:xfrm>
            <a:off x="-58680" y="4205160"/>
            <a:ext cx="10023480" cy="822240"/>
            <a:chOff x="-58680" y="4205160"/>
            <a:chExt cx="10023480" cy="822240"/>
          </a:xfrm>
        </p:grpSpPr>
        <p:sp>
          <p:nvSpPr>
            <p:cNvPr id="92" name=""/>
            <p:cNvSpPr/>
            <p:nvPr/>
          </p:nvSpPr>
          <p:spPr>
            <a:xfrm>
              <a:off x="-58680" y="4205160"/>
              <a:ext cx="395280" cy="822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3" name=""/>
            <p:cNvSpPr/>
            <p:nvPr/>
          </p:nvSpPr>
          <p:spPr>
            <a:xfrm>
              <a:off x="336600" y="4205160"/>
              <a:ext cx="9628200" cy="822240"/>
            </a:xfrm>
            <a:prstGeom prst="rect">
              <a:avLst/>
            </a:prstGeom>
            <a:noFill/>
            <a:ln w="0">
              <a:noFill/>
            </a:ln>
          </p:spPr>
          <p:style>
            <a:lnRef idx="0"/>
            <a:fillRef idx="0"/>
            <a:effectRef idx="0"/>
            <a:fontRef idx="minor"/>
          </p:style>
          <p:txBody>
            <a:bodyPr lIns="90000" rIns="90000" tIns="46800" bIns="46800" anchor="t">
              <a:noAutofit/>
            </a:bodyPr>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Lokaler for undervisning og andre forsamlingslokaler hvor </a:t>
              </a:r>
              <a:r>
                <a:rPr b="0" lang="en-US" sz="2400" spc="-1" strike="noStrike">
                  <a:solidFill>
                    <a:srgbClr val="000000"/>
                  </a:solidFill>
                  <a:latin typeface="Times New Roman"/>
                </a:rPr>
                <a:t>	</a:t>
              </a:r>
              <a:r>
                <a:rPr b="0" lang="en-US" sz="2400" spc="-1" strike="noStrike">
                  <a:solidFill>
                    <a:srgbClr val="000000"/>
                  </a:solidFill>
                  <a:latin typeface="Times New Roman"/>
                </a:rPr>
                <a:t>allmennheten har adgang eller som benyttes av mange mennesker </a:t>
              </a:r>
              <a:endParaRPr b="0" lang="en-US" sz="2400" spc="-1" strike="noStrike">
                <a:solidFill>
                  <a:srgbClr val="000000"/>
                </a:solidFill>
                <a:latin typeface="Times New Roman"/>
              </a:endParaRPr>
            </a:p>
          </p:txBody>
        </p:sp>
      </p:grpSp>
      <p:grpSp>
        <p:nvGrpSpPr>
          <p:cNvPr id="94" name=""/>
          <p:cNvGrpSpPr/>
          <p:nvPr/>
        </p:nvGrpSpPr>
        <p:grpSpPr>
          <a:xfrm>
            <a:off x="-58680" y="5027760"/>
            <a:ext cx="9904320" cy="457200"/>
            <a:chOff x="-58680" y="5027760"/>
            <a:chExt cx="9904320" cy="457200"/>
          </a:xfrm>
        </p:grpSpPr>
        <p:sp>
          <p:nvSpPr>
            <p:cNvPr id="95" name=""/>
            <p:cNvSpPr/>
            <p:nvPr/>
          </p:nvSpPr>
          <p:spPr>
            <a:xfrm>
              <a:off x="-58680" y="5027760"/>
              <a:ext cx="4395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6" name=""/>
            <p:cNvSpPr/>
            <p:nvPr/>
          </p:nvSpPr>
          <p:spPr>
            <a:xfrm>
              <a:off x="380880" y="5027760"/>
              <a:ext cx="9464760" cy="457200"/>
            </a:xfrm>
            <a:prstGeom prst="rect">
              <a:avLst/>
            </a:prstGeom>
            <a:noFill/>
            <a:ln w="0">
              <a:noFill/>
            </a:ln>
          </p:spPr>
          <p:style>
            <a:lnRef idx="0"/>
            <a:fillRef idx="0"/>
            <a:effectRef idx="0"/>
            <a:fontRef idx="minor"/>
          </p:style>
          <p:txBody>
            <a:bodyPr lIns="90000" rIns="90000" tIns="46800" bIns="46800" anchor="t">
              <a:noAutofit/>
            </a:bodyPr>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	</a:t>
              </a:r>
              <a:r>
                <a:rPr b="0" lang="nb-NO" sz="2400" spc="-1" strike="noStrike">
                  <a:solidFill>
                    <a:srgbClr val="000000"/>
                  </a:solidFill>
                  <a:latin typeface="Times New Roman"/>
                </a:rPr>
                <a:t>Virksomheter som foretar utslipp av avløpsvann </a:t>
              </a:r>
              <a:endParaRPr b="0" lang="en-US" sz="2400" spc="-1" strike="noStrike">
                <a:solidFill>
                  <a:srgbClr val="000000"/>
                </a:solidFill>
                <a:latin typeface="Times New Roman"/>
              </a:endParaRPr>
            </a:p>
          </p:txBody>
        </p:sp>
      </p:grpSp>
      <p:grpSp>
        <p:nvGrpSpPr>
          <p:cNvPr id="97" name=""/>
          <p:cNvGrpSpPr/>
          <p:nvPr/>
        </p:nvGrpSpPr>
        <p:grpSpPr>
          <a:xfrm>
            <a:off x="-58680" y="5484960"/>
            <a:ext cx="9937800" cy="457200"/>
            <a:chOff x="-58680" y="5484960"/>
            <a:chExt cx="9937800" cy="457200"/>
          </a:xfrm>
        </p:grpSpPr>
        <p:sp>
          <p:nvSpPr>
            <p:cNvPr id="98" name=""/>
            <p:cNvSpPr/>
            <p:nvPr/>
          </p:nvSpPr>
          <p:spPr>
            <a:xfrm>
              <a:off x="-58680" y="5484960"/>
              <a:ext cx="395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9" name=""/>
            <p:cNvSpPr/>
            <p:nvPr/>
          </p:nvSpPr>
          <p:spPr>
            <a:xfrm>
              <a:off x="336600" y="5484960"/>
              <a:ext cx="9542520" cy="457200"/>
            </a:xfrm>
            <a:prstGeom prst="rect">
              <a:avLst/>
            </a:prstGeom>
            <a:noFill/>
            <a:ln w="0">
              <a:noFill/>
            </a:ln>
          </p:spPr>
          <p:style>
            <a:lnRef idx="0"/>
            <a:fillRef idx="0"/>
            <a:effectRef idx="0"/>
            <a:fontRef idx="minor"/>
          </p:style>
          <p:txBody>
            <a:bodyPr lIns="90000" rIns="90000" tIns="46800" bIns="46800" anchor="t">
              <a:noAutofit/>
            </a:bodyPr>
            <a:p>
              <a:pPr lvl="1" marL="5716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1" lang="en-US" sz="2400" spc="-1" strike="noStrike" u="sng">
                  <a:solidFill>
                    <a:srgbClr val="000000"/>
                  </a:solidFill>
                  <a:uFillTx/>
                  <a:latin typeface="Times New Roman"/>
                </a:rPr>
                <a:t>Virksomheter som har kjøletårn eller lignende innretninge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0" name=""/>
          <p:cNvSpPr/>
          <p:nvPr/>
        </p:nvSpPr>
        <p:spPr>
          <a:xfrm>
            <a:off x="1981080" y="228600"/>
            <a:ext cx="9906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Forskrift om miljørettet helsevern</a:t>
            </a:r>
            <a:r>
              <a:rPr b="1" lang="en-US" sz="2400" spc="-1" strike="noStrike">
                <a:solidFill>
                  <a:srgbClr val="000000"/>
                </a:solidFill>
                <a:latin typeface="Times New Roman"/>
              </a:rPr>
              <a:t> </a:t>
            </a:r>
            <a:r>
              <a:rPr b="0" lang="en-US" sz="2400" spc="-1" strike="noStrike">
                <a:solidFill>
                  <a:srgbClr val="000000"/>
                </a:solidFill>
                <a:latin typeface="Times New Roman"/>
              </a:rPr>
              <a:t>(1. juli 2003)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Når skal virksomheter sende melding til kommunen?</a:t>
            </a:r>
            <a:endParaRPr b="0" lang="en-US" sz="4400" spc="-1" strike="noStrike">
              <a:solidFill>
                <a:srgbClr val="000000"/>
              </a:solidFill>
              <a:latin typeface="Times New Roman"/>
            </a:endParaRPr>
          </a:p>
        </p:txBody>
      </p:sp>
      <p:sp>
        <p:nvSpPr>
          <p:cNvPr id="102"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ør oppstart og ved vesentlige utvidelser eller endrin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r virksomheter som ikke tidligere har hatt melde- eller godkjenningsplikt, skal slik melding legges fram for kommunen innen 01.01.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rav til melding</a:t>
            </a:r>
            <a:endParaRPr b="0" lang="en-US" sz="4400" spc="-1" strike="noStrike">
              <a:solidFill>
                <a:srgbClr val="000000"/>
              </a:solidFill>
              <a:latin typeface="Times New Roman"/>
            </a:endParaRPr>
          </a:p>
        </p:txBody>
      </p:sp>
      <p:sp>
        <p:nvSpPr>
          <p:cNvPr id="104"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versikt over aktuelle miljøfaktorer og årsakene til deres opptre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Vurdering av miljøfaktorenes helseeffekter, inkl. risiko for at det kan oppstå negativ helsepåvirk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Vurdering av mulige forebyggende og avbøtende tilta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Opplysningsplikt</a:t>
            </a:r>
            <a:endParaRPr b="0" lang="en-US" sz="4400" spc="-1" strike="noStrike">
              <a:solidFill>
                <a:srgbClr val="000000"/>
              </a:solidFill>
              <a:latin typeface="Times New Roman"/>
            </a:endParaRPr>
          </a:p>
        </p:txBody>
      </p:sp>
      <p:sp>
        <p:nvSpPr>
          <p:cNvPr id="106"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 13.</a:t>
            </a:r>
            <a:r>
              <a:rPr b="0" lang="en-US" sz="2800" spc="-1" strike="noStrike">
                <a:solidFill>
                  <a:srgbClr val="000000"/>
                </a:solidFill>
                <a:latin typeface="Times New Roman"/>
              </a:rPr>
              <a:t> </a:t>
            </a:r>
            <a:r>
              <a:rPr b="0" i="1" lang="en-US" sz="2800" spc="-1" strike="noStrike">
                <a:solidFill>
                  <a:srgbClr val="000000"/>
                </a:solidFill>
                <a:latin typeface="Times New Roman"/>
              </a:rPr>
              <a:t>Opplysningsplik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n ansvarlige for en virksomhet eller eiendom skal av eget tiltak gi kommunen opplysninger om forhold som åpenbart kan ha negativ innvirkning på helsen. </a:t>
            </a:r>
            <a:endParaRPr b="0" lang="en-US" sz="2800" spc="-1" strike="noStrike">
              <a:solidFill>
                <a:srgbClr val="000000"/>
              </a:solidFill>
              <a:latin typeface="Times New Roman"/>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Når skal virksomheter varsle kommunen?</a:t>
            </a:r>
            <a:endParaRPr b="0" lang="en-US" sz="4400" spc="-1" strike="noStrike">
              <a:solidFill>
                <a:srgbClr val="000000"/>
              </a:solidFill>
              <a:latin typeface="Times New Roman"/>
            </a:endParaRPr>
          </a:p>
        </p:txBody>
      </p:sp>
      <p:sp>
        <p:nvSpPr>
          <p:cNvPr id="10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Dersom det er forhold ved en virksomhet som åpenbart kan gi negative innvirkninger på helsen</a:t>
            </a:r>
            <a:endParaRPr b="0" lang="en-US" sz="28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Dette kan oppdages f.eks gjennom den internkontroll som føres, ved stikkprøver eller hvis det skjer en ulykke/nesten-ulykke</a:t>
            </a:r>
            <a:endParaRPr b="0" lang="en-US" sz="2800" spc="-1" strike="noStrike">
              <a:solidFill>
                <a:srgbClr val="000000"/>
              </a:solidFill>
              <a:latin typeface="Times New Roman"/>
            </a:endParaRPr>
          </a:p>
          <a:p>
            <a:pPr marL="343080" indent="-343080">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ommunen kan pålegge den ansvarlige å gi de opplysninger som er nødvendig for at kommunen skal kunne utføre sine oppgaver innen miljørettet helseve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jøletårn - kartlegging</a:t>
            </a:r>
            <a:endParaRPr b="0" lang="en-US" sz="4400" spc="-1" strike="noStrike">
              <a:solidFill>
                <a:srgbClr val="000000"/>
              </a:solidFill>
              <a:latin typeface="Times New Roman"/>
            </a:endParaRPr>
          </a:p>
        </p:txBody>
      </p:sp>
      <p:sp>
        <p:nvSpPr>
          <p:cNvPr id="11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0000"/>
          </a:bodyPr>
          <a:p>
            <a:pPr marL="308520" indent="-30852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Alle eiere av kjøletårn ble kontaktet</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Alle kjøletårn ble kontrollert av fagansvarlig ingeniør ved Miljøenheten og ingeniør ved Næringsmiddelkontrollen</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artlegging:                                                                   - driftsansvarlig/kontaktperson                                             - internkontrollrutiner for drift og vedlikehold                                       - oversikt med foto/billedmateriale                                          - teknisk beskrivelse av hvert kjøletårn    </a:t>
            </a:r>
            <a:endParaRPr b="0" lang="en-US" sz="2800" spc="-1" strike="noStrike">
              <a:solidFill>
                <a:srgbClr val="000000"/>
              </a:solidFill>
              <a:latin typeface="Times New Roman"/>
            </a:endParaRPr>
          </a:p>
          <a:p>
            <a:pPr marL="30852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jøletårn - prøveuttak</a:t>
            </a:r>
            <a:endParaRPr b="0" lang="en-US" sz="4400" spc="-1" strike="noStrike">
              <a:solidFill>
                <a:srgbClr val="000000"/>
              </a:solidFill>
              <a:latin typeface="Times New Roman"/>
            </a:endParaRPr>
          </a:p>
        </p:txBody>
      </p:sp>
      <p:sp>
        <p:nvSpPr>
          <p:cNvPr id="112"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Vannprøver fra vannbassenget i bunnen av kjøletårnene samt svaberprøver fra sideflatene over vannivå i samme basse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Svaberprøver fra fyllmateriale og varmevekslere i åpne, henholdsvis lukkede kjøletå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Prøvene analysert ved Næringsmiddelkontrollen:  membranfiltreringsmetoden (ISO/DIS 11731-2)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Verifisering av bakterien ved Avdeling for medisinsk mikrobiologi ved St.Olavs Hospi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12920" y="0"/>
            <a:ext cx="8431200" cy="1068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jøletårn i Trondheim 2003</a:t>
            </a:r>
            <a:endParaRPr b="0" lang="en-US" sz="4400" spc="-1" strike="noStrike">
              <a:solidFill>
                <a:srgbClr val="000000"/>
              </a:solidFill>
              <a:latin typeface="Times New Roman"/>
            </a:endParaRPr>
          </a:p>
        </p:txBody>
      </p:sp>
      <p:sp>
        <p:nvSpPr>
          <p:cNvPr id="115"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19 kjøletårn registrert i Trondheim 2003  (på 14 forskjellige byg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11 kjøletårnsei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19 teste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Påvist bakterien 3 steder, alle tårn er desinfise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o kjøletårn nedlagt</a:t>
            </a:r>
            <a:endParaRPr b="0" lang="en-US" sz="32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ny_tarn_554441b" descr=""/>
          <p:cNvPicPr/>
          <p:nvPr/>
        </p:nvPicPr>
        <p:blipFill>
          <a:blip r:embed="rId1"/>
          <a:stretch/>
        </p:blipFill>
        <p:spPr>
          <a:xfrm>
            <a:off x="1828800" y="0"/>
            <a:ext cx="509256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Hva er Legionella?</a:t>
            </a:r>
            <a:endParaRPr b="0" lang="en-US" sz="4400" spc="-1" strike="noStrike">
              <a:solidFill>
                <a:srgbClr val="000000"/>
              </a:solidFill>
              <a:latin typeface="Times New Roman"/>
            </a:endParaRPr>
          </a:p>
        </p:txBody>
      </p:sp>
      <p:sp>
        <p:nvSpPr>
          <p:cNvPr id="47" name="PlaceHolder 2"/>
          <p:cNvSpPr>
            <a:spLocks noGrp="1"/>
          </p:cNvSpPr>
          <p:nvPr>
            <p:ph/>
          </p:nvPr>
        </p:nvSpPr>
        <p:spPr>
          <a:xfrm>
            <a:off x="5028840" y="1981080"/>
            <a:ext cx="3809880" cy="4114800"/>
          </a:xfrm>
          <a:prstGeom prst="rect">
            <a:avLst/>
          </a:prstGeom>
          <a:noFill/>
          <a:ln w="0">
            <a:noFill/>
          </a:ln>
        </p:spPr>
        <p:txBody>
          <a:bodyPr lIns="90360" rIns="90360" tIns="44280" bIns="44280" anchor="t">
            <a:normAutofit fontScale="94000"/>
          </a:bodyPr>
          <a:p>
            <a:pPr marL="322200" indent="-32220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Vannbakterie som  forekommer i naturen</a:t>
            </a: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Naturlig forekommende i mange vannkilder og vannforsyningsanlegg</a:t>
            </a: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Lever intracellulært i amøber </a:t>
            </a: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Både amøbe og Legionella vokser i etablert biofilm </a:t>
            </a: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I enkelte tekniske vannsystemer kan forholdene bli optimale for masseforekomst</a:t>
            </a:r>
            <a:endParaRPr b="0" lang="en-US" sz="2400" spc="-1" strike="noStrike">
              <a:solidFill>
                <a:srgbClr val="000000"/>
              </a:solidFill>
              <a:latin typeface="Times New Roman"/>
            </a:endParaRPr>
          </a:p>
        </p:txBody>
      </p:sp>
      <p:sp>
        <p:nvSpPr>
          <p:cNvPr id="48" name=""/>
          <p:cNvSpPr/>
          <p:nvPr/>
        </p:nvSpPr>
        <p:spPr>
          <a:xfrm>
            <a:off x="4444920" y="3092400"/>
            <a:ext cx="360" cy="360"/>
          </a:xfrm>
          <a:prstGeom prst="rect">
            <a:avLst/>
          </a:prstGeom>
          <a:noFill/>
          <a:ln w="0">
            <a:noFill/>
          </a:ln>
        </p:spPr>
        <p:style>
          <a:lnRef idx="0"/>
          <a:fillRef idx="0"/>
          <a:effectRef idx="0"/>
          <a:fontRef idx="minor"/>
        </p:style>
        <p:txBody>
          <a:bodyPr lIns="47520" rIns="47520" tIns="-43920" bIns="-43920" anchor="t">
            <a:spAutoFit/>
          </a:bodyPr>
          <a:p>
            <a:endParaRPr b="0" lang="en-US" sz="2400" spc="-1" strike="noStrike">
              <a:solidFill>
                <a:srgbClr val="000000"/>
              </a:solidFill>
              <a:latin typeface="Times New Roman"/>
            </a:endParaRPr>
          </a:p>
        </p:txBody>
      </p:sp>
      <p:pic>
        <p:nvPicPr>
          <p:cNvPr id="49" name="785BD20A20" descr=""/>
          <p:cNvPicPr/>
          <p:nvPr/>
        </p:nvPicPr>
        <p:blipFill>
          <a:blip r:embed="rId1"/>
          <a:stretch/>
        </p:blipFill>
        <p:spPr>
          <a:xfrm>
            <a:off x="914400" y="2743200"/>
            <a:ext cx="3809880" cy="252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Miljøkartlegging</a:t>
            </a:r>
            <a:endParaRPr b="0" lang="en-US" sz="4400" spc="-1" strike="noStrike">
              <a:solidFill>
                <a:srgbClr val="000000"/>
              </a:solidFill>
              <a:latin typeface="Times New Roman"/>
            </a:endParaRPr>
          </a:p>
        </p:txBody>
      </p:sp>
      <p:sp>
        <p:nvSpPr>
          <p:cNvPr id="11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   </a:t>
            </a:r>
            <a:r>
              <a:rPr b="0" lang="nb-NO" sz="3200" spc="-1" strike="noStrike">
                <a:solidFill>
                  <a:srgbClr val="000000"/>
                </a:solidFill>
                <a:latin typeface="Times New Roman"/>
                <a:ea typeface="Times New Roman"/>
              </a:rPr>
              <a:t>I tillegg er bakterien fun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ett boblebad i badeanleg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ett svømmebasseng på sko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en dusj på en bedrif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varmtvannsanlegg i to boligsameier</a:t>
            </a:r>
            <a:r>
              <a:rPr b="0" lang="nb-NO"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varmtvannsanlegg på </a:t>
            </a:r>
            <a:r>
              <a:rPr b="0" lang="nb-NO" sz="3200" spc="-1" strike="noStrike">
                <a:solidFill>
                  <a:srgbClr val="000000"/>
                </a:solidFill>
                <a:latin typeface="Times New Roman"/>
              </a:rPr>
              <a:t>ett hot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Våre retningslinjer i august 2003</a:t>
            </a:r>
            <a:endParaRPr b="0" lang="en-US" sz="4400" spc="-1" strike="noStrike">
              <a:solidFill>
                <a:srgbClr val="000000"/>
              </a:solidFill>
              <a:latin typeface="Times New Roman"/>
            </a:endParaRPr>
          </a:p>
        </p:txBody>
      </p:sp>
      <p:sp>
        <p:nvSpPr>
          <p:cNvPr id="12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Retningslinjer for tiltak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Behandling/desinfisering av vannet 2 ganger/å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itialt strengere krav enn nasjonale retningslinj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ilsynsbesø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ølger opp logg og intern-kontrollruti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tikkprøver (bakteriologiske, inspeksjo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genrapportering</a:t>
            </a:r>
            <a:endParaRPr b="0" lang="en-US" sz="2800" spc="-1" strike="noStrike">
              <a:solidFill>
                <a:srgbClr val="000000"/>
              </a:solidFill>
              <a:latin typeface="Times New Roman"/>
            </a:endParaRPr>
          </a:p>
          <a:p>
            <a:pPr marL="34308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75x91" descr=""/>
          <p:cNvPicPr/>
          <p:nvPr/>
        </p:nvPicPr>
        <p:blipFill>
          <a:blip r:embed="rId1"/>
          <a:stretch/>
        </p:blipFill>
        <p:spPr>
          <a:xfrm>
            <a:off x="609480" y="304920"/>
            <a:ext cx="638280" cy="780840"/>
          </a:xfrm>
          <a:prstGeom prst="rect">
            <a:avLst/>
          </a:prstGeom>
          <a:ln w="0">
            <a:noFill/>
          </a:ln>
        </p:spPr>
      </p:pic>
      <p:grpSp>
        <p:nvGrpSpPr>
          <p:cNvPr id="122" name=""/>
          <p:cNvGrpSpPr/>
          <p:nvPr/>
        </p:nvGrpSpPr>
        <p:grpSpPr>
          <a:xfrm>
            <a:off x="304920" y="609480"/>
            <a:ext cx="6459480" cy="1203480"/>
            <a:chOff x="304920" y="609480"/>
            <a:chExt cx="6459480" cy="1203480"/>
          </a:xfrm>
        </p:grpSpPr>
        <p:sp>
          <p:nvSpPr>
            <p:cNvPr id="123" name=""/>
            <p:cNvSpPr/>
            <p:nvPr/>
          </p:nvSpPr>
          <p:spPr>
            <a:xfrm>
              <a:off x="304920" y="609480"/>
              <a:ext cx="777600" cy="1203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1082520" y="609480"/>
              <a:ext cx="2733840" cy="120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1" lang="nb-NO" sz="1300" spc="-1" strike="noStrike">
                  <a:solidFill>
                    <a:srgbClr val="000000"/>
                  </a:solidFill>
                  <a:latin typeface="Times New Roman"/>
                  <a:ea typeface="Times New Roman"/>
                </a:rPr>
                <a:t>TRONDHEIM KOMMUNE</a:t>
              </a:r>
              <a:endParaRPr b="0" lang="en-US" sz="13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1" lang="nb-NO" sz="1200" spc="-1" strike="noStrike">
                  <a:solidFill>
                    <a:srgbClr val="000000"/>
                  </a:solidFill>
                  <a:latin typeface="Times New Roman"/>
                  <a:ea typeface="Times New Roman"/>
                </a:rPr>
                <a:t>Kommunoverlegen</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sp>
          <p:nvSpPr>
            <p:cNvPr id="125" name=""/>
            <p:cNvSpPr/>
            <p:nvPr/>
          </p:nvSpPr>
          <p:spPr>
            <a:xfrm>
              <a:off x="3816360" y="609480"/>
              <a:ext cx="2948040" cy="120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grpSp>
      <p:sp>
        <p:nvSpPr>
          <p:cNvPr id="126" name=""/>
          <p:cNvSpPr/>
          <p:nvPr/>
        </p:nvSpPr>
        <p:spPr>
          <a:xfrm>
            <a:off x="533520" y="1371600"/>
            <a:ext cx="990576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Borettslag og andre eiere av varmtvannsanlegg (unntatt enkelthusholdninger)</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Enheter i Trondheim kommune</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Enheter i Sør‑Trøndelag Fylkeskommune</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Enheter ved St.Olavs Hospital HF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Hoteller i Trondheim</a:t>
            </a:r>
            <a:endParaRPr b="0" lang="en-US" sz="1200" spc="-1" strike="noStrike">
              <a:solidFill>
                <a:srgbClr val="000000"/>
              </a:solidFill>
              <a:latin typeface="Times New Roman"/>
            </a:endParaRPr>
          </a:p>
        </p:txBody>
      </p:sp>
      <p:sp>
        <p:nvSpPr>
          <p:cNvPr id="127" name=""/>
          <p:cNvSpPr/>
          <p:nvPr/>
        </p:nvSpPr>
        <p:spPr>
          <a:xfrm>
            <a:off x="914400" y="2362320"/>
            <a:ext cx="9906120" cy="1204560"/>
          </a:xfrm>
          <a:prstGeom prst="rect">
            <a:avLst/>
          </a:prstGeom>
          <a:noFill/>
          <a:ln w="0">
            <a:noFill/>
          </a:ln>
        </p:spPr>
        <p:style>
          <a:lnRef idx="0"/>
          <a:fillRef idx="0"/>
          <a:effectRef idx="0"/>
          <a:fontRef idx="minor"/>
        </p:style>
        <p:txBody>
          <a:bodyPr lIns="90000" rIns="90000" tIns="46800" bIns="0" anchor="t">
            <a:sp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20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20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grpSp>
        <p:nvGrpSpPr>
          <p:cNvPr id="128" name=""/>
          <p:cNvGrpSpPr/>
          <p:nvPr/>
        </p:nvGrpSpPr>
        <p:grpSpPr>
          <a:xfrm>
            <a:off x="0" y="3765600"/>
            <a:ext cx="6176880" cy="1187280"/>
            <a:chOff x="0" y="3765600"/>
            <a:chExt cx="6176880" cy="1187280"/>
          </a:xfrm>
        </p:grpSpPr>
        <p:sp>
          <p:nvSpPr>
            <p:cNvPr id="129" name=""/>
            <p:cNvSpPr/>
            <p:nvPr/>
          </p:nvSpPr>
          <p:spPr>
            <a:xfrm>
              <a:off x="0" y="3765600"/>
              <a:ext cx="21956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179280"/>
                  <a:tab algn="r" pos="358920"/>
                  <a:tab algn="r" pos="539640"/>
                  <a:tab algn="r" pos="717480"/>
                  <a:tab algn="r" pos="898560"/>
                  <a:tab algn="r" pos="1077840"/>
                  <a:tab algn="r" pos="1258920"/>
                  <a:tab algn="r" pos="1438200"/>
                  <a:tab algn="r" pos="2157480"/>
                  <a:tab algn="r" pos="2876400"/>
                  <a:tab algn="r" pos="3595680"/>
                  <a:tab algn="r" pos="4314960"/>
                  <a:tab algn="r" pos="5033880"/>
                  <a:tab algn="r" pos="5759280"/>
                  <a:tab algn="r" pos="6113520"/>
                  <a:tab algn="l" pos="6858000"/>
                  <a:tab algn="l" pos="7620120"/>
                  <a:tab algn="l" pos="8381880"/>
                  <a:tab algn="l" pos="9144000"/>
                  <a:tab algn="l" pos="9906120"/>
                  <a:tab algn="l" pos="10667880"/>
                  <a:tab algn="r"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179280"/>
                  <a:tab algn="r" pos="358920"/>
                  <a:tab algn="r" pos="539640"/>
                  <a:tab algn="r" pos="717480"/>
                  <a:tab algn="r" pos="898560"/>
                  <a:tab algn="r" pos="1077840"/>
                  <a:tab algn="r" pos="1258920"/>
                  <a:tab algn="r" pos="1438200"/>
                  <a:tab algn="r" pos="2157480"/>
                  <a:tab algn="r" pos="2876400"/>
                  <a:tab algn="r" pos="3595680"/>
                  <a:tab algn="r" pos="4314960"/>
                  <a:tab algn="r" pos="5033880"/>
                  <a:tab algn="r" pos="5759280"/>
                  <a:tab algn="r" pos="6113520"/>
                  <a:tab algn="l" pos="6858000"/>
                  <a:tab algn="l" pos="7620120"/>
                  <a:tab algn="l" pos="8381880"/>
                  <a:tab algn="l" pos="9144000"/>
                  <a:tab algn="l" pos="9906120"/>
                  <a:tab algn="l" pos="10667880"/>
                  <a:tab algn="r" pos="103538160"/>
                </a:tabLst>
              </a:pPr>
              <a:r>
                <a:rPr b="0" lang="nb-NO" sz="1200" spc="-1" strike="noStrike">
                  <a:solidFill>
                    <a:srgbClr val="000000"/>
                  </a:solidFill>
                  <a:latin typeface="Times New Roman"/>
                  <a:ea typeface="Times New Roman"/>
                </a:rPr>
                <a:t>Vår saksbehandler</a:t>
              </a:r>
              <a:endParaRPr b="0" lang="en-US" sz="1200" spc="-1" strike="noStrike">
                <a:solidFill>
                  <a:srgbClr val="000000"/>
                </a:solidFill>
                <a:latin typeface="Times New Roman"/>
              </a:endParaRPr>
            </a:p>
            <a:p>
              <a:pPr>
                <a:tabLst>
                  <a:tab algn="l" pos="0"/>
                  <a:tab algn="r" pos="179280"/>
                  <a:tab algn="r" pos="358920"/>
                  <a:tab algn="r" pos="539640"/>
                  <a:tab algn="r" pos="717480"/>
                  <a:tab algn="r" pos="898560"/>
                  <a:tab algn="r" pos="1077840"/>
                  <a:tab algn="r" pos="1258920"/>
                  <a:tab algn="r" pos="1438200"/>
                  <a:tab algn="r" pos="2157480"/>
                  <a:tab algn="r" pos="2876400"/>
                  <a:tab algn="r" pos="3595680"/>
                  <a:tab algn="r" pos="4314960"/>
                  <a:tab algn="r" pos="5033880"/>
                  <a:tab algn="r" pos="5759280"/>
                  <a:tab algn="r" pos="6113520"/>
                  <a:tab algn="l" pos="6858000"/>
                  <a:tab algn="l" pos="7620120"/>
                  <a:tab algn="l" pos="8381880"/>
                  <a:tab algn="l" pos="9144000"/>
                  <a:tab algn="l" pos="9906120"/>
                  <a:tab algn="l" pos="10667880"/>
                  <a:tab algn="r" pos="103538160"/>
                </a:tabLst>
              </a:pPr>
              <a:r>
                <a:rPr b="0" lang="nb-NO" sz="1000" spc="-1" strike="noStrike">
                  <a:solidFill>
                    <a:srgbClr val="000000"/>
                  </a:solidFill>
                  <a:latin typeface="Times New Roman"/>
                  <a:ea typeface="Times New Roman"/>
                </a:rPr>
                <a:t>Helge Garåsen</a:t>
              </a:r>
              <a:endParaRPr b="0" lang="en-US" sz="1000" spc="-1" strike="noStrike">
                <a:solidFill>
                  <a:srgbClr val="000000"/>
                </a:solidFill>
                <a:latin typeface="Times New Roman"/>
              </a:endParaRPr>
            </a:p>
            <a:p>
              <a:pPr>
                <a:tabLst>
                  <a:tab algn="l" pos="0"/>
                  <a:tab algn="r" pos="179280"/>
                  <a:tab algn="r" pos="358920"/>
                  <a:tab algn="r" pos="539640"/>
                  <a:tab algn="r" pos="717480"/>
                  <a:tab algn="r" pos="898560"/>
                  <a:tab algn="r" pos="1077840"/>
                  <a:tab algn="r" pos="1258920"/>
                  <a:tab algn="r" pos="1438200"/>
                  <a:tab algn="r" pos="2157480"/>
                  <a:tab algn="r" pos="2876400"/>
                  <a:tab algn="r" pos="3595680"/>
                  <a:tab algn="r" pos="4314960"/>
                  <a:tab algn="r" pos="5033880"/>
                  <a:tab algn="r" pos="5759280"/>
                  <a:tab algn="r" pos="6113520"/>
                  <a:tab algn="l" pos="6858000"/>
                  <a:tab algn="l" pos="7620120"/>
                  <a:tab algn="l" pos="8381880"/>
                  <a:tab algn="l" pos="9144000"/>
                  <a:tab algn="l" pos="9906120"/>
                  <a:tab algn="l" pos="10667880"/>
                  <a:tab algn="r" pos="103538160"/>
                </a:tabLst>
              </a:pPr>
              <a:endParaRPr b="0" lang="en-US" sz="1000" spc="-1" strike="noStrike">
                <a:solidFill>
                  <a:srgbClr val="000000"/>
                </a:solidFill>
                <a:latin typeface="Times New Roman"/>
              </a:endParaRPr>
            </a:p>
          </p:txBody>
        </p:sp>
        <p:sp>
          <p:nvSpPr>
            <p:cNvPr id="130" name=""/>
            <p:cNvSpPr/>
            <p:nvPr/>
          </p:nvSpPr>
          <p:spPr>
            <a:xfrm>
              <a:off x="2195640" y="3765600"/>
              <a:ext cx="180000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Vår ref.</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03/26804/</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nb-NO" sz="1200" spc="-1" strike="noStrike">
                  <a:solidFill>
                    <a:srgbClr val="000000"/>
                  </a:solidFill>
                  <a:latin typeface="Times New Roman"/>
                  <a:ea typeface="Times New Roman"/>
                </a:rPr>
                <a:t>oppgis ved alle henv.</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sp>
          <p:nvSpPr>
            <p:cNvPr id="131" name=""/>
            <p:cNvSpPr/>
            <p:nvPr/>
          </p:nvSpPr>
          <p:spPr>
            <a:xfrm>
              <a:off x="3995640" y="3765600"/>
              <a:ext cx="1460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Deres ref.</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sp>
          <p:nvSpPr>
            <p:cNvPr id="132" name=""/>
            <p:cNvSpPr/>
            <p:nvPr/>
          </p:nvSpPr>
          <p:spPr>
            <a:xfrm>
              <a:off x="5456160" y="3765600"/>
              <a:ext cx="7207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Dato</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r>
                <a:rPr b="0" lang="en-US" sz="1200" spc="-1" strike="noStrike">
                  <a:solidFill>
                    <a:srgbClr val="000000"/>
                  </a:solidFill>
                  <a:latin typeface="Times New Roman"/>
                  <a:ea typeface="Times New Roman"/>
                </a:rPr>
                <a:t>26.09. 03</a:t>
              </a:r>
              <a:endParaRPr b="0" lang="en-US" sz="1200" spc="-1" strike="noStrike">
                <a:solidFill>
                  <a:srgbClr val="000000"/>
                </a:solidFill>
                <a:latin typeface="Times New Roman"/>
              </a:endParaRPr>
            </a:p>
            <a:p>
              <a:pPr>
                <a:tabLst>
                  <a:tab algn="l" pos="0"/>
                  <a:tab algn="l" pos="179280"/>
                  <a:tab algn="l" pos="358920"/>
                  <a:tab algn="l" pos="539640"/>
                  <a:tab algn="l" pos="717480"/>
                  <a:tab algn="l" pos="898560"/>
                  <a:tab algn="l" pos="1077840"/>
                  <a:tab algn="l" pos="1258920"/>
                  <a:tab algn="l" pos="1438200"/>
                  <a:tab algn="l" pos="2157480"/>
                  <a:tab algn="l" pos="2876400"/>
                  <a:tab algn="l" pos="3595680"/>
                  <a:tab algn="l" pos="4314960"/>
                  <a:tab algn="l" pos="5033880"/>
                  <a:tab algn="l" pos="5759280"/>
                  <a:tab algn="l" pos="6113520"/>
                  <a:tab algn="l" pos="6858000"/>
                  <a:tab algn="l" pos="7620120"/>
                  <a:tab algn="l" pos="8381880"/>
                  <a:tab algn="l" pos="9144000"/>
                  <a:tab algn="l" pos="9906120"/>
                  <a:tab algn="l" pos="10667880"/>
                  <a:tab algn="l" pos="103538160"/>
                </a:tabLst>
              </a:pPr>
              <a:endParaRPr b="0" lang="en-US" sz="1200" spc="-1" strike="noStrike">
                <a:solidFill>
                  <a:srgbClr val="000000"/>
                </a:solidFill>
                <a:latin typeface="Times New Roman"/>
              </a:endParaRPr>
            </a:p>
          </p:txBody>
        </p:sp>
      </p:grpSp>
      <p:sp>
        <p:nvSpPr>
          <p:cNvPr id="133" name=""/>
          <p:cNvSpPr/>
          <p:nvPr/>
        </p:nvSpPr>
        <p:spPr>
          <a:xfrm>
            <a:off x="457200" y="4575240"/>
            <a:ext cx="9906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1"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1" lang="nb-NO" sz="1200" spc="-1" strike="noStrike">
                <a:solidFill>
                  <a:srgbClr val="000000"/>
                </a:solidFill>
                <a:latin typeface="Times New Roman"/>
                <a:ea typeface="Times New Roman"/>
              </a:rPr>
              <a:t>FOREBYGGING OG KONTROLL AV LEGIONELLASMITTE I VARMTVANNSANLEGG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Times New Roman"/>
                <a:ea typeface="Times New Roman"/>
              </a:rPr>
              <a:t>Legionellabakterien er vanlig forekommende i naturen og finnes i overflatevann og i jordsmonn, men konsentrasjonen er gjennomgående lav. Mange arter og typer av bakterien finnes, den viktigste heter Legionella pneumophila. Legionellabakterien overføres gjennom innånding av luftbårne små vanndråper (vanndamp) fra infiserte vannsystemer, men smitter ikke fra person til person. Bakterien forårsaker i milde tilfeller en influensalignende sykdom (pontiacfeber) og i alvorlige tilfeller en kraftig lungebetennelse (legionærsykdom).</a:t>
            </a:r>
            <a:endParaRPr b="0" lang="en-US" sz="1200" spc="-1" strike="noStrike">
              <a:solidFill>
                <a:srgbClr val="000000"/>
              </a:solidFill>
              <a:latin typeface="Times New Roman"/>
            </a:endParaRPr>
          </a:p>
          <a:p>
            <a:pPr>
              <a:tabLst>
                <a:tab algn="l" pos="0"/>
                <a:tab algn="l" pos="179280"/>
                <a:tab algn="l" pos="358920"/>
                <a:tab algn="l" pos="539640"/>
                <a:tab algn="l" pos="719280"/>
                <a:tab algn="l" pos="898560"/>
                <a:tab algn="l" pos="1079640"/>
                <a:tab algn="l" pos="1800360"/>
                <a:tab algn="l" pos="2519280"/>
                <a:tab algn="l" pos="3240000"/>
                <a:tab algn="l" pos="3959280"/>
                <a:tab algn="l" pos="4680000"/>
                <a:tab algn="l" pos="521964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752480" y="0"/>
            <a:ext cx="6254640" cy="7162920"/>
            <a:chOff x="1752480" y="0"/>
            <a:chExt cx="6254640" cy="7162920"/>
          </a:xfrm>
        </p:grpSpPr>
        <p:grpSp>
          <p:nvGrpSpPr>
            <p:cNvPr id="135" name=""/>
            <p:cNvGrpSpPr/>
            <p:nvPr/>
          </p:nvGrpSpPr>
          <p:grpSpPr>
            <a:xfrm>
              <a:off x="1757160" y="4320"/>
              <a:ext cx="6245280" cy="7153200"/>
              <a:chOff x="1757160" y="4320"/>
              <a:chExt cx="6245280" cy="7153200"/>
            </a:xfrm>
          </p:grpSpPr>
          <p:grpSp>
            <p:nvGrpSpPr>
              <p:cNvPr id="136" name=""/>
              <p:cNvGrpSpPr/>
              <p:nvPr/>
            </p:nvGrpSpPr>
            <p:grpSpPr>
              <a:xfrm>
                <a:off x="1757160" y="4320"/>
                <a:ext cx="1214280" cy="790920"/>
                <a:chOff x="1757160" y="4320"/>
                <a:chExt cx="1214280" cy="790920"/>
              </a:xfrm>
            </p:grpSpPr>
            <p:sp>
              <p:nvSpPr>
                <p:cNvPr id="137" name=""/>
                <p:cNvSpPr/>
                <p:nvPr/>
              </p:nvSpPr>
              <p:spPr>
                <a:xfrm>
                  <a:off x="1757160" y="4320"/>
                  <a:ext cx="121428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r>
                    <a:rPr b="1" lang="nb-NO" sz="1000" spc="-1" strike="noStrike">
                      <a:solidFill>
                        <a:srgbClr val="000000"/>
                      </a:solidFill>
                      <a:latin typeface="Times New Roman"/>
                      <a:ea typeface="Times New Roman"/>
                    </a:rPr>
                    <a:t>Anleggstype</a:t>
                  </a: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38" name=""/>
                <p:cNvSpPr/>
                <p:nvPr/>
              </p:nvSpPr>
              <p:spPr>
                <a:xfrm>
                  <a:off x="1757160" y="4320"/>
                  <a:ext cx="121428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971440" y="4320"/>
                <a:ext cx="3149640" cy="790920"/>
                <a:chOff x="2971440" y="4320"/>
                <a:chExt cx="3149640" cy="790920"/>
              </a:xfrm>
            </p:grpSpPr>
            <p:sp>
              <p:nvSpPr>
                <p:cNvPr id="140" name=""/>
                <p:cNvSpPr/>
                <p:nvPr/>
              </p:nvSpPr>
              <p:spPr>
                <a:xfrm>
                  <a:off x="2971440" y="4320"/>
                  <a:ext cx="314964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Oppgave</a:t>
                  </a:r>
                  <a:endParaRPr b="0" lang="en-US" sz="1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41" name=""/>
                <p:cNvSpPr/>
                <p:nvPr/>
              </p:nvSpPr>
              <p:spPr>
                <a:xfrm>
                  <a:off x="2971440" y="4320"/>
                  <a:ext cx="314964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6121080" y="4320"/>
                <a:ext cx="981360" cy="790920"/>
                <a:chOff x="6121080" y="4320"/>
                <a:chExt cx="981360" cy="790920"/>
              </a:xfrm>
            </p:grpSpPr>
            <p:sp>
              <p:nvSpPr>
                <p:cNvPr id="143" name=""/>
                <p:cNvSpPr/>
                <p:nvPr/>
              </p:nvSpPr>
              <p:spPr>
                <a:xfrm>
                  <a:off x="6121080" y="4320"/>
                  <a:ext cx="98136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Mål</a:t>
                  </a:r>
                  <a:endParaRPr b="0" lang="en-US" sz="1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44" name=""/>
                <p:cNvSpPr/>
                <p:nvPr/>
              </p:nvSpPr>
              <p:spPr>
                <a:xfrm>
                  <a:off x="6121080" y="4320"/>
                  <a:ext cx="98136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7102440" y="4320"/>
                <a:ext cx="900000" cy="790920"/>
                <a:chOff x="7102440" y="4320"/>
                <a:chExt cx="900000" cy="790920"/>
              </a:xfrm>
            </p:grpSpPr>
            <p:sp>
              <p:nvSpPr>
                <p:cNvPr id="146" name=""/>
                <p:cNvSpPr/>
                <p:nvPr/>
              </p:nvSpPr>
              <p:spPr>
                <a:xfrm>
                  <a:off x="7102440" y="4320"/>
                  <a:ext cx="90000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Hyppighet</a:t>
                  </a:r>
                  <a:endParaRPr b="0" lang="en-US" sz="1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47" name=""/>
                <p:cNvSpPr/>
                <p:nvPr/>
              </p:nvSpPr>
              <p:spPr>
                <a:xfrm>
                  <a:off x="7102440" y="4320"/>
                  <a:ext cx="90000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757160" y="795240"/>
                <a:ext cx="1214280" cy="791280"/>
                <a:chOff x="1757160" y="795240"/>
                <a:chExt cx="1214280" cy="791280"/>
              </a:xfrm>
            </p:grpSpPr>
            <p:sp>
              <p:nvSpPr>
                <p:cNvPr id="149" name=""/>
                <p:cNvSpPr/>
                <p:nvPr/>
              </p:nvSpPr>
              <p:spPr>
                <a:xfrm>
                  <a:off x="1757160" y="795240"/>
                  <a:ext cx="121428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Varmtvannsanlegg</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0" name=""/>
                <p:cNvSpPr/>
                <p:nvPr/>
              </p:nvSpPr>
              <p:spPr>
                <a:xfrm>
                  <a:off x="1757160" y="795240"/>
                  <a:ext cx="121428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2971440" y="795240"/>
                <a:ext cx="3149640" cy="791280"/>
                <a:chOff x="2971440" y="795240"/>
                <a:chExt cx="3149640" cy="791280"/>
              </a:xfrm>
            </p:grpSpPr>
            <p:sp>
              <p:nvSpPr>
                <p:cNvPr id="152" name=""/>
                <p:cNvSpPr/>
                <p:nvPr/>
              </p:nvSpPr>
              <p:spPr>
                <a:xfrm>
                  <a:off x="2971440" y="795240"/>
                  <a:ext cx="314964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Sjokkoppvarm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53" name=""/>
                <p:cNvSpPr/>
                <p:nvPr/>
              </p:nvSpPr>
              <p:spPr>
                <a:xfrm>
                  <a:off x="2971440" y="795240"/>
                  <a:ext cx="314964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6121080" y="795240"/>
                <a:ext cx="981360" cy="791280"/>
                <a:chOff x="6121080" y="795240"/>
                <a:chExt cx="981360" cy="791280"/>
              </a:xfrm>
            </p:grpSpPr>
            <p:sp>
              <p:nvSpPr>
                <p:cNvPr id="155" name=""/>
                <p:cNvSpPr/>
                <p:nvPr/>
              </p:nvSpPr>
              <p:spPr>
                <a:xfrm>
                  <a:off x="6121080" y="795240"/>
                  <a:ext cx="981360" cy="79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6" name=""/>
                <p:cNvSpPr/>
                <p:nvPr/>
              </p:nvSpPr>
              <p:spPr>
                <a:xfrm>
                  <a:off x="6121080" y="795240"/>
                  <a:ext cx="98136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7102440" y="795240"/>
                <a:ext cx="900000" cy="791280"/>
                <a:chOff x="7102440" y="795240"/>
                <a:chExt cx="900000" cy="791280"/>
              </a:xfrm>
            </p:grpSpPr>
            <p:sp>
              <p:nvSpPr>
                <p:cNvPr id="158" name=""/>
                <p:cNvSpPr/>
                <p:nvPr/>
              </p:nvSpPr>
              <p:spPr>
                <a:xfrm>
                  <a:off x="7102440" y="795240"/>
                  <a:ext cx="90000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Halvårli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59" name=""/>
                <p:cNvSpPr/>
                <p:nvPr/>
              </p:nvSpPr>
              <p:spPr>
                <a:xfrm>
                  <a:off x="7102440" y="795240"/>
                  <a:ext cx="90000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757160" y="1586880"/>
                <a:ext cx="1214280" cy="1065240"/>
                <a:chOff x="1757160" y="1586880"/>
                <a:chExt cx="1214280" cy="1065240"/>
              </a:xfrm>
            </p:grpSpPr>
            <p:sp>
              <p:nvSpPr>
                <p:cNvPr id="161" name=""/>
                <p:cNvSpPr/>
                <p:nvPr/>
              </p:nvSpPr>
              <p:spPr>
                <a:xfrm>
                  <a:off x="1757160" y="1586880"/>
                  <a:ext cx="1214280" cy="10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2" name=""/>
                <p:cNvSpPr/>
                <p:nvPr/>
              </p:nvSpPr>
              <p:spPr>
                <a:xfrm>
                  <a:off x="1757160" y="1586880"/>
                  <a:ext cx="1214280" cy="106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971440" y="1586880"/>
                <a:ext cx="3149640" cy="1065240"/>
                <a:chOff x="2971440" y="1586880"/>
                <a:chExt cx="3149640" cy="1065240"/>
              </a:xfrm>
            </p:grpSpPr>
            <p:sp>
              <p:nvSpPr>
                <p:cNvPr id="164" name=""/>
                <p:cNvSpPr/>
                <p:nvPr/>
              </p:nvSpPr>
              <p:spPr>
                <a:xfrm>
                  <a:off x="2971440" y="1586880"/>
                  <a:ext cx="3149640" cy="10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000" spc="-1" strike="noStrike">
                      <a:solidFill>
                        <a:srgbClr val="000000"/>
                      </a:solidFill>
                      <a:latin typeface="Times New Roman"/>
                      <a:ea typeface="Times New Roman"/>
                    </a:rPr>
                    <a:t>Desinfeksjon med klor (evt. som erstatning/tillegg til sjokkoppvarm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5" name=""/>
                <p:cNvSpPr/>
                <p:nvPr/>
              </p:nvSpPr>
              <p:spPr>
                <a:xfrm>
                  <a:off x="2971440" y="1586880"/>
                  <a:ext cx="3149640" cy="106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6121080" y="1586880"/>
                <a:ext cx="981360" cy="1065240"/>
                <a:chOff x="6121080" y="1586880"/>
                <a:chExt cx="981360" cy="1065240"/>
              </a:xfrm>
            </p:grpSpPr>
            <p:sp>
              <p:nvSpPr>
                <p:cNvPr id="167" name=""/>
                <p:cNvSpPr/>
                <p:nvPr/>
              </p:nvSpPr>
              <p:spPr>
                <a:xfrm>
                  <a:off x="6121080" y="1586880"/>
                  <a:ext cx="981360" cy="106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8" name=""/>
                <p:cNvSpPr/>
                <p:nvPr/>
              </p:nvSpPr>
              <p:spPr>
                <a:xfrm>
                  <a:off x="6121080" y="1586880"/>
                  <a:ext cx="981360" cy="106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7102440" y="1586880"/>
                <a:ext cx="900000" cy="1065240"/>
                <a:chOff x="7102440" y="1586880"/>
                <a:chExt cx="900000" cy="1065240"/>
              </a:xfrm>
            </p:grpSpPr>
            <p:sp>
              <p:nvSpPr>
                <p:cNvPr id="170" name=""/>
                <p:cNvSpPr/>
                <p:nvPr/>
              </p:nvSpPr>
              <p:spPr>
                <a:xfrm>
                  <a:off x="7102440" y="1586880"/>
                  <a:ext cx="900000" cy="10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Bestemmes ved risikovurder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71" name=""/>
                <p:cNvSpPr/>
                <p:nvPr/>
              </p:nvSpPr>
              <p:spPr>
                <a:xfrm>
                  <a:off x="7102440" y="1586880"/>
                  <a:ext cx="900000" cy="106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757160" y="2652480"/>
                <a:ext cx="1214280" cy="913320"/>
                <a:chOff x="1757160" y="2652480"/>
                <a:chExt cx="1214280" cy="913320"/>
              </a:xfrm>
            </p:grpSpPr>
            <p:sp>
              <p:nvSpPr>
                <p:cNvPr id="173" name=""/>
                <p:cNvSpPr/>
                <p:nvPr/>
              </p:nvSpPr>
              <p:spPr>
                <a:xfrm>
                  <a:off x="1757160" y="2652480"/>
                  <a:ext cx="1214280" cy="91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4" name=""/>
                <p:cNvSpPr/>
                <p:nvPr/>
              </p:nvSpPr>
              <p:spPr>
                <a:xfrm>
                  <a:off x="1757160" y="2652480"/>
                  <a:ext cx="1214280" cy="91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2971440" y="2652480"/>
                <a:ext cx="3149640" cy="913320"/>
                <a:chOff x="2971440" y="2652480"/>
                <a:chExt cx="3149640" cy="913320"/>
              </a:xfrm>
            </p:grpSpPr>
            <p:sp>
              <p:nvSpPr>
                <p:cNvPr id="176" name=""/>
                <p:cNvSpPr/>
                <p:nvPr/>
              </p:nvSpPr>
              <p:spPr>
                <a:xfrm>
                  <a:off x="2971440" y="2652480"/>
                  <a:ext cx="3149640" cy="91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Måle vanntemperaturen i varmtvannsbereder, utgående vann må holde                                                          returvann</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77" name=""/>
                <p:cNvSpPr/>
                <p:nvPr/>
              </p:nvSpPr>
              <p:spPr>
                <a:xfrm>
                  <a:off x="2971440" y="2652480"/>
                  <a:ext cx="3149640" cy="91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6121080" y="2652480"/>
                <a:ext cx="981360" cy="913320"/>
                <a:chOff x="6121080" y="2652480"/>
                <a:chExt cx="981360" cy="913320"/>
              </a:xfrm>
            </p:grpSpPr>
            <p:sp>
              <p:nvSpPr>
                <p:cNvPr id="179" name=""/>
                <p:cNvSpPr/>
                <p:nvPr/>
              </p:nvSpPr>
              <p:spPr>
                <a:xfrm>
                  <a:off x="6121080" y="2652480"/>
                  <a:ext cx="981360" cy="91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6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C</a:t>
                  </a:r>
                  <a:br>
                    <a:rPr sz="1000"/>
                  </a:b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5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C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80" name=""/>
                <p:cNvSpPr/>
                <p:nvPr/>
              </p:nvSpPr>
              <p:spPr>
                <a:xfrm>
                  <a:off x="6121080" y="2652480"/>
                  <a:ext cx="981360" cy="91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102440" y="2652480"/>
                <a:ext cx="900000" cy="913320"/>
                <a:chOff x="7102440" y="2652480"/>
                <a:chExt cx="900000" cy="913320"/>
              </a:xfrm>
            </p:grpSpPr>
            <p:sp>
              <p:nvSpPr>
                <p:cNvPr id="182" name=""/>
                <p:cNvSpPr/>
                <p:nvPr/>
              </p:nvSpPr>
              <p:spPr>
                <a:xfrm>
                  <a:off x="7102440" y="2652480"/>
                  <a:ext cx="900000" cy="91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ånedli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83" name=""/>
                <p:cNvSpPr/>
                <p:nvPr/>
              </p:nvSpPr>
              <p:spPr>
                <a:xfrm>
                  <a:off x="7102440" y="2652480"/>
                  <a:ext cx="900000" cy="91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757160" y="3565800"/>
                <a:ext cx="1214280" cy="791280"/>
                <a:chOff x="1757160" y="3565800"/>
                <a:chExt cx="1214280" cy="791280"/>
              </a:xfrm>
            </p:grpSpPr>
            <p:sp>
              <p:nvSpPr>
                <p:cNvPr id="185" name=""/>
                <p:cNvSpPr/>
                <p:nvPr/>
              </p:nvSpPr>
              <p:spPr>
                <a:xfrm>
                  <a:off x="1757160" y="3565800"/>
                  <a:ext cx="121428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1757160" y="3565800"/>
                  <a:ext cx="121428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971440" y="3565800"/>
                <a:ext cx="3149640" cy="791280"/>
                <a:chOff x="2971440" y="3565800"/>
                <a:chExt cx="3149640" cy="791280"/>
              </a:xfrm>
            </p:grpSpPr>
            <p:sp>
              <p:nvSpPr>
                <p:cNvPr id="188" name=""/>
                <p:cNvSpPr/>
                <p:nvPr/>
              </p:nvSpPr>
              <p:spPr>
                <a:xfrm>
                  <a:off x="2971440" y="3565800"/>
                  <a:ext cx="314964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Måle vanntemperaturen på et utvalg av faste tappepunkt</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89" name=""/>
                <p:cNvSpPr/>
                <p:nvPr/>
              </p:nvSpPr>
              <p:spPr>
                <a:xfrm>
                  <a:off x="2971440" y="3565800"/>
                  <a:ext cx="314964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6121080" y="3565800"/>
                <a:ext cx="981360" cy="791280"/>
                <a:chOff x="6121080" y="3565800"/>
                <a:chExt cx="981360" cy="791280"/>
              </a:xfrm>
            </p:grpSpPr>
            <p:sp>
              <p:nvSpPr>
                <p:cNvPr id="191" name=""/>
                <p:cNvSpPr/>
                <p:nvPr/>
              </p:nvSpPr>
              <p:spPr>
                <a:xfrm>
                  <a:off x="6121080" y="3565800"/>
                  <a:ext cx="981360" cy="79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5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C etter 1 min.</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92" name=""/>
                <p:cNvSpPr/>
                <p:nvPr/>
              </p:nvSpPr>
              <p:spPr>
                <a:xfrm>
                  <a:off x="6121080" y="3565800"/>
                  <a:ext cx="98136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102440" y="3565800"/>
                <a:ext cx="900000" cy="791280"/>
                <a:chOff x="7102440" y="3565800"/>
                <a:chExt cx="900000" cy="791280"/>
              </a:xfrm>
            </p:grpSpPr>
            <p:sp>
              <p:nvSpPr>
                <p:cNvPr id="194" name=""/>
                <p:cNvSpPr/>
                <p:nvPr/>
              </p:nvSpPr>
              <p:spPr>
                <a:xfrm>
                  <a:off x="7102440" y="3565800"/>
                  <a:ext cx="900000" cy="79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Månedli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95" name=""/>
                <p:cNvSpPr/>
                <p:nvPr/>
              </p:nvSpPr>
              <p:spPr>
                <a:xfrm>
                  <a:off x="7102440" y="3565800"/>
                  <a:ext cx="900000" cy="79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1757160" y="4357440"/>
                <a:ext cx="1214280" cy="1247760"/>
                <a:chOff x="1757160" y="4357440"/>
                <a:chExt cx="1214280" cy="1247760"/>
              </a:xfrm>
            </p:grpSpPr>
            <p:sp>
              <p:nvSpPr>
                <p:cNvPr id="197" name=""/>
                <p:cNvSpPr/>
                <p:nvPr/>
              </p:nvSpPr>
              <p:spPr>
                <a:xfrm>
                  <a:off x="1757160" y="4357440"/>
                  <a:ext cx="121428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Termostatstyrte blandebatterier ( når slike er installert)</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8" name=""/>
                <p:cNvSpPr/>
                <p:nvPr/>
              </p:nvSpPr>
              <p:spPr>
                <a:xfrm>
                  <a:off x="1757160" y="4357440"/>
                  <a:ext cx="1214280" cy="124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971440" y="4357440"/>
                <a:ext cx="3149640" cy="1247760"/>
                <a:chOff x="2971440" y="4357440"/>
                <a:chExt cx="3149640" cy="1247760"/>
              </a:xfrm>
            </p:grpSpPr>
            <p:sp>
              <p:nvSpPr>
                <p:cNvPr id="200" name=""/>
                <p:cNvSpPr/>
                <p:nvPr/>
              </p:nvSpPr>
              <p:spPr>
                <a:xfrm>
                  <a:off x="2971440" y="4357440"/>
                  <a:ext cx="314964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Varmtvannet som føres inn i termostatstyrte blandebatterier skal holde</a:t>
                  </a:r>
                  <a:br>
                    <a:rPr sz="1000"/>
                  </a:br>
                  <a:r>
                    <a:rPr b="0" lang="en-US" sz="1000" spc="-1" strike="noStrike">
                      <a:solidFill>
                        <a:srgbClr val="000000"/>
                      </a:solidFill>
                      <a:latin typeface="Times New Roman"/>
                      <a:ea typeface="Times New Roman"/>
                    </a:rPr>
                    <a:t>(Dette kan måles ved å benytte en overflatesonde for temperaturmål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01" name=""/>
                <p:cNvSpPr/>
                <p:nvPr/>
              </p:nvSpPr>
              <p:spPr>
                <a:xfrm>
                  <a:off x="2971440" y="4357440"/>
                  <a:ext cx="3149640" cy="124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121080" y="4357440"/>
                <a:ext cx="981360" cy="1247760"/>
                <a:chOff x="6121080" y="4357440"/>
                <a:chExt cx="981360" cy="1247760"/>
              </a:xfrm>
            </p:grpSpPr>
            <p:sp>
              <p:nvSpPr>
                <p:cNvPr id="203" name=""/>
                <p:cNvSpPr/>
                <p:nvPr/>
              </p:nvSpPr>
              <p:spPr>
                <a:xfrm>
                  <a:off x="6121080" y="4357440"/>
                  <a:ext cx="981360" cy="12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55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C etter 1 min. </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04" name=""/>
                <p:cNvSpPr/>
                <p:nvPr/>
              </p:nvSpPr>
              <p:spPr>
                <a:xfrm>
                  <a:off x="6121080" y="4357440"/>
                  <a:ext cx="981360" cy="124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102440" y="4357440"/>
                <a:ext cx="900000" cy="1247760"/>
                <a:chOff x="7102440" y="4357440"/>
                <a:chExt cx="900000" cy="1247760"/>
              </a:xfrm>
            </p:grpSpPr>
            <p:sp>
              <p:nvSpPr>
                <p:cNvPr id="206" name=""/>
                <p:cNvSpPr/>
                <p:nvPr/>
              </p:nvSpPr>
              <p:spPr>
                <a:xfrm>
                  <a:off x="7102440" y="4357440"/>
                  <a:ext cx="90000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Månedli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07" name=""/>
                <p:cNvSpPr/>
                <p:nvPr/>
              </p:nvSpPr>
              <p:spPr>
                <a:xfrm>
                  <a:off x="7102440" y="4357440"/>
                  <a:ext cx="900000" cy="124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757160" y="5605200"/>
                <a:ext cx="1214280" cy="761040"/>
                <a:chOff x="1757160" y="5605200"/>
                <a:chExt cx="1214280" cy="761040"/>
              </a:xfrm>
            </p:grpSpPr>
            <p:sp>
              <p:nvSpPr>
                <p:cNvPr id="209" name=""/>
                <p:cNvSpPr/>
                <p:nvPr/>
              </p:nvSpPr>
              <p:spPr>
                <a:xfrm>
                  <a:off x="1757160" y="5605200"/>
                  <a:ext cx="121428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Tappesteder sjelden i bruk</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10" name=""/>
                <p:cNvSpPr/>
                <p:nvPr/>
              </p:nvSpPr>
              <p:spPr>
                <a:xfrm>
                  <a:off x="1757160" y="5605200"/>
                  <a:ext cx="1214280" cy="76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971440" y="5605200"/>
                <a:ext cx="3149640" cy="761040"/>
                <a:chOff x="2971440" y="5605200"/>
                <a:chExt cx="3149640" cy="761040"/>
              </a:xfrm>
            </p:grpSpPr>
            <p:sp>
              <p:nvSpPr>
                <p:cNvPr id="212" name=""/>
                <p:cNvSpPr/>
                <p:nvPr/>
              </p:nvSpPr>
              <p:spPr>
                <a:xfrm>
                  <a:off x="2971440" y="5605200"/>
                  <a:ext cx="314964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Gjennomskyll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13" name=""/>
                <p:cNvSpPr/>
                <p:nvPr/>
              </p:nvSpPr>
              <p:spPr>
                <a:xfrm>
                  <a:off x="2971440" y="5605200"/>
                  <a:ext cx="3149640" cy="76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6121080" y="5605200"/>
                <a:ext cx="981360" cy="761040"/>
                <a:chOff x="6121080" y="5605200"/>
                <a:chExt cx="981360" cy="761040"/>
              </a:xfrm>
            </p:grpSpPr>
            <p:sp>
              <p:nvSpPr>
                <p:cNvPr id="215" name=""/>
                <p:cNvSpPr/>
                <p:nvPr/>
              </p:nvSpPr>
              <p:spPr>
                <a:xfrm>
                  <a:off x="6121080" y="5605200"/>
                  <a:ext cx="981360" cy="76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6" name=""/>
                <p:cNvSpPr/>
                <p:nvPr/>
              </p:nvSpPr>
              <p:spPr>
                <a:xfrm>
                  <a:off x="6121080" y="5605200"/>
                  <a:ext cx="981360" cy="76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7102440" y="5605200"/>
                <a:ext cx="900000" cy="761040"/>
                <a:chOff x="7102440" y="5605200"/>
                <a:chExt cx="900000" cy="761040"/>
              </a:xfrm>
            </p:grpSpPr>
            <p:sp>
              <p:nvSpPr>
                <p:cNvPr id="218" name=""/>
                <p:cNvSpPr/>
                <p:nvPr/>
              </p:nvSpPr>
              <p:spPr>
                <a:xfrm>
                  <a:off x="7102440" y="5605200"/>
                  <a:ext cx="900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Ukentli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19" name=""/>
                <p:cNvSpPr/>
                <p:nvPr/>
              </p:nvSpPr>
              <p:spPr>
                <a:xfrm>
                  <a:off x="7102440" y="5605200"/>
                  <a:ext cx="900000" cy="76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1757160" y="6366600"/>
                <a:ext cx="1214280" cy="790920"/>
                <a:chOff x="1757160" y="6366600"/>
                <a:chExt cx="1214280" cy="790920"/>
              </a:xfrm>
            </p:grpSpPr>
            <p:sp>
              <p:nvSpPr>
                <p:cNvPr id="221" name=""/>
                <p:cNvSpPr/>
                <p:nvPr/>
              </p:nvSpPr>
              <p:spPr>
                <a:xfrm>
                  <a:off x="1757160" y="6366600"/>
                  <a:ext cx="121428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Dusjhoder</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22" name=""/>
                <p:cNvSpPr/>
                <p:nvPr/>
              </p:nvSpPr>
              <p:spPr>
                <a:xfrm>
                  <a:off x="1757160" y="6366600"/>
                  <a:ext cx="121428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971440" y="6366600"/>
                <a:ext cx="3149640" cy="790920"/>
                <a:chOff x="2971440" y="6366600"/>
                <a:chExt cx="3149640" cy="790920"/>
              </a:xfrm>
            </p:grpSpPr>
            <p:sp>
              <p:nvSpPr>
                <p:cNvPr id="224" name=""/>
                <p:cNvSpPr/>
                <p:nvPr/>
              </p:nvSpPr>
              <p:spPr>
                <a:xfrm>
                  <a:off x="2971440" y="6366600"/>
                  <a:ext cx="314964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1000" spc="-1" strike="noStrike">
                      <a:solidFill>
                        <a:srgbClr val="000000"/>
                      </a:solidFill>
                      <a:latin typeface="Times New Roman"/>
                      <a:ea typeface="Times New Roman"/>
                    </a:rPr>
                    <a:t>Demontere, rengjøre og fjerne belegg (inkludert dusjslange). Evt. kloring</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25" name=""/>
                <p:cNvSpPr/>
                <p:nvPr/>
              </p:nvSpPr>
              <p:spPr>
                <a:xfrm>
                  <a:off x="2971440" y="6366600"/>
                  <a:ext cx="314964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6121080" y="6366600"/>
                <a:ext cx="981360" cy="790920"/>
                <a:chOff x="6121080" y="6366600"/>
                <a:chExt cx="981360" cy="790920"/>
              </a:xfrm>
            </p:grpSpPr>
            <p:sp>
              <p:nvSpPr>
                <p:cNvPr id="227" name=""/>
                <p:cNvSpPr/>
                <p:nvPr/>
              </p:nvSpPr>
              <p:spPr>
                <a:xfrm>
                  <a:off x="6121080" y="6366600"/>
                  <a:ext cx="98136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Rene dusjhoder</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28" name=""/>
                <p:cNvSpPr/>
                <p:nvPr/>
              </p:nvSpPr>
              <p:spPr>
                <a:xfrm>
                  <a:off x="6121080" y="6366600"/>
                  <a:ext cx="98136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7102440" y="6366600"/>
                <a:ext cx="900000" cy="790920"/>
                <a:chOff x="7102440" y="6366600"/>
                <a:chExt cx="900000" cy="790920"/>
              </a:xfrm>
            </p:grpSpPr>
            <p:sp>
              <p:nvSpPr>
                <p:cNvPr id="230" name=""/>
                <p:cNvSpPr/>
                <p:nvPr/>
              </p:nvSpPr>
              <p:spPr>
                <a:xfrm>
                  <a:off x="7102440" y="6366600"/>
                  <a:ext cx="90000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ea typeface="Times New Roman"/>
                    </a:rPr>
                    <a:t>Kvartalsvis</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231" name=""/>
                <p:cNvSpPr/>
                <p:nvPr/>
              </p:nvSpPr>
              <p:spPr>
                <a:xfrm>
                  <a:off x="7102440" y="6366600"/>
                  <a:ext cx="90000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1752480" y="0"/>
              <a:ext cx="6254640" cy="7162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Hva kan alle gjøre?</a:t>
            </a:r>
            <a:endParaRPr b="0" lang="en-US" sz="4400" spc="-1" strike="noStrike">
              <a:solidFill>
                <a:srgbClr val="000000"/>
              </a:solidFill>
              <a:latin typeface="Times New Roman"/>
            </a:endParaRPr>
          </a:p>
        </p:txBody>
      </p:sp>
      <p:sp>
        <p:nvSpPr>
          <p:cNvPr id="234"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Temp. i varmtvannsbeholder &gt; 65 gr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Temp. på tappested &gt; 55 gr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Temp. på tappested &gt; 38 grad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Gjennomskylling av kraner som brukes sjel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Rense dusjhoder, slanger (klor)</a:t>
            </a:r>
            <a:endParaRPr b="0" lang="en-US" sz="32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1056636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1056636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Ny midlertidig forskrift om legionellasmitte fra kjøletårn (1)</a:t>
            </a:r>
            <a:endParaRPr b="0" lang="en-US" sz="4400" spc="-1" strike="noStrike">
              <a:solidFill>
                <a:srgbClr val="000000"/>
              </a:solidFill>
              <a:latin typeface="Times New Roman"/>
            </a:endParaRPr>
          </a:p>
        </p:txBody>
      </p:sp>
      <p:sp>
        <p:nvSpPr>
          <p:cNvPr id="23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Virksomhetsansvarlige sk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innen mandag 30. mai kl 24.00 s</a:t>
            </a:r>
            <a:r>
              <a:rPr b="0" lang="en-US" sz="2800" spc="-1" strike="noStrike">
                <a:solidFill>
                  <a:srgbClr val="000000"/>
                </a:solidFill>
                <a:latin typeface="Times New Roman"/>
                <a:ea typeface="Times New Roman"/>
              </a:rPr>
              <a:t>ende skriftlig melding til kommunen om status for sitt anlegg og angi tidspunkt for når rengjøring og desinfeksjon av anlegget sist skjed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umiddelbart innstille driften dersom ikke kjøletårnet er tilfredsstillende vedlikehold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lding om dette skal sendes kommunen innen samme tidspunkt</a:t>
            </a:r>
            <a:r>
              <a:rPr b="0"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Ny midlertidig forskrift om legionellasmitte fra kjøletårn (2)</a:t>
            </a:r>
            <a:endParaRPr b="0" lang="en-US" sz="4400" spc="-1" strike="noStrike">
              <a:solidFill>
                <a:srgbClr val="000000"/>
              </a:solidFill>
              <a:latin typeface="Times New Roman"/>
            </a:endParaRPr>
          </a:p>
        </p:txBody>
      </p:sp>
      <p:sp>
        <p:nvSpPr>
          <p:cNvPr id="24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6000"/>
          </a:bodyPr>
          <a:p>
            <a:pPr marL="32904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    </a:t>
            </a:r>
            <a:r>
              <a:rPr b="0" lang="nb-NO" sz="2800" spc="-1" strike="noStrike">
                <a:solidFill>
                  <a:srgbClr val="000000"/>
                </a:solidFill>
                <a:latin typeface="Times New Roman"/>
              </a:rPr>
              <a:t>Forskriften gir kommuen ansvar for oppfølging av virksomheter med kjøletår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Økt innsats for å holde oversikt over aktuelle virksomheter med kjøletårn i kommune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Motta melding om status for kjøletår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Vurdere og evt. treffe vedtak etter forskrift om kjøletårn, kommunehelsetjenesteloven og smittevernlove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Gi råd og veiledning til eiere og driftsansvarlige</a:t>
            </a:r>
            <a:br>
              <a:rPr sz="2800"/>
            </a:br>
            <a:r>
              <a:rPr b="0" lang="nb-NO"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Arial"/>
              </a:rPr>
              <a:t>Ny midlertidig forskrift om tiltak for å hindre overføring av Legionella via aerosol (1)</a:t>
            </a:r>
            <a:endParaRPr b="0" lang="en-US" sz="3200" spc="-1" strike="noStrike">
              <a:solidFill>
                <a:srgbClr val="000000"/>
              </a:solidFill>
              <a:latin typeface="Times New Roman"/>
            </a:endParaRPr>
          </a:p>
        </p:txBody>
      </p:sp>
      <p:sp>
        <p:nvSpPr>
          <p:cNvPr id="242"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4000"/>
          </a:bodyPr>
          <a:p>
            <a:pPr marL="32220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Virksomhetsansvarlig skal: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nnen 15.08.2005 kontrollere at driften er tilfredsstillende og i tråd med gjeldende regelverk</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nde skriftlig melding til kommunen om status for innretningen og dens drift, og angi tidspunkt for når mikrobiologisk prøvetaking, rengjøring og desinfeksjon av innretningen sist ble foretat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middelbart innstille driften dersom ikke innretningen er tilfredsstillende tilrettelagt og vedlikehold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elding skal sendes kommunen innen 15.08.2005 </a:t>
            </a:r>
            <a:endParaRPr b="0" lang="en-US" sz="2800" spc="-1" strike="noStrike">
              <a:solidFill>
                <a:srgbClr val="000000"/>
              </a:solidFill>
              <a:latin typeface="Times New Roman"/>
            </a:endParaRPr>
          </a:p>
          <a:p>
            <a:pPr marL="32220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Kriterier for oppvekst</a:t>
            </a: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Optimal temperatur: </a:t>
            </a:r>
            <a:r>
              <a:rPr b="0" lang="nb-NO" sz="2800" spc="-1" strike="noStrike">
                <a:solidFill>
                  <a:srgbClr val="000000"/>
                </a:solidFill>
                <a:latin typeface="Times New Roman"/>
                <a:ea typeface="Times New Roman"/>
              </a:rPr>
              <a:t>20-50ºC</a:t>
            </a:r>
            <a:r>
              <a:rPr b="0" lang="nb-NO" sz="2800" spc="-1" strike="noStrike">
                <a:solidFill>
                  <a:srgbClr val="000000"/>
                </a:solidFill>
                <a:latin typeface="Times New Roman"/>
              </a:rPr>
              <a:t>, men påvist 5</a:t>
            </a:r>
            <a:r>
              <a:rPr b="0" lang="nb-NO" sz="2800" spc="-1" strike="noStrike">
                <a:solidFill>
                  <a:srgbClr val="000000"/>
                </a:solidFill>
                <a:latin typeface="Times New Roman"/>
                <a:ea typeface="Times New Roman"/>
              </a:rPr>
              <a:t>-63ºC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Biofilm/slamdannelse som vokser ved stadig tilførsel av nytt næringsstoff og lav vannhastighe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Porøs overflate, eks. kalkutfellinger og rus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Surt miljø: pH-verdi 6-7</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Viktigste næringsstoffer:                                                        - organisk materiale: cystein fra andre bakterier     - jern: ledningsnett i stål, korrosjonsproduk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Arial"/>
              </a:rPr>
              <a:t>Ny midlertidig forskrift om tiltak for å hindre overføring av Legionella via aerosol (2)</a:t>
            </a:r>
            <a:endParaRPr b="0" lang="en-US" sz="3200" spc="-1" strike="noStrike">
              <a:solidFill>
                <a:srgbClr val="000000"/>
              </a:solidFill>
              <a:latin typeface="Times New Roman"/>
            </a:endParaRPr>
          </a:p>
        </p:txBody>
      </p:sp>
      <p:sp>
        <p:nvSpPr>
          <p:cNvPr id="244"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Kjøleanlegg med kjøletår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Luftskrubbere</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Faste og mobile vaskeanleg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Dusjanleg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Klimaanlegg med luftfuk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Innendørs befuktningsanleg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Innendørs fonten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Industrianlegg som indirekte kan spre legionella, eksempelvis ved at resepientvann blir tilført legionellaholdig avløpsvann </a:t>
            </a:r>
            <a:endParaRPr b="0" lang="en-US" sz="2800" spc="-1" strike="noStrike">
              <a:solidFill>
                <a:srgbClr val="000000"/>
              </a:solidFill>
              <a:latin typeface="Times New Roman"/>
            </a:endParaRPr>
          </a:p>
          <a:p>
            <a:pPr marL="308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Arial"/>
              </a:rPr>
              <a:t>Ny midlertidig forskrift om tiltak for å hindre overføring av Legionella via aerosol (3)</a:t>
            </a:r>
            <a:endParaRPr b="0" lang="en-US" sz="3200" spc="-1" strike="noStrike">
              <a:solidFill>
                <a:srgbClr val="000000"/>
              </a:solidFill>
              <a:latin typeface="Times New Roman"/>
            </a:endParaRPr>
          </a:p>
        </p:txBody>
      </p:sp>
      <p:sp>
        <p:nvSpPr>
          <p:cNvPr id="246"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Kommunens oppga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Motta meldingene fra virksomhetsansvarlige og  holde oversikt over aktuelle innretninger i kommun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Gi råd og veiled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Iverksette nødvendige tiltak, overvåking og kontroll av aktuelle innretning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Times New Roman"/>
              </a:rPr>
              <a:t>Kan gi nødvendige pålegg etter kommunehelsetjeneste-  og smittevernlov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Arial"/>
              </a:rPr>
              <a:t>Unntaksbestemmelser for dusjanlegg m.v.               av 10.08.05</a:t>
            </a:r>
            <a:endParaRPr b="0" lang="en-US" sz="3200" spc="-1" strike="noStrike">
              <a:solidFill>
                <a:srgbClr val="000000"/>
              </a:solidFill>
              <a:latin typeface="Times New Roman"/>
            </a:endParaRPr>
          </a:p>
        </p:txBody>
      </p:sp>
      <p:sp>
        <p:nvSpPr>
          <p:cNvPr id="248"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Dusjanlegg omfattes ikke av plikten til å iverksette strakstiltak ved forskriftens ikrafttredelse og meldeplikt ved oppstart etter §§4 og 5 i den midlertidige forskriften av 12.07.0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ravet om meldeplikt opprettholdes dersom den virksomhetsansvarlige oppdager eller blir kjent med forhold som innebærer risiko for overføring av Legionel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ravet om forsvarlig drift og vedlikehold opprettholdes </a:t>
            </a:r>
            <a:endParaRPr b="0" lang="en-US" sz="2800" spc="-1" strike="noStrike">
              <a:solidFill>
                <a:srgbClr val="000000"/>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ea typeface="Arial"/>
              </a:rPr>
              <a:t>Unntaksbestemmelser for veksthusgartnerier            av 14.09.05</a:t>
            </a:r>
            <a:endParaRPr b="0" lang="en-US" sz="3200" spc="-1" strike="noStrike">
              <a:solidFill>
                <a:srgbClr val="000000"/>
              </a:solidFill>
              <a:latin typeface="Times New Roman"/>
            </a:endParaRPr>
          </a:p>
        </p:txBody>
      </p:sp>
      <p:sp>
        <p:nvSpPr>
          <p:cNvPr id="25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Veksthusgartnerier omfattes ikke av plikten til å iverksette strakstiltak ved forskriftens ikrafttredelse og meldeplikt ved oppstart etter §§4 og 5 i den midlertidige forskriften av 12.07.0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ravet om meldeplikt opprettholdes dersom den virksomhetsansvarlige oppdager eller blir kjent med forhold som innebærer risiko for overføring av Legionel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Kravet om forsvarlig drift og vedlikehold opprettholdes </a:t>
            </a:r>
            <a:endParaRPr b="0" lang="en-US" sz="2800" spc="-1" strike="noStrike">
              <a:solidFill>
                <a:srgbClr val="000000"/>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Det viktigste å si om varmtvannssystemer er:</a:t>
            </a:r>
            <a:endParaRPr b="0" lang="en-US" sz="4400" spc="-1" strike="noStrike">
              <a:solidFill>
                <a:srgbClr val="000000"/>
              </a:solidFill>
              <a:latin typeface="Times New Roman"/>
            </a:endParaRPr>
          </a:p>
        </p:txBody>
      </p:sp>
      <p:sp>
        <p:nvSpPr>
          <p:cNvPr id="252"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rPr>
              <a:t>Holde temperaturen på varmtvannsberederen på minst 65</a:t>
            </a:r>
            <a:r>
              <a:rPr b="0" lang="nb-NO" sz="2800" spc="-1" strike="noStrike">
                <a:solidFill>
                  <a:srgbClr val="000000"/>
                </a:solidFill>
                <a:latin typeface="Times New Roman"/>
                <a:ea typeface="Times New Roman"/>
              </a:rPr>
              <a:t>ºC og temperaturen på ethvert tappepunkt på minst 55º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Sjokkbehandling med varme minst hver 6. måne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Rengjøre dusjhoder og dusjslanger og desinfisere dem med klo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Fjerne alle blindledninger slik at hele systemet er med i sirkulasjone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Gjennomspyling av tappesteder som sjelden er i bruk</a:t>
            </a:r>
            <a:endParaRPr b="0" lang="en-US" sz="2800" spc="-1" strike="noStrike">
              <a:solidFill>
                <a:srgbClr val="000000"/>
              </a:solidFill>
              <a:latin typeface="Times New Roman"/>
            </a:endParaRPr>
          </a:p>
          <a:p>
            <a:pPr marL="32904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Verdana"/>
              </a:rPr>
              <a:t>Smittevern 8: Veileder for forebygging og kontroll av legionellasmitte fra VVS-anlegg</a:t>
            </a:r>
            <a:endParaRPr b="0" lang="en-US" sz="2800" spc="-1" strike="noStrike">
              <a:solidFill>
                <a:srgbClr val="000000"/>
              </a:solidFill>
              <a:latin typeface="Times New Roman"/>
            </a:endParaRPr>
          </a:p>
        </p:txBody>
      </p:sp>
      <p:sp>
        <p:nvSpPr>
          <p:cNvPr id="254" name="PlaceHolder 2"/>
          <p:cNvSpPr>
            <a:spLocks noGrp="1"/>
          </p:cNvSpPr>
          <p:nvPr>
            <p:ph/>
          </p:nvPr>
        </p:nvSpPr>
        <p:spPr>
          <a:xfrm>
            <a:off x="5028840" y="1981080"/>
            <a:ext cx="3809880" cy="4114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rPr>
              <a:t>Retningslinjer for arbeidet med å forebygge og kontrollere legionellose i alle typer VVS-anlegg, først og fremst kjøletårn, interne vannfordelingsnett, boblebad og andre anlegg som kan tenkes å være kilder for spredning av legionellabakterier til mennesker</a:t>
            </a:r>
            <a:endParaRPr b="0" lang="en-US" sz="2400" spc="-1" strike="noStrike">
              <a:solidFill>
                <a:srgbClr val="000000"/>
              </a:solidFill>
              <a:latin typeface="Times New Roman"/>
            </a:endParaRPr>
          </a:p>
          <a:p>
            <a:pPr marL="3394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255" name="26BE3F69DB" descr=""/>
          <p:cNvPicPr/>
          <p:nvPr/>
        </p:nvPicPr>
        <p:blipFill>
          <a:blip r:embed="rId1"/>
          <a:stretch/>
        </p:blipFill>
        <p:spPr>
          <a:xfrm>
            <a:off x="1550880" y="1981080"/>
            <a:ext cx="284004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ea typeface="Times New Roman"/>
              </a:rPr>
              <a:t>Oppsummering</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Tilstrebe en fortløpende, aktiv beredskap overfor legionello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Forberedt på at det i fremtiden vil oppstå stadig nye tilfeller av innenlandssmit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Kartlegging og tilsyn av risikoinstallasjoner fortset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3200" spc="-1" strike="noStrike">
                <a:solidFill>
                  <a:srgbClr val="000000"/>
                </a:solidFill>
                <a:latin typeface="Times New Roman"/>
                <a:ea typeface="Times New Roman"/>
              </a:rPr>
              <a:t>Kommunens tilsyn ovenfor slike installasjoner følger risikobasert tilsynsplan</a:t>
            </a:r>
            <a:endParaRPr b="0" lang="en-US" sz="3200" spc="-1" strike="noStrike">
              <a:solidFill>
                <a:srgbClr val="000000"/>
              </a:solidFill>
              <a:latin typeface="Times New Roman"/>
            </a:endParaRPr>
          </a:p>
          <a:p>
            <a:pPr marL="34308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ea typeface="Times New Roman"/>
              </a:rPr>
              <a:t>Oppsummering</a:t>
            </a:r>
            <a:endParaRPr b="0" lang="en-US" sz="4400" spc="-1" strike="noStrike">
              <a:solidFill>
                <a:srgbClr val="000000"/>
              </a:solidFill>
              <a:latin typeface="Times New Roman"/>
            </a:endParaRPr>
          </a:p>
        </p:txBody>
      </p:sp>
      <p:sp>
        <p:nvSpPr>
          <p:cNvPr id="259"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Et tverrfaglig team egner seg svært godt for raske, målrettede tiltak både i forhold til kartlegging av risikokilder, smitteoppsporing og informasjon til publikum, andre fagmiljøer og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Legionellagruppen også utarbeidet lokale retningslinjer og anbefalinger for å forebygge smittespredning, basert på utkast til veileder for forebygging og kontroll av legionellasmitte fra VVS-anlegg fra Folkehelseinstituttet</a:t>
            </a:r>
            <a:endParaRPr b="0" lang="en-US" sz="2800" spc="-1" strike="noStrike">
              <a:solidFill>
                <a:srgbClr val="000000"/>
              </a:solidFill>
              <a:latin typeface="Times New Roman"/>
            </a:endParaRPr>
          </a:p>
          <a:p>
            <a:pPr marL="34308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4400" spc="-1" strike="noStrike">
                <a:solidFill>
                  <a:srgbClr val="000000"/>
                </a:solidFill>
                <a:latin typeface="Times New Roman"/>
              </a:rPr>
              <a:t>Hvordan spres Legionella?</a:t>
            </a:r>
            <a:endParaRPr b="0" lang="en-US" sz="4400" spc="-1" strike="noStrike">
              <a:solidFill>
                <a:srgbClr val="000000"/>
              </a:solidFill>
              <a:latin typeface="Times New Roman"/>
            </a:endParaRPr>
          </a:p>
        </p:txBody>
      </p:sp>
      <p:sp>
        <p:nvSpPr>
          <p:cNvPr id="53"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2000"/>
          </a:bodyPr>
          <a:p>
            <a:pPr marL="31536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Mikroben overføres ved å puste inn aerosoler (luftbårne små vanndråper) fra infiserte vannsysteme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Kjøletårn og lignende innretninger </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Gassvaskertårn (Scrubbere)</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Varmtvannssysteme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Boblebad</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Befuktere for frukt og grønnsake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Fontener</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Luftfuktere (forstøvere)</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Pustebehandlingsutstyr i sykehus</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Bilvaskemaskiner?</a:t>
            </a:r>
            <a:endParaRPr b="0" lang="en-US" sz="2400" spc="-1" strike="noStrike">
              <a:solidFill>
                <a:srgbClr val="000000"/>
              </a:solidFill>
              <a:latin typeface="Times New Roman"/>
            </a:endParaRPr>
          </a:p>
          <a:p>
            <a:pPr marL="31536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1536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Sykdomsbilde</a:t>
            </a:r>
            <a:endParaRPr b="0" lang="en-US" sz="4400" spc="-1" strike="noStrike">
              <a:solidFill>
                <a:srgbClr val="000000"/>
              </a:solidFill>
              <a:latin typeface="Times New Roman"/>
            </a:endParaRPr>
          </a:p>
        </p:txBody>
      </p:sp>
      <p:sp>
        <p:nvSpPr>
          <p:cNvPr id="55"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Arial"/>
              </a:rPr>
              <a:t>    </a:t>
            </a:r>
            <a:r>
              <a:rPr b="0" lang="en-GB" sz="2800" spc="-1" strike="noStrike">
                <a:solidFill>
                  <a:srgbClr val="000000"/>
                </a:solidFill>
                <a:latin typeface="Times New Roman"/>
                <a:ea typeface="Arial"/>
              </a:rPr>
              <a:t>Legionellose opptrer i to kliniske former:</a:t>
            </a:r>
            <a:endParaRPr b="0" lang="en-US" sz="2800" spc="-1" strike="noStrike">
              <a:solidFill>
                <a:srgbClr val="000000"/>
              </a:solidFill>
              <a:latin typeface="Times New Roman"/>
            </a:endParaRPr>
          </a:p>
          <a:p>
            <a:pPr marL="34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Arial"/>
              </a:rPr>
              <a:t>    </a:t>
            </a:r>
            <a:r>
              <a:rPr b="0" lang="en-GB" sz="2800" spc="-1" strike="noStrike" u="sng">
                <a:solidFill>
                  <a:srgbClr val="000000"/>
                </a:solidFill>
                <a:uFillTx/>
                <a:latin typeface="Times New Roman"/>
                <a:ea typeface="Arial"/>
              </a:rPr>
              <a:t>Pontiacfeber:</a:t>
            </a:r>
            <a:r>
              <a:rPr b="0" lang="en-GB" sz="2800" spc="-1" strike="noStrike">
                <a:solidFill>
                  <a:srgbClr val="000000"/>
                </a:solidFill>
                <a:latin typeface="Times New Roman"/>
                <a:ea typeface="Arial"/>
              </a:rPr>
              <a:t> </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Akutt selvbegrensende influensalignende febersykdom med hodepine, muskelsmerter og tretthet </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Inkubasjonstid fra noen timer til seks dager</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Symptomene varer vanligvis 2-5 dager </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Diagnosen stilles sjelden og forutsetter anamnestiske opplysninger om mulig eksponering for legionellabakterien  </a:t>
            </a:r>
            <a:endParaRPr b="0" lang="en-US" sz="2800" spc="-1" strike="noStrike">
              <a:solidFill>
                <a:srgbClr val="000000"/>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Sykdomsbilde</a:t>
            </a:r>
            <a:endParaRPr b="0" lang="en-US" sz="4400" spc="-1" strike="noStrike">
              <a:solidFill>
                <a:srgbClr val="000000"/>
              </a:solidFill>
              <a:latin typeface="Times New Roman"/>
            </a:endParaRPr>
          </a:p>
        </p:txBody>
      </p:sp>
      <p:sp>
        <p:nvSpPr>
          <p:cNvPr id="57"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marL="34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Arial"/>
              </a:rPr>
              <a:t>    </a:t>
            </a:r>
            <a:r>
              <a:rPr b="0" lang="en-GB" sz="2400" spc="-1" strike="noStrike" u="sng">
                <a:solidFill>
                  <a:srgbClr val="000000"/>
                </a:solidFill>
                <a:uFillTx/>
                <a:latin typeface="Times New Roman"/>
                <a:ea typeface="Arial"/>
              </a:rPr>
              <a:t>Legionærsykdom:</a:t>
            </a:r>
            <a:r>
              <a:rPr b="0" lang="en-GB" sz="2400" spc="-1" strike="noStrike">
                <a:solidFill>
                  <a:srgbClr val="000000"/>
                </a:solidFill>
                <a:latin typeface="Times New Roman"/>
                <a:ea typeface="Arial"/>
              </a:rPr>
              <a:t> </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Inkubasjonstid fra 2 til 10 dag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Kliniske bilder fra milde luftveissymptomer til alvorlig lungebetennelse med multiorgansvik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Initialt kan legionærsykdom gi hodepine, muskelsmerter og slapphet. I løpet av få dager utvikles høy feber, tørrhoste, tungpusthet og andre symptomer på lungebetennel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Magesmerter og diare kan forekom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400" spc="-1" strike="noStrike">
                <a:solidFill>
                  <a:srgbClr val="000000"/>
                </a:solidFill>
                <a:latin typeface="Times New Roman"/>
                <a:ea typeface="Times New Roman"/>
              </a:rPr>
              <a:t>Kan ha et alvorlig forløp med til dels høy dødelighet hos eldre og immunsvekkede (opptil 30 %)</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Forekomst i Norge</a:t>
            </a:r>
            <a:endParaRPr b="0" lang="en-US" sz="4400" spc="-1" strike="noStrike">
              <a:solidFill>
                <a:srgbClr val="000000"/>
              </a:solidFill>
              <a:latin typeface="Times New Roman"/>
            </a:endParaRPr>
          </a:p>
        </p:txBody>
      </p:sp>
      <p:sp>
        <p:nvSpPr>
          <p:cNvPr id="59"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86000"/>
          </a:bodyPr>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Arial"/>
              </a:rPr>
              <a:t>1977-1990 meldt sporadisk til MSIS, under sekkeposten ”annen alvorlig infeksjonssykdom”</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1991-2000: 39 tilfeller meldt, hvorav 8 antatt innenlandssmitte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2001-2004: 116 tilfeller meldt, hvorav 64 antatt innenlandssmitte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1992: første tilfellet hvor pasient smittet i Norge ble diagnostiser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2001: første registrerte utbrudd i Norge: Stavanger med 28 smittet, syv døde</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2005: Utbrudd Østfold med 55 smittet, ti døde</a:t>
            </a:r>
            <a:endParaRPr b="0" lang="en-US" sz="2800" spc="-1" strike="noStrike">
              <a:solidFill>
                <a:srgbClr val="000000"/>
              </a:solidFill>
              <a:latin typeface="Times New Roman"/>
            </a:endParaRPr>
          </a:p>
          <a:p>
            <a:pPr marL="29484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Organiseringen i Trondheim kommune</a:t>
            </a:r>
            <a:endParaRPr b="0" lang="en-US" sz="4400" spc="-1" strike="noStrike">
              <a:solidFill>
                <a:srgbClr val="000000"/>
              </a:solidFill>
              <a:latin typeface="Times New Roman"/>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Opprettet i 2001 en tverrfaglig smitteverngruppe-legionellagruppe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Ledes av smittevernlege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Gruppen skal raskt kunne tre samme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b-NO" sz="2800" spc="-1" strike="noStrike">
                <a:solidFill>
                  <a:srgbClr val="000000"/>
                </a:solidFill>
                <a:latin typeface="Times New Roman"/>
                <a:ea typeface="Times New Roman"/>
              </a:rPr>
              <a:t>Ved hendelser som defineres som kritiske farlige eller katastrofale etter kriterier beskrevet i kommunens beredskapsplan, holdes dessuten kommuneoverlegen og/eller rådmannen fortløpende oppdatert, og ved behov etablerer  Rådmannen en kriseledelse i Rådhuset </a:t>
            </a:r>
            <a:endParaRPr b="0" lang="en-US" sz="2800" spc="-1" strike="noStrike">
              <a:solidFill>
                <a:srgbClr val="000000"/>
              </a:solidFill>
              <a:latin typeface="Times New Roman"/>
            </a:endParaRPr>
          </a:p>
          <a:p>
            <a:pPr marL="3358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3:01:28Z</dcterms:created>
  <dc:creator>JIS</dc:creator>
  <dc:description/>
  <dc:language>en-US</dc:language>
  <cp:lastModifiedBy>IT-bruker</cp:lastModifiedBy>
  <cp:lastPrinted>2003-10-07T13:24:29Z</cp:lastPrinted>
  <dcterms:modified xsi:type="dcterms:W3CDTF">2005-10-20T09:14:20Z</dcterms:modified>
  <cp:revision>142</cp:revision>
  <dc:subject>Mal</dc:subject>
  <dc:title>PP_ligg</dc:title>
</cp:coreProperties>
</file>