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E562-82CF-405F-A94D-5A84BAF6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3DA4-267A-4901-A68F-9363139C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7805-AF12-4FFD-8211-50FC876C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900C-A4A2-4CD5-944E-B48235BE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41FE-630D-44D8-8DF3-3C28E964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00C6-2562-4714-A75A-81F51683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46B8-768B-4FA4-8A43-A833BC48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291A-8F66-4B61-B269-100FDB34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B099-F086-4516-9BCE-67794552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1D6C-6413-4017-9685-E6194A28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6212-E878-41AF-A375-2170082D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1394-515B-4B1D-8F20-DC028DF8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F829-C01A-469B-885B-CF8585176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2667" b="0"/>
          <a:stretch/>
        </p:blipFill>
        <p:spPr>
          <a:xfrm>
            <a:off x="0" y="0"/>
            <a:ext cx="9194760" cy="7086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476280"/>
            <a:ext cx="9144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elkommen til FSTL konfera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ykehuset Telem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6. – 9. juni 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11:24:15Z</dcterms:created>
  <dc:creator>kali</dc:creator>
  <dc:description/>
  <dc:language>en-US</dc:language>
  <cp:lastModifiedBy>kali</cp:lastModifiedBy>
  <dcterms:modified xsi:type="dcterms:W3CDTF">2004-06-04T11:36:34Z</dcterms:modified>
  <cp:revision>2</cp:revision>
  <dc:subject/>
  <dc:title>Lysbilde 1</dc:title>
</cp:coreProperties>
</file>